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6B3-CCC5-44FD-BE82-D724717A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008-90BA-4583-B15A-0BBFB7EC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4B2B6D-E64D-413A-9205-9F694E4F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EFC47F-347C-4DEF-94EB-BF154336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AB500F-37B9-403C-93D1-6B4F26FD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64DFEA-5CBE-49EB-916E-BD2F434E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24BB7F-B18A-4992-ADFD-4002F40A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72D6C-D1F0-4171-B00D-A6E556B1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97763C-C6FA-4ADB-A59F-68FD41D4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22157-5069-4B76-B2E4-80761303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2A58A1-B6C8-4B58-8AC4-E8D25442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A9A54-2B47-4C77-B556-FFB085B3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762-570B-40E0-8F07-E6FBBE64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89EA9-579B-41A3-83D3-95A819D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79432-09A3-4DEB-94B9-D66151C1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0F868-D600-49F6-892C-01E2EBE9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F970C-F589-41D9-8067-02CDA4AD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EB867-F959-4503-9938-0002D6C1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2BE21-D4F7-4CAE-962D-A25DFAC0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6ACDE-2107-4383-966B-D8A974A7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E15C8-8F8C-4729-B494-BAA227D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A5292-6C3B-4E19-B979-ABF0ACC3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E9832-CD90-4833-BCB3-47CCCCA7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BD6-5016-4B69-B597-CC007282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9F0E8-7AFA-46C5-877A-22DA0F2A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AE9776-AF30-466F-8F3E-4022166E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F3FC0F-6CC2-40D8-A982-D195285D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D4EEDB-F594-45E3-B32B-7A30761B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9C105C-990D-49F3-AB6B-1B079E1B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54E8BB-01A7-441A-965F-6D339BC3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560B45-7EB0-4024-B85C-B2F1D211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FAC2B5-390E-4CA4-91BF-A909584D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E1B90B-B514-47D0-AE3C-2BFF11A7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5CDC86-ECA4-462A-ADA2-B685495A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5CF9-240E-4AC7-8EAA-2F5470A0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218CA9-44CB-4502-99ED-039716C8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EE4DFC-9B88-4048-8FAB-687E494F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B8CBB3-A45B-4AB2-88F0-AA99C417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6BD5A7-2C5C-4B4C-BE25-E9CCBD74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1A60D5-5F22-40E8-BEEF-CA8D796A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615BAA-E734-402B-B6E4-F49FEBBF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636AFD-E240-4615-9DFF-7C682C92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8A64F8-186F-4939-925D-0C3A17D5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E4F3E3-1676-41FC-9191-543FC75E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093D56-4008-4094-8DE5-8D911F0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B79C-51FA-49D5-95F2-60F88EAE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5557D0-CEF2-4814-97B5-E7B28A2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5C4DC0-8742-4E5D-A08C-67CBE84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71D03A-1A4D-4E75-8E50-D278CB43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7C8CB8-0BE5-4C07-B51F-23F665DD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027050-ADD6-4AEC-B2FF-AD0171CA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1498C4-03B1-46D3-9DCF-C07DD8E4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954717-2895-489D-9E2A-DEE67616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E26A67-51D3-48C3-86E4-A162B0F6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CE7B81-5A78-4BD0-AAB2-5CA4739C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69140E-A5DF-42E4-8C77-7EE2AA1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26B0-7142-4456-A152-D8A35217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8F5918-E5A7-4725-9AC2-9EFB0453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A6D745-52AC-4259-8FA9-724B0FD9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F5A866-EECC-47DE-B480-F5B72DF4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F14E9-70E0-42FB-A60B-60B43585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77030D-62D9-4A71-8947-EEC3A1FC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0A2BAD-2CC4-4E74-9F2F-939EFC89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83F449-3588-4946-A554-3BCEBA2F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3FD30-544A-4010-9017-A0F9B2F0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6B917-3135-4BF0-BCD5-5339F525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10AE8-9C25-42B7-BA7F-C0A02E6C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ADC2-065C-45AC-B3C3-A33717C8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BAA64-DA39-4437-93AC-E41542CD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61BC9-31DD-4C35-B7F0-FF5C850A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65709-97EA-4064-A0FA-E0654B5B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9AB09-5484-40D4-A39F-3D982197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82BE6-DB3C-449A-B5FE-204FDA03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CFBF2-A545-4ABD-98AD-8631B95A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AE49C-837C-480C-B467-91A71ADC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D6A3C-B1A8-46A1-88D2-69BD48EC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26DE3-4E5E-4D07-93B9-A888960F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0BF760-204C-4169-BB6D-406B1DC2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E506-1B34-4EC9-93E6-CBD1962C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D70166-60DE-4A85-A175-851D699A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5DBC01-6BB0-473C-A1A4-6BD4B086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E90AC1-0280-42F1-9264-FC8A99A7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0E6B80-5E74-4F35-8A9F-CB33A34F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71DED1-5876-4CEB-8990-E7BD07FB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B0B77D-9802-4347-9CE0-17DE15DE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E085C8-147E-4D08-B6B8-25E8EED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FBEEFB-CBA4-469E-8FCA-8AEB6368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3D81E0-885A-4132-B34D-4B293B97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F120B2-7BF4-4664-A357-59533E08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222C-2C91-4F5E-A542-A0666118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845948-D21E-4253-9EF9-5DED4A87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6FCBF7-6814-42DF-805B-A6DF4A37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AED13-B83D-427F-8C33-741F02C9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529413-EBED-439D-BB06-3F33392A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E9482-98F3-4676-BB12-7B72C128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04D47-B29B-4CE1-BB75-ED8C2722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670DA-C0EC-4161-8625-32AE674B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4CADC-B647-4057-B204-4517B82C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F56A8-8BBF-49FF-9839-1C8D4E68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EFB76-EC19-4121-B497-653A0094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73B6-0C56-4ADD-AB9B-36DE05E2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D1DAD-E9E7-4C21-9A1E-0B0068E2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0D774-500E-418E-A187-5954E9B4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A2433-0DA4-4145-BCD2-10E0EF69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537E70-37C3-4DF7-8B3C-C2531B0C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60CA6E-B55C-474D-A905-5E364ABD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6F5C73-6D9B-4FA2-B08F-0BFF2FAF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9EBAA5-4909-4BA1-B13B-9FB44C79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548F71-91E2-4E40-8CF4-A311DEB3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A8501B-5CAC-4380-BE1C-B837640C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F39CE8-262F-40C1-A971-A84F856D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7E5-1369-4E98-B4EC-74AB8A0B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02F9-BC56-48CD-BEAF-8F596297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55F4D8-6EE9-4367-A5B7-B239C14E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E0206D0-0020-43F6-A929-FBE74ADD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BD3A981-4A6F-4BB7-80F1-18AE715F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2E6D40-8EB0-4847-B327-9DFECC43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E5384A-AAF4-4D34-BE6B-D8831E33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42EC8DE-E87D-492C-B12D-86126F71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4C318F-BA32-467B-8398-EE900657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0B6C93-AF1A-46A7-B5B1-F2DDE940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F4E6C5-43BD-479E-802C-D1C621F4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C79FC1-301F-4C43-BD6B-54F3C4E3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2DEB-667E-44C9-BCE9-B0C0B231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BF5792-2C37-4AA7-9065-B1FB842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EABEF77-4AF7-4057-83D5-3B39FB8E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FDF662-942C-4958-BCE7-0B7BFC31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187475-47BA-41C6-941D-CC2BEA2E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3487D75-A835-499E-BD5C-7CAC543C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14E2F57-594E-4145-A3CB-CE8975D4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E80B6F-BF2A-494D-914A-26137727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0EB7F8A-ADC8-49EB-BD9D-39E41C07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0C31480-6573-4E14-8783-E1418980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6AD2F5-DE9C-4F4B-A323-B82E6EA1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B747-35B6-4410-96B6-E68A8E71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7F42D5-D42F-4A03-AC70-09B043EB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D74724-E67A-4FEE-9BBF-F082B93E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95ACD9-41E2-4DE6-BE80-AD0E96FB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E8B228-4FC8-45E6-A58A-3700B65B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68E22D-C199-47AB-A0D5-367BD8C9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8C640A-0D55-4F87-9D3B-E142A30B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B522D7-025A-4CB6-A742-C8E3EA22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CE7912-FB13-4BB3-AEA4-E22012EE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D8997F-0449-47E7-992C-379E377F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8F78-3E6E-4F12-B22B-78DA11FD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5456-0F95-4DA9-AC50-7BE0FA6B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B1FB6-1CFB-48C8-9C35-AB39E336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DBD68-9C9A-4B1E-88EF-A14384FE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84C0C-2DDE-473B-8422-35054EE3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31944-7C21-4554-BADA-7409EDEC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ED38D-FEF9-461D-9F42-3F6C7F5A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2AF-49DA-4ED4-9B2C-9280DD2C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57963-7233-4AF1-91F7-D24E4BD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CCFFE-C7A0-4CE5-9A23-1CBD380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D2AE5-05B0-4799-B34E-CF44239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1F718-4592-4F1C-98DF-284C527E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676B6-DFF2-45CC-94DB-07D88A67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3798E-9204-4894-97B1-53216C71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45E49-EA8F-4F2A-8D9E-D7CD0777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64634-01FC-4B5E-99B4-E901DE93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7C661-22AA-44FF-941A-B4ACB723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B128-497D-4086-B75C-F91B8E86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FA4-F220-44B0-A7C8-9ADEFC54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8A0C2-9A8B-4768-8B19-B08C6D8F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7315-7C8D-4A05-9597-E3493F2D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8C4CC-7EF3-4B0C-8944-C7972E15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9EB88-180B-440B-BF30-A4F2DFF2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C608-E88A-44E6-A22D-D37D0107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B62B4-AEAD-4908-8E0F-51471F39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90E85-9711-415E-BCAB-A4AE57C9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17999-7B5A-4E68-825D-7E1D0367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B7E4-BE50-420D-8171-C6141E95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E0817-C407-4918-A96A-537CDAA1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743-2F01-442D-A8CA-453F0271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08CFA-54E0-484F-AC33-C51D3C71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1F6C8-9D1B-45EB-9C36-37C38E35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02BAC-6149-408C-9F44-4ECD42B5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37A3C-A9E8-4B0E-8845-F1258A93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31718-EEB4-4F64-A872-20483977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A1690-CC6A-4AA5-B74E-B0BD86EC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A3FA7-47DD-415B-B4FE-950320C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E23BE-80F5-4EE4-9AA2-5B789D8B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B2CE3-7280-43FD-8CA8-6888CB15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60086-2462-4767-B651-6B2FD25B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EC6-EB08-4747-B8D1-187057C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49FC9-313A-44EB-A151-7EEE23CF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42872-70FC-4BF7-843A-DAA6FA51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0C6E7-97B8-49FB-A0DE-450904C3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41871-F5EC-4A23-8904-69FF0271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6734F-AFDF-4E66-A091-956CCA2C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4203D-9C5B-4FD5-9937-D00BEEDA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98C9A-E98D-46D3-947C-36CC2B53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6477DA-8242-4790-8D9E-EA3680BC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8C239-ADC6-400A-8BAD-36FC5A74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4288A-1487-4780-AEAE-C945E08A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80C-0308-45FF-9FF2-3CF026A4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29C7E-958E-4C0E-AA29-7219D5A5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90672-5EDC-49A9-9525-B5A21C18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3A0D7-E398-4122-9747-058EAC5E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A7E63-DEFA-4FC4-9073-DAB26D55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459D3-43BE-41D5-8221-24F42670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FBF8C7-C5D0-4B3C-8401-B657E5C8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B5B34-4CF2-4A2F-8C48-F5A98E01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ECDCC-CF21-4309-94FC-CE4CA987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3F723-CE98-4D23-B58B-FA16C896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085FF-F110-4E24-9F01-F56381E1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B1B-354C-445F-BCED-19527141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41587-76F9-4DB1-BA6F-892B9E0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9F2FD-159B-40B0-9FE5-E80603B6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3C5426-5A2E-4148-B8D6-66F3FFE1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BCC1CC-F935-48A1-9677-3AE305AF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9D929-0109-4BE3-AA1A-351DAAC6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D1FD2-CE22-499B-86C3-C194C7CC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1033-B266-4EFB-9D1C-7AA670C6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90F5A-1223-4B0C-8E57-A534C6C8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7988C-ED48-4D18-A0E3-B07A714B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10061-0C05-40E5-A492-8996E7BF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896-ED28-4352-A92F-40532406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1BF9F-245E-43F7-B2DA-347EDA14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24BF4-40AC-4928-8056-05F7F56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F425A-F7A5-4ADC-8C10-19FCAE77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F3CB2-B7BA-4A43-8ADF-A0D2F307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E827E-0FDF-4A13-88FB-D0050E6A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24A85-CAC3-4A61-8929-5BBE3C86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69A32-172C-4FC9-9BF8-6FCB951C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E5380A-351B-4E61-B350-54006E35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47951-E769-4B26-BBCC-0DE06D17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B29BD2-12BE-4C17-834D-76A49ED0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2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808E-3529-4E3A-B28B-5C2F7EB9721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D566-3121-407E-AA0E-E963BAFF7BB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7DDB-D749-478E-B667-59810035931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B97A-B715-4427-A21D-B2B50F6EDE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C9D6-059A-44F6-B17E-0CCB7CDAEF0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2BD0-2E4A-471D-8062-1547651A01A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700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3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FDF4-D2F0-4B42-80A6-3350BB2D79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ftr" idx="45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7B1A-660A-41FF-A738-01EC5E955A2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B747-4FDC-4772-8D7E-DE0D976B1C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5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E500-46E4-45D2-B724-AA21A376D69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ftr" idx="5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A473-4B1D-414B-922F-77A16469554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DD63-E7A4-4B7C-BACB-C4D5858FC43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7738-9223-470A-8E00-0F26D6C7C18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F3D0-6BED-4177-BDA7-CA709166B93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2589-B40A-4015-AF63-BCC58EEF09D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8EE8-3238-40F6-9678-D903E13AF09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0E53-79FC-4C54-8CAD-457572E9565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656C-AE96-4FE6-8751-8FCBA2DE052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404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050F-FED2-4682-AEE5-A09632ABAEE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27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51"/>
          <p:cNvSpPr/>
          <p:nvPr/>
        </p:nvSpPr>
        <p:spPr>
          <a:xfrm>
            <a:off x="971640" y="2276640"/>
            <a:ext cx="789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Redes y Capital So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2"/>
          <p:cNvSpPr/>
          <p:nvPr/>
        </p:nvSpPr>
        <p:spPr>
          <a:xfrm>
            <a:off x="1042920" y="452520"/>
            <a:ext cx="7705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COMPONENTES 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human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pacidad de las personas para producir valor en coordinación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rela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la capacidad de las organizaciones de producir y mantener las redes de colaboración para de producir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ambient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lidad de los contextos sociales disponibles para que los individuos y organizaciones interactúen en función de la producción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direc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alineamiento de las personas y la organización con un propósito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QUE QUEREMOS LOG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soci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Relaciones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Valores de cooperación, reciprocidad, respeto, aceptación, sinceri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EN CHILE (PNU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14% de los chilenos cree que se puede confiar en la mayoría de las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69% de los chilenos cree que una persona se aprovecharía de ellos si tuviera la oport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Índices de Confian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4000" y="3789360"/>
            <a:ext cx="50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arabineros de Chile (5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Televisión(5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Radio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Banco Central y Iglesia Católica (4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Marina y Fach (4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Ejercito (4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113440" y="3429000"/>
            <a:ext cx="377964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licía Investigaciones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Diarios  (3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Senado 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der Judicial (1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ámara Diputados (1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artidos Políticos (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EN CHILE (CER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desconfianza entre los chilenos constituye un poderoso obstáculo a la superación del desarrollo econó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os países desarrollados tienen altos índices de confianza interpersonal. El estudio mundial de valores del 2000 muestra que en Chile solo un 22,2% tenia confianza en los demás. En Suecia era el triple (63,7%), Holanda un 59,7% ; Finlandia un 56,2% ; India 38,9%, EE.UU. 35,5% ; Irlanda 35,3%; España 32,7% e Italia 31,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JUICIOS Y AFIRM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4"/>
          <p:cNvSpPr/>
          <p:nvPr/>
        </p:nvSpPr>
        <p:spPr>
          <a:xfrm>
            <a:off x="755640" y="119700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fir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scriben una observación del mundo (verdaderas o fal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Ju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claraciones basadas en el pasado y hi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Generan 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Son fundados o infu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Fundar ju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ara que lo 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tánd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firm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FACTORES C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4"/>
          <p:cNvSpPr/>
          <p:nvPr/>
        </p:nvSpPr>
        <p:spPr>
          <a:xfrm>
            <a:off x="395280" y="134136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ultivar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onfianza vista como acto lingüístico pertenece al mundo de los jui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fecta el espacio de posi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 temporal (por lo tanto se puede construi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pende del observ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Se restringe a determinados ám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uede ser fundada o infundada. (los juicios se fundan en acciones recurrentes del pasado observables por cualquier observa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Sincer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sincero cuando su conversación privada es coherente con la conversación o discurso público y las acciones emprendidas son coherentes con el, discurs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mpetencia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competente cuando tiene la capacidad o destreza para cumplir con los estándares acordados o acep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Responsabil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responsable cuando tiene la capacidad de cumplir el conjunto de compromisos asumidos en los tiempos establ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684360" y="1413000"/>
          <a:ext cx="8002440" cy="378756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minios de Obser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 de Ju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ncer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et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sponsabi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incer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ompet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rresponsabi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fund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Sin acciones ni estándares de compara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und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con acciones y estándares de compara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1" name="Line 44"/>
          <p:cNvSpPr/>
          <p:nvPr/>
        </p:nvSpPr>
        <p:spPr>
          <a:xfrm>
            <a:off x="684360" y="1484280"/>
            <a:ext cx="266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3780000" y="3043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ge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3780000" y="44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6372360" y="306864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6372360" y="4437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u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IDENT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38"/>
          <p:cNvGrpSpPr/>
          <p:nvPr/>
        </p:nvGrpSpPr>
        <p:grpSpPr>
          <a:xfrm>
            <a:off x="252360" y="1773360"/>
            <a:ext cx="9072360" cy="3740040"/>
            <a:chOff x="252360" y="1773360"/>
            <a:chExt cx="9072360" cy="3740040"/>
          </a:xfrm>
        </p:grpSpPr>
        <p:grpSp>
          <p:nvGrpSpPr>
            <p:cNvPr id="1030" name="Group 39"/>
            <p:cNvGrpSpPr/>
            <p:nvPr/>
          </p:nvGrpSpPr>
          <p:grpSpPr>
            <a:xfrm>
              <a:off x="252360" y="1773360"/>
              <a:ext cx="7200360" cy="3450960"/>
              <a:chOff x="252360" y="1773360"/>
              <a:chExt cx="7200360" cy="3450960"/>
            </a:xfrm>
          </p:grpSpPr>
          <p:grpSp>
            <p:nvGrpSpPr>
              <p:cNvPr id="1031" name="Group 40"/>
              <p:cNvGrpSpPr/>
              <p:nvPr/>
            </p:nvGrpSpPr>
            <p:grpSpPr>
              <a:xfrm>
                <a:off x="1249200" y="1773360"/>
                <a:ext cx="6203520" cy="2232000"/>
                <a:chOff x="1249200" y="1773360"/>
                <a:chExt cx="6203520" cy="2232000"/>
              </a:xfrm>
            </p:grpSpPr>
            <p:sp>
              <p:nvSpPr>
                <p:cNvPr id="1032" name="Oval 41"/>
                <p:cNvSpPr/>
                <p:nvPr/>
              </p:nvSpPr>
              <p:spPr>
                <a:xfrm>
                  <a:off x="3548160" y="1773360"/>
                  <a:ext cx="390456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YO          Image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Oval 42"/>
                <p:cNvSpPr/>
                <p:nvPr/>
              </p:nvSpPr>
              <p:spPr>
                <a:xfrm>
                  <a:off x="1249200" y="1773360"/>
                  <a:ext cx="390492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Identidad 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Line 43"/>
              <p:cNvSpPr/>
              <p:nvPr/>
            </p:nvSpPr>
            <p:spPr>
              <a:xfrm flipH="1">
                <a:off x="1260000" y="3645000"/>
                <a:ext cx="863640" cy="574560"/>
              </a:xfrm>
              <a:prstGeom prst="line">
                <a:avLst/>
              </a:prstGeom>
              <a:ln w="3816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Text Box 44"/>
              <p:cNvSpPr/>
              <p:nvPr/>
            </p:nvSpPr>
            <p:spPr>
              <a:xfrm>
                <a:off x="252360" y="4294080"/>
                <a:ext cx="3240000" cy="9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  <a:ea typeface="Lucida Sans Unicode"/>
                  </a:rPr>
                  <a:t>“</a:t>
                </a: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  <a:ea typeface="Lucida Sans Unicode"/>
                  </a:rPr>
                  <a:t>El relato que yo cuento acerca de mi mismo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Text Box 45"/>
            <p:cNvSpPr/>
            <p:nvPr/>
          </p:nvSpPr>
          <p:spPr>
            <a:xfrm>
              <a:off x="6084720" y="4306680"/>
              <a:ext cx="324000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  <a:ea typeface="Lucida Sans Unicode"/>
                </a:rPr>
                <a:t>“</a:t>
              </a: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  <a:ea typeface="Lucida Sans Unicode"/>
                </a:rPr>
                <a:t>El relato que los otros cuentan de mí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46"/>
            <p:cNvSpPr/>
            <p:nvPr/>
          </p:nvSpPr>
          <p:spPr>
            <a:xfrm>
              <a:off x="6804000" y="3489120"/>
              <a:ext cx="934920" cy="6480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ALGUN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3"/>
          <p:cNvSpPr/>
          <p:nvPr/>
        </p:nvSpPr>
        <p:spPr>
          <a:xfrm>
            <a:off x="468360" y="148428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72% de los chilenos encuentra trabajo a través de redes de contacto. (Entrepeneur Consult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80% de los chilenos encuentra trabajo a través de redes de contacto. (D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 eficacia del negocio en general, depende más de actividades de “carácter humano” como la construcción de relaciones, las habilidades interpersonales y la comunicación que de habilidades y capacidades técnicas.” (Networking Intelig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QUÉ SON LAS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Son todas las relaciones que un individuo percibe como significativas o diferenciadas de la masa anónima de la socieda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Las personas que componen una RED tienen nombre y apellido, no son instituciones, ni agrup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Contactos secundar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¿Como identifico mi 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MAPA DE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14"/>
          <p:cNvSpPr/>
          <p:nvPr/>
        </p:nvSpPr>
        <p:spPr>
          <a:xfrm>
            <a:off x="1547640" y="1690560"/>
            <a:ext cx="5715000" cy="41148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5"/>
          <p:cNvSpPr/>
          <p:nvPr/>
        </p:nvSpPr>
        <p:spPr>
          <a:xfrm>
            <a:off x="2362320" y="2422440"/>
            <a:ext cx="4038480" cy="259092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6"/>
          <p:cNvSpPr/>
          <p:nvPr/>
        </p:nvSpPr>
        <p:spPr>
          <a:xfrm>
            <a:off x="3200400" y="3078000"/>
            <a:ext cx="2438280" cy="11430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7"/>
          <p:cNvSpPr/>
          <p:nvPr/>
        </p:nvSpPr>
        <p:spPr>
          <a:xfrm>
            <a:off x="4427640" y="1197000"/>
            <a:ext cx="7920" cy="51512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8"/>
          <p:cNvSpPr/>
          <p:nvPr/>
        </p:nvSpPr>
        <p:spPr>
          <a:xfrm>
            <a:off x="762120" y="3716280"/>
            <a:ext cx="746748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9"/>
          <p:cNvSpPr/>
          <p:nvPr/>
        </p:nvSpPr>
        <p:spPr>
          <a:xfrm>
            <a:off x="457200" y="12787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A: FAMILI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0"/>
          <p:cNvSpPr/>
          <p:nvPr/>
        </p:nvSpPr>
        <p:spPr>
          <a:xfrm>
            <a:off x="6715080" y="128520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B: AMI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1"/>
          <p:cNvSpPr/>
          <p:nvPr/>
        </p:nvSpPr>
        <p:spPr>
          <a:xfrm>
            <a:off x="108000" y="458136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C: COMUNIDAD (Vecinos, Organizaciones So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3"/>
          <p:cNvSpPr/>
          <p:nvPr/>
        </p:nvSpPr>
        <p:spPr>
          <a:xfrm>
            <a:off x="6948360" y="450792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D: TRABAJO O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WordArt 24"/>
          <p:cNvSpPr txBox="1"/>
          <p:nvPr/>
        </p:nvSpPr>
        <p:spPr>
          <a:xfrm>
            <a:off x="3348000" y="3500280"/>
            <a:ext cx="205740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INTIMIDAD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66" name="WordArt 25"/>
          <p:cNvSpPr txBox="1"/>
          <p:nvPr/>
        </p:nvSpPr>
        <p:spPr>
          <a:xfrm>
            <a:off x="2916360" y="4149720"/>
            <a:ext cx="320040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SOCI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67" name="WordArt 26"/>
          <p:cNvSpPr txBox="1"/>
          <p:nvPr/>
        </p:nvSpPr>
        <p:spPr>
          <a:xfrm>
            <a:off x="2700360" y="4581360"/>
            <a:ext cx="352728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INSTRUMENT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68" name="WordArt 27"/>
          <p:cNvSpPr txBox="1"/>
          <p:nvPr/>
        </p:nvSpPr>
        <p:spPr>
          <a:xfrm>
            <a:off x="3419640" y="5877000"/>
            <a:ext cx="20574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"CONTACTOS"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PORQUE SON IMPOR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3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ecesidad humana fundamental (sentido de pertenencia, seres soc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os permiten informarnos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ra encontrar trabajo (72%- Entrepeneur; 80%- D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oder de las conversa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Globalización (aislado es difícil, relaciones internaciona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BARR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 - juicios y caracterizaciones poco fundamentadas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eneficios difíciles de c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OMO GESTIONAR MI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signarl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ceptación y expecta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mpliar círculo (poder de la diversidad, pu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provechando el potencial: contactos 2do 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Generando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versaciones “poderosas”: 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187280" y="3141720"/>
            <a:ext cx="7490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Trebuchet MS"/>
              </a:rPr>
              <a:t>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1f497d"/>
                </a:solidFill>
                <a:latin typeface="Trebuchet MS"/>
              </a:rPr>
              <a:t>DEFIN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acidad de un sistema social para producir valor a través de sus relaciones de confianza, cooperación y reciprocida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alidad de las relaciones entre las personas determina centralmente la eficacia, la eficiencia, la capacidad de evolucionar y el bienestar de toda organización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Familia Donoso</cp:lastModifiedBy>
  <cp:lastPrinted>2004-06-01T23:06:04Z</cp:lastPrinted>
  <dcterms:modified xsi:type="dcterms:W3CDTF">2008-08-29T03:57:26Z</dcterms:modified>
  <cp:revision>459</cp:revision>
  <dc:subject/>
  <dc:title>Presentación de PowerPoint</dc:title>
</cp:coreProperties>
</file>