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DE2-27A2-44B6-945E-6706A300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DDE-4716-4557-924A-A0433BD7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561-C3F9-43FE-9F55-F614DE36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6D1-03D5-42FF-8037-E435D4D8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95A-3C2A-4798-B8E2-86E9A23F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8D9-775C-41EE-ADA4-8187175E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444-89E3-4CDE-B2CC-D088C3C3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BF0-3CB8-4DC7-B0E6-A15F1BBA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6D8-6079-4C53-880B-6B796A42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378-B18F-4C55-9768-F47D76CD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D77-6EF5-4BD7-BD00-B82E0C42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D3A-D03C-41EA-A55A-F225C59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E3A7-73CC-48B5-9F24-69E5D288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APACITACIÓN 2  Quie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5640" y="249228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4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8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5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9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conocer nuestros estados de a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icar que posibilidades me abren y me cier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servar como me afect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rles espacio y aceptarlos (comprenderlo aunque nos e compar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87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91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EAA = Disposiciones corporales para la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s de animo de apertura a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enidad, aceptación, esperanza, maravillamiento, prudencia, entusiasmo, agrad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s de animo “negativ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confianza, resentimiento, escepticismo, agobio, arrogancia, aburrimient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JUICIOS O AFIRM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604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Hace calor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Mi hijo mide 1 metro 20 cms.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Tu camisa es verde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café está mal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sta sala es grande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res simpátic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eí el libro Danza del Cambi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mí un exquisito plato de tallar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Juan es desordenad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¡Piensa Positivo!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chocolate hace engordar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JU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claraciones basadas en el pasado /historia (se construy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Que generan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n fundadas o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 hago responsable de fundar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FUNDAR JU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8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2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70028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uicio : “ somos un servicio de cali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a que lo digo: para postular a premi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ándares:  otros servicios de la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minio: atención expedita a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irmaciones: 10 minutos de espera en fila, los demás servicios de la región se demoran 20 minutos pro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90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4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rupción en el fluir de l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Juicio de que algo que está ocurriendo (o no está ocurriendo) y eso altera el curso esperado de los acontec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  = 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Los problemas habitan en el juicio del observador (NO EXISTEN POR SI MISMOS !!!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24360" y="549360"/>
            <a:ext cx="216000" cy="431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QUIEB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6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30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34136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o que para uno es una oportunidad para otro es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1280" y="2781360"/>
            <a:ext cx="8281800" cy="2521440"/>
            <a:chOff x="611280" y="2781360"/>
            <a:chExt cx="8281800" cy="2521440"/>
          </a:xfrm>
        </p:grpSpPr>
        <p:grpSp>
          <p:nvGrpSpPr>
            <p:cNvPr id="136" name=""/>
            <p:cNvGrpSpPr/>
            <p:nvPr/>
          </p:nvGrpSpPr>
          <p:grpSpPr>
            <a:xfrm>
              <a:off x="611280" y="2781360"/>
              <a:ext cx="8281800" cy="2521440"/>
              <a:chOff x="611280" y="2781360"/>
              <a:chExt cx="8281800" cy="2521440"/>
            </a:xfrm>
          </p:grpSpPr>
          <p:sp>
            <p:nvSpPr>
              <p:cNvPr id="137" name=""/>
              <p:cNvSpPr/>
              <p:nvPr/>
            </p:nvSpPr>
            <p:spPr>
              <a:xfrm>
                <a:off x="611280" y="3646440"/>
                <a:ext cx="180000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47520">
                <a:solidFill>
                  <a:srgbClr val="3333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Quieb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3995640" y="2781360"/>
                <a:ext cx="1871640" cy="720720"/>
                <a:chOff x="3995640" y="2781360"/>
                <a:chExt cx="1871640" cy="720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995640" y="2781360"/>
                  <a:ext cx="1871640" cy="72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47520">
                  <a:solidFill>
                    <a:srgbClr val="33339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82920" y="2781360"/>
                  <a:ext cx="13683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</a:rPr>
                    <a:t>Emoción Positiv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067280" y="4581360"/>
                <a:ext cx="1800000" cy="721440"/>
                <a:chOff x="4067280" y="4581360"/>
                <a:chExt cx="1800000" cy="721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067280" y="4581360"/>
                  <a:ext cx="1800000" cy="72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47520">
                  <a:solidFill>
                    <a:srgbClr val="33339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82920" y="4599000"/>
                  <a:ext cx="13680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</a:rPr>
                    <a:t>Emoción Negativ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2556000" y="371772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059280" y="3213000"/>
                <a:ext cx="720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4365720"/>
                <a:ext cx="79200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56360" y="2854440"/>
                <a:ext cx="2736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= Oportunida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156360" y="465444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 Proble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RED DE COMPROMI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52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6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A partir de los quiebres se deve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a red de compromi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mesas sin cumplir y Compromisos a renego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a red de 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edidos que debemos re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os juicios auto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rtefactos que se pueden hacer cargo del quie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novaciones (Ej: Walkman, Dolpi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8-18T16:18:42Z</dcterms:modified>
  <cp:revision>432</cp:revision>
  <dc:subject/>
  <dc:title>Presentación de PowerPoint</dc:title>
</cp:coreProperties>
</file>