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CC9-1AF1-4E2A-950F-8F4A63A3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5F0-0F70-4EB5-BBE7-E01B4AC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BE0-9FEB-4EE7-990E-4CD25308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675-A4EC-4E7A-9B5F-6866A20D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25E-E65A-4F19-9895-FBEF150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0E9-F25B-4C76-B1E1-3DF8E4E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900-4932-4118-B050-84D8680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6CB-C611-40CB-AA43-23E6035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BFB-99E6-4DA7-8E0C-B45B743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A5B-DF26-41CA-9C63-B6435B1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003-C75B-45DE-86D0-320A998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50A-6039-4575-8F34-C619296C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D23D-6F6E-42A5-B19B-69CC3EB4F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APACITACIÓN 2  Quie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249228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5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9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87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91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EAA = Disposiciones corporales para la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 O AFIRM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60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Hace calo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i hijo mide 1 metro 20 cms.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Tu camisa es ver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afé está mal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sta sala es gran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res simpátic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eí el libro Danza del Cambi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mí un exquisito plato de talla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Juan es desordenad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¡Piensa Positivo!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hocolate hace engorda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claraciones basadas en el pasado /historia (se construy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ue generan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n fundadas o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 hago responsable de fund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FUNDAR 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8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2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70028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uicio : “ somos un servicio de cali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a que lo digo: para postular a premi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ándares:  otros servicios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minio: atención expedita a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irmaciones: 10 minutos de espera en fila, los demás servicios de la región se demoran 20 minutos pro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0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4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rupción en el fluir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  =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Los problemas habitan en el juicio del observador (NO EXISTEN POR SI MISMOS !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24360" y="549360"/>
            <a:ext cx="216000" cy="431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QUIEB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34136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o que para uno es una oportunidad para otro es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2781360"/>
            <a:ext cx="8281800" cy="2521440"/>
            <a:chOff x="611280" y="2781360"/>
            <a:chExt cx="8281800" cy="2521440"/>
          </a:xfrm>
        </p:grpSpPr>
        <p:grpSp>
          <p:nvGrpSpPr>
            <p:cNvPr id="136" name=""/>
            <p:cNvGrpSpPr/>
            <p:nvPr/>
          </p:nvGrpSpPr>
          <p:grpSpPr>
            <a:xfrm>
              <a:off x="611280" y="2781360"/>
              <a:ext cx="8281800" cy="2521440"/>
              <a:chOff x="611280" y="2781360"/>
              <a:chExt cx="8281800" cy="2521440"/>
            </a:xfrm>
          </p:grpSpPr>
          <p:sp>
            <p:nvSpPr>
              <p:cNvPr id="137" name=""/>
              <p:cNvSpPr/>
              <p:nvPr/>
            </p:nvSpPr>
            <p:spPr>
              <a:xfrm>
                <a:off x="611280" y="3646440"/>
                <a:ext cx="18000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47520">
                <a:solidFill>
                  <a:srgbClr val="3333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Quieb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3995640" y="2781360"/>
                <a:ext cx="1871640" cy="720720"/>
                <a:chOff x="3995640" y="2781360"/>
                <a:chExt cx="1871640" cy="720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95640" y="2781360"/>
                  <a:ext cx="187164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82920" y="2781360"/>
                  <a:ext cx="1368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Posi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67280" y="4581360"/>
                <a:ext cx="1800000" cy="721440"/>
                <a:chOff x="4067280" y="4581360"/>
                <a:chExt cx="1800000" cy="721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4581360"/>
                  <a:ext cx="180000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82920" y="4599000"/>
                  <a:ext cx="1368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Nega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556000" y="3717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59280" y="3213000"/>
                <a:ext cx="720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4365720"/>
                <a:ext cx="79200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56360" y="2854440"/>
                <a:ext cx="2736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= Oportunida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156360" y="465444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 Proble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RED DE COMPROMI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2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6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 partir de los quiebres se deve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compromi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mesas sin cumplir y Compromisos a renego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didos que debemos re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rtefactos que se pueden hacer cargo del quie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novaciones (Ej: Walkman, Dolp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18T16:18:42Z</dcterms:modified>
  <cp:revision>432</cp:revision>
  <dc:subject/>
  <dc:title>Presentación de PowerPoint</dc:title>
</cp:coreProperties>
</file>