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866-B921-4E66-A520-CD1EB31A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6F7-990D-413A-84D4-1754E8C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B8C-A04E-4A16-8462-6190256B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241-A6F3-4D3C-9DE2-9CBB033C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A7A-69EF-4935-882B-CC4E23E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6D7-8240-4350-A68E-CB0B200A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4B9-24AD-4936-870B-E4494D9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D8C-592F-47C2-9413-0B31E4B8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012-3EF3-464B-8F4A-A483211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D4F-FB47-4462-9DD9-C6E1A25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BD2-7481-4000-A577-40E70D3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7D6-A571-4605-89AF-E4D2C4F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ADF7-F4AC-4B40-B4DF-B3238411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APACITACIÓN 2  Quie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249228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5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9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87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91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EAA = Disposiciones corporales para la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 O AFIRM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60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Hace calo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i hijo mide 1 metro 20 cms.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Tu camisa es ver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afé está mal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a sala es gran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res simpátic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eí el libro Danza del Cambi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mí un exquisito plato de talla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Juan es desordenad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¡Piensa Positivo!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hocolate hace engorda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claraciones basadas en el pasado /historia (se construy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ue generan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n fundadas 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 hago responsable de fund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FUNDAR 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8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2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700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icio : “ somos un servicio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a que lo digo: para postular a premi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ándares:  otros servicios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inio: atención expedita a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irmaciones: 10 minutos de espera en fila, los demás servicios de la región se demoran 20 minutos pro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0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4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rupción en el fluir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  =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Los problemas habitan en el juicio del observador (NO EXISTEN POR SI MISMOS !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360" y="549360"/>
            <a:ext cx="216000" cy="43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QUIE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o que para uno es una oportunidad para otro es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2781360"/>
            <a:ext cx="8281800" cy="2521440"/>
            <a:chOff x="611280" y="2781360"/>
            <a:chExt cx="8281800" cy="2521440"/>
          </a:xfrm>
        </p:grpSpPr>
        <p:grpSp>
          <p:nvGrpSpPr>
            <p:cNvPr id="136" name=""/>
            <p:cNvGrpSpPr/>
            <p:nvPr/>
          </p:nvGrpSpPr>
          <p:grpSpPr>
            <a:xfrm>
              <a:off x="611280" y="2781360"/>
              <a:ext cx="8281800" cy="2521440"/>
              <a:chOff x="611280" y="2781360"/>
              <a:chExt cx="8281800" cy="2521440"/>
            </a:xfrm>
          </p:grpSpPr>
          <p:sp>
            <p:nvSpPr>
              <p:cNvPr id="137" name=""/>
              <p:cNvSpPr/>
              <p:nvPr/>
            </p:nvSpPr>
            <p:spPr>
              <a:xfrm>
                <a:off x="611280" y="3646440"/>
                <a:ext cx="18000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47520">
                <a:solidFill>
                  <a:srgbClr val="3333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Quieb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3995640" y="2781360"/>
                <a:ext cx="1871640" cy="720720"/>
                <a:chOff x="3995640" y="2781360"/>
                <a:chExt cx="1871640" cy="720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95640" y="2781360"/>
                  <a:ext cx="187164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82920" y="2781360"/>
                  <a:ext cx="1368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Posi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67280" y="4581360"/>
                <a:ext cx="1800000" cy="721440"/>
                <a:chOff x="4067280" y="4581360"/>
                <a:chExt cx="1800000" cy="721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4581360"/>
                  <a:ext cx="180000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82920" y="4599000"/>
                  <a:ext cx="1368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Nega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556000" y="3717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59280" y="3213000"/>
                <a:ext cx="720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4365720"/>
                <a:ext cx="792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56360" y="2854440"/>
                <a:ext cx="2736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= Oportunida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156360" y="465444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 Probl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RED DE COMPROMI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2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6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 partir de los quiebres se deve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comprom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mesas sin cumplir y Compromisos a renego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didos que debemos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rtefactos que se pueden hacer cargo del quie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novaciones (Ej: Walkman, Dolp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18T16:18:42Z</dcterms:modified>
  <cp:revision>432</cp:revision>
  <dc:subject/>
  <dc:title>Presentación de PowerPoint</dc:title>
</cp:coreProperties>
</file>