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001-7765-45D2-9D02-06ACF4A40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36C5-D11F-4B02-99EE-596FB187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5EEF-EBAD-49FE-AF5C-F852B29E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C52-6CD3-45F9-93BF-232EEDC0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4644-999B-44A2-9B19-0D73D34B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1335-595C-4B74-958B-A0516970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5690-4ADE-418F-BE75-E9087B37E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F2A1-87CA-4B05-82C0-8048BAFC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481-9A1A-43CC-9725-9E786E49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8A31-010E-4120-8954-6BA10F4C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012-501E-4CB5-8307-D769072F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1BAE-01E7-4A34-855C-4336CDAF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2B0C-244F-45FC-B523-7B77AD0D0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653000"/>
            <a:ext cx="3024360" cy="177624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179280" y="189000"/>
            <a:ext cx="1150920" cy="1006560"/>
            <a:chOff x="179280" y="189000"/>
            <a:chExt cx="1150920" cy="1006560"/>
          </a:xfrm>
        </p:grpSpPr>
        <p:sp>
          <p:nvSpPr>
            <p:cNvPr id="43" name=""/>
            <p:cNvSpPr/>
            <p:nvPr/>
          </p:nvSpPr>
          <p:spPr>
            <a:xfrm>
              <a:off x="82692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9280" y="18900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9280" y="7635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7740720" y="5589720"/>
            <a:ext cx="1152360" cy="1008000"/>
            <a:chOff x="7740720" y="5589720"/>
            <a:chExt cx="1152360" cy="1008000"/>
          </a:xfrm>
        </p:grpSpPr>
        <p:sp>
          <p:nvSpPr>
            <p:cNvPr id="47" name=""/>
            <p:cNvSpPr/>
            <p:nvPr/>
          </p:nvSpPr>
          <p:spPr>
            <a:xfrm>
              <a:off x="774072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388360" y="616572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89800" y="55897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1692360" y="2276640"/>
            <a:ext cx="7173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APACITACIÓN 2  Quieb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55640" y="249228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STADOS DE ANI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64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68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STADOS DE A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75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79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 nece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conocer nuestros estados de an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dentificar que posibilidades me abren y me cier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bservar como me afecta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rles espacio y aceptarlos (comprenderlo aunque nos e compar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ESTADOS DE ANI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87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91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EAA = Disposiciones corporales para la a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dos de animo de apertura a aprendizaj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renidad, aceptación, esperanza, maravillamiento, prudencia, entusiasmo, agrade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ados de animo “negativ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sconfianza, resentimiento, escepticismo, agobio, arrogancia, aburrimiento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JUICIOS O AFIRMA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54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58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484280"/>
            <a:ext cx="604836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Hace calor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Mi hijo mide 1 metro 20 cms.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Tu camisa es verde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l café está mal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sta sala es grande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res simpátic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Leí el libro Danza del Cambi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Comí un exquisito plato de tallar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Juan es desordenado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¡Piensa Positivo!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El chocolate hace engordar</a:t>
            </a: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JUI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66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70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claraciones basadas en el pasado /historia (se construy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Que generan fut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on fundadas o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 hago responsable de fundar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FUNDAR JUICI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78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82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640" y="1700280"/>
            <a:ext cx="8353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uicio : “ somos un servicio de calid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ara que lo digo: para postular a premio de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stándares:  otros servicios de la reg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ominio: atención expedita al usu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firmaciones: 10 minutos de espera en fila, los demás servicios de la región se demoran 20 minutos prome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87280" y="3141720"/>
            <a:ext cx="749016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IEB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90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94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IEB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01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05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terrupción en el fluir de la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Juicio de que algo que está ocurriendo (o no está ocurriendo) y eso altera el curso esperado de los acontecimie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</a:rPr>
              <a:t>QUIEBRE  = PROBL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13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17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26920" y="1700280"/>
            <a:ext cx="7561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rebuchet MS"/>
              </a:rPr>
              <a:t>Los problemas habitan en el juicio del observador (NO EXISTEN POR SI MISMOS !!!!!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724360" y="549360"/>
            <a:ext cx="216000" cy="4316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rebuchet MS"/>
              </a:rPr>
              <a:t>QUIEB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25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26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30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1341360"/>
            <a:ext cx="8675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Lo que para uno es una oportunidad para otro es un 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11280" y="2781360"/>
            <a:ext cx="8281800" cy="2521440"/>
            <a:chOff x="611280" y="2781360"/>
            <a:chExt cx="8281800" cy="2521440"/>
          </a:xfrm>
        </p:grpSpPr>
        <p:grpSp>
          <p:nvGrpSpPr>
            <p:cNvPr id="136" name=""/>
            <p:cNvGrpSpPr/>
            <p:nvPr/>
          </p:nvGrpSpPr>
          <p:grpSpPr>
            <a:xfrm>
              <a:off x="611280" y="2781360"/>
              <a:ext cx="8281800" cy="2521440"/>
              <a:chOff x="611280" y="2781360"/>
              <a:chExt cx="8281800" cy="2521440"/>
            </a:xfrm>
          </p:grpSpPr>
          <p:sp>
            <p:nvSpPr>
              <p:cNvPr id="137" name=""/>
              <p:cNvSpPr/>
              <p:nvPr/>
            </p:nvSpPr>
            <p:spPr>
              <a:xfrm>
                <a:off x="611280" y="3646440"/>
                <a:ext cx="1800000" cy="7207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47520">
                <a:solidFill>
                  <a:srgbClr val="333399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rebuchet MS"/>
                  </a:rPr>
                  <a:t>Quiebr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3995640" y="2781360"/>
                <a:ext cx="1871640" cy="720720"/>
                <a:chOff x="3995640" y="2781360"/>
                <a:chExt cx="1871640" cy="7207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995640" y="2781360"/>
                  <a:ext cx="1871640" cy="72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47520">
                  <a:solidFill>
                    <a:srgbClr val="333399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282920" y="2781360"/>
                  <a:ext cx="136836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</a:rPr>
                    <a:t>Emoción Positiv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067280" y="4581360"/>
                <a:ext cx="1800000" cy="721440"/>
                <a:chOff x="4067280" y="4581360"/>
                <a:chExt cx="1800000" cy="7214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067280" y="4581360"/>
                  <a:ext cx="1800000" cy="7207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ffff"/>
                </a:solidFill>
                <a:ln w="47520">
                  <a:solidFill>
                    <a:srgbClr val="333399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82920" y="4599000"/>
                  <a:ext cx="136800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rebuchet MS"/>
                    </a:rPr>
                    <a:t>Emoción Negativ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" name=""/>
              <p:cNvSpPr/>
              <p:nvPr/>
            </p:nvSpPr>
            <p:spPr>
              <a:xfrm>
                <a:off x="2556000" y="3717720"/>
                <a:ext cx="43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V="1">
                <a:off x="3059280" y="3213000"/>
                <a:ext cx="72072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59280" y="4365720"/>
                <a:ext cx="792000" cy="5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156360" y="2854440"/>
                <a:ext cx="2736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rebuchet MS"/>
                  </a:rPr>
                  <a:t>= Oportunida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6156360" y="4654440"/>
              <a:ext cx="23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rebuchet MS"/>
                </a:rPr>
                <a:t>= Problem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58920" y="452520"/>
            <a:ext cx="7489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r">
              <a:lnSpc>
                <a:spcPts val="4000"/>
              </a:lnSpc>
              <a:spcBef>
                <a:spcPts val="5000"/>
              </a:spcBef>
              <a:spcAft>
                <a:spcPts val="50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rebuchet MS"/>
              </a:rPr>
              <a:t>RED DE COMPROMIS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79280" y="5589720"/>
            <a:ext cx="1656000" cy="9745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108000" y="115920"/>
            <a:ext cx="1150920" cy="1006560"/>
            <a:chOff x="108000" y="115920"/>
            <a:chExt cx="1150920" cy="1006560"/>
          </a:xfrm>
        </p:grpSpPr>
        <p:sp>
          <p:nvSpPr>
            <p:cNvPr id="152" name=""/>
            <p:cNvSpPr/>
            <p:nvPr/>
          </p:nvSpPr>
          <p:spPr>
            <a:xfrm>
              <a:off x="75564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8000" y="11592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8000" y="69048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7883640" y="5805360"/>
            <a:ext cx="1152360" cy="1008000"/>
            <a:chOff x="7883640" y="5805360"/>
            <a:chExt cx="1152360" cy="1008000"/>
          </a:xfrm>
        </p:grpSpPr>
        <p:sp>
          <p:nvSpPr>
            <p:cNvPr id="156" name=""/>
            <p:cNvSpPr/>
            <p:nvPr/>
          </p:nvSpPr>
          <p:spPr>
            <a:xfrm>
              <a:off x="788364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531280" y="6381360"/>
              <a:ext cx="503280" cy="4320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00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532720" y="5805360"/>
              <a:ext cx="503280" cy="43164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08080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828720" y="1125360"/>
            <a:ext cx="806436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1413000"/>
            <a:ext cx="8424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A partir de los quiebres se devel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Nuestra red de compromi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romesas sin cumplir y Compromisos a renegoc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Nuestra red de ay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Pedidos que debemos real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Nuestros juicios autom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</a:rPr>
              <a:t>Artefactos que se pueden hacer cargo del quie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Innovaciones (Ej: Walkman, Dolpi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22:56:56Z</dcterms:created>
  <dc:creator>Francisco J. Astudillo A.</dc:creator>
  <dc:description/>
  <dc:language>en-US</dc:language>
  <cp:lastModifiedBy>Solsire</cp:lastModifiedBy>
  <cp:lastPrinted>2004-06-01T23:06:04Z</cp:lastPrinted>
  <dcterms:modified xsi:type="dcterms:W3CDTF">2008-08-18T16:18:42Z</dcterms:modified>
  <cp:revision>432</cp:revision>
  <dc:subject/>
  <dc:title>Presentación de PowerPoint</dc:title>
</cp:coreProperties>
</file>