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9C9B-6FDA-47DD-8E4D-2B36518D1F27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1899-A9F4-49BD-B0D6-E0BBF4BB590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0B99-AB9E-4BB1-BEBE-9B596E4E304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3B77-92FD-4639-953E-699ADADC1E4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CA4F-F3F8-4AF3-93A6-3E7C9BF934A7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58D5-D9B1-4F6F-8737-66BE20CB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931-D63A-421D-A4F5-F6871A67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32B4-B7F8-4A4A-B0E1-F35CFCDF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7DD1-A857-426F-BFF8-138397CB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2366-9D94-4280-BDC7-998AD816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438F-8D89-4DBB-941D-6E1C843F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D2C1-322C-44A7-9C18-5133C60D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1519-3BEE-442D-B37C-DA482EC5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006A-B8C4-4144-A158-EFA4541C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4EF0-530F-46D9-82D9-A10589B7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3FAA-A70E-497F-8530-AE8CD08F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1602-98C6-4B1E-9AF7-98D2CAB6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9759-2BC3-4A1F-9705-2E65A3E8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236B-EF42-46DD-976B-D764D3CA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27C3-5D56-426E-A830-A7AC1CEC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9F33-27C6-4E71-B805-BC327358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ED63-664E-4661-9A58-E99DD15B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9F3A-5248-470C-B84C-3E21BC3A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C721-2541-4494-BB54-984F21AF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6CDE-8AAD-4605-83E0-FFA7A94F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7DB4-0033-4134-85BF-1639CE77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209-3726-4124-9E79-4CF6461E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155C-1AB5-4BDE-BA8A-C5989764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1BC5-BA74-4E73-A6B0-57C3BAF9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3E82-F4DA-414C-9339-B425EB377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logo_CMS_color"/>
          <p:cNvPicPr/>
          <p:nvPr/>
        </p:nvPicPr>
        <p:blipFill>
          <a:blip r:embed="rId2"/>
          <a:stretch/>
        </p:blipFill>
        <p:spPr>
          <a:xfrm>
            <a:off x="71280" y="214200"/>
            <a:ext cx="1857600" cy="1094040"/>
          </a:xfrm>
          <a:prstGeom prst="rect">
            <a:avLst/>
          </a:prstGeom>
          <a:ln w="0">
            <a:noFill/>
          </a:ln>
        </p:spPr>
      </p:pic>
      <p:sp>
        <p:nvSpPr>
          <p:cNvPr id="42" name="7 Conector recto"/>
          <p:cNvSpPr/>
          <p:nvPr/>
        </p:nvSpPr>
        <p:spPr>
          <a:xfrm>
            <a:off x="2000160" y="1285920"/>
            <a:ext cx="6715080" cy="144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D6DD-8114-40F6-A810-09D8B273C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4" descr="logo_CMS_color"/>
          <p:cNvPicPr/>
          <p:nvPr/>
        </p:nvPicPr>
        <p:blipFill>
          <a:blip r:embed="rId1"/>
          <a:stretch/>
        </p:blipFill>
        <p:spPr>
          <a:xfrm>
            <a:off x="2928960" y="4143240"/>
            <a:ext cx="3024000" cy="1776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1"/>
          <p:cNvSpPr/>
          <p:nvPr/>
        </p:nvSpPr>
        <p:spPr>
          <a:xfrm>
            <a:off x="539640" y="1928880"/>
            <a:ext cx="8326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PRIMERA CAPACI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Datos de la Micro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- Suel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539640" y="1557360"/>
            <a:ext cx="83534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Según la ultima encuesta Cas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El 25% de los microempresarios dice vivir con menos de 1 suel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El 56% de los microempresarios gana entre 1 y 2 sueldos míni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Nivel de pobre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El 3,2% son catalogados como indi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El 12,1% como po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516640"/>
            <a:ext cx="540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324000" y="5300640"/>
            <a:ext cx="367164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Línea de indigencia (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U: $23.5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R: $18.1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4213080" y="5300640"/>
            <a:ext cx="374364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Línea de la pobreza (1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U: $47.0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R: $37.7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- Sistema Financ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7000920" cy="4551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4" descr="logo_CMS_color"/>
          <p:cNvPicPr/>
          <p:nvPr/>
        </p:nvPicPr>
        <p:blipFill>
          <a:blip r:embed="rId1"/>
          <a:stretch/>
        </p:blipFill>
        <p:spPr>
          <a:xfrm>
            <a:off x="3119400" y="4643280"/>
            <a:ext cx="3024360" cy="17766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1"/>
          <p:cNvSpPr/>
          <p:nvPr/>
        </p:nvSpPr>
        <p:spPr>
          <a:xfrm>
            <a:off x="539640" y="1928880"/>
            <a:ext cx="8326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PRIMERA CAPACI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¿Cómo hacer la primera Capaci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071800" y="571680"/>
            <a:ext cx="6572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RESPUE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99"/>
                </a:solidFill>
                <a:latin typeface="Trebuchet MS"/>
              </a:rPr>
              <a:t>Depe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os integrantes de cada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facili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l material disponible y conte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objetivo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objetivos del equipo doc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tc.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9"/>
          <p:cNvSpPr/>
          <p:nvPr/>
        </p:nvSpPr>
        <p:spPr>
          <a:xfrm>
            <a:off x="1763640" y="4941720"/>
            <a:ext cx="2160720" cy="576360"/>
          </a:xfrm>
          <a:prstGeom prst="rightArrow">
            <a:avLst>
              <a:gd name="adj1" fmla="val 50000"/>
              <a:gd name="adj2" fmla="val 9372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4284720" y="472428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EXISTE UNA MANERA UNICA DE REALIZAR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908000" y="571680"/>
            <a:ext cx="68407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HERRAMIENTA  METODOLO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99"/>
                </a:solidFill>
                <a:latin typeface="Trebuchet MS"/>
              </a:rPr>
              <a:t>Se les entrega a todos los grupos una carpeta que contie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ntenidos y objetivos de l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iseño en detalle de cada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auta de apoyo al diseño de l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Reporte de cáte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Asis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071800" y="536400"/>
            <a:ext cx="664344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LEMENTOS INDISPENS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Pasar desde lo escrito en la carpeta a la Cancha impl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star muy bien prese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Usar Lenguaje simple, pero formal (reconocer lo antes posible el lenguaje de los empresa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Buen manejo de los tiem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finir el meollo de la exposi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Recibir feed-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2071800" y="571680"/>
            <a:ext cx="6572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LEMENTOS INDISPENS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Ponerse en disposición para serv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Prepararse y Prepar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Estud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onocer las funciones de cada u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onocer el Con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uidado mutu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Estar atento ante cualquier requerimiento, en especial del expositor y de los empres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2000160" y="536400"/>
            <a:ext cx="66438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LEMENTOS INDISPENS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500040" y="157176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En los compromi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En la entrega de la capa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Lob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Conversar y generar confianza con los encargados del Cen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Preguntar el nombre de cualquier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ercan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Mezclarse entre los empresarios, estar con ellos, hacerlos partícipes del cu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offee break compart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Desde servirlo hasta comparti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000160" y="571680"/>
            <a:ext cx="67150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IEBRES RECURR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428760" y="160668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os Microempresarios piensan que van a recibir otro tipo de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Explicar en que consiste el programa CMS y sus 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Algunos Microempresarios no llegan a la h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Exigir hora para comenzar, conversar con ellos (hacerlos entender), comenzar más ta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as salas no son de la calidad espe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Tienen goteras, no siempre están todas las sillas, no siempre hay m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No siempre hay medios audiovisuales</a:t>
            </a:r>
            <a:r>
              <a:rPr b="1" lang="es-MX" sz="2000" spc="-1" strike="noStrike">
                <a:solidFill>
                  <a:srgbClr val="003399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2071800" y="536400"/>
            <a:ext cx="6572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IEBRES RECURR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500040" y="160668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Hay microempresarios “lideres” que se toman la pala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Tener control sobre al conversación, interrumpir sutilmente, dando la palabra a otro o continuando la cl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Hay microempresarios que no saben leer ni escrib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Hacer clase interac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Ayudarlos a completar los ejerc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Se desautorizan entre el equipo (Ej:“No te equivocaste eso no es así,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Prepararse bien para no cometer err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Nunca hacerlo…buscar una manera alternativa de decir después que hubo u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071800" y="571680"/>
            <a:ext cx="66434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É ES UNA MICROEMPR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00040" y="1643040"/>
          <a:ext cx="8358120" cy="4640400"/>
        </p:xfrm>
        <a:graphic>
          <a:graphicData uri="http://schemas.openxmlformats.org/drawingml/2006/table">
            <a:tbl>
              <a:tblPr/>
              <a:tblGrid>
                <a:gridCol w="1566720"/>
                <a:gridCol w="3284640"/>
                <a:gridCol w="350676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M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ES EN 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S EN 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Mic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2.4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$ 49.488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Pequeñ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2.400 y  25.0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 $49.488.00 y $515.5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0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Medi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25.000 y 100.0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$515.500.001 y $2062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Gran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ás de 100.0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ás de $2062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203640" y="638172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UF: $20.620, al 08 de ag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071800" y="536400"/>
            <a:ext cx="66434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IEBRES RECURR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428760" y="160668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Hay microempresarios que tiene muchos problemas personales, comienzan a hablar de su vida y se emocion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Tener ojo con los temas que se tratan en el curso. Si bien se hace trabajo de conocimiento personal, Háganlo superficial, no se involucren demasi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os microempresarios hablan mucho y desvían la convers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No permitan que la conversación se les salga de rumbo, ustedes manejan la clase no los microempresarios. Recuerden que todo se hace suti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071800" y="571680"/>
            <a:ext cx="664344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TRAMOS DE LA MICROEMPR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28760" y="1785960"/>
          <a:ext cx="8358120" cy="3639960"/>
        </p:xfrm>
        <a:graphic>
          <a:graphicData uri="http://schemas.openxmlformats.org/drawingml/2006/table">
            <a:tbl>
              <a:tblPr/>
              <a:tblGrid>
                <a:gridCol w="1566720"/>
                <a:gridCol w="3284640"/>
                <a:gridCol w="350676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M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ES EN 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S EN 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amo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2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$ 4.124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amo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200 y 6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 $4.124.000 y $12.372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amo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600 y 2.4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$11.328.000 y $49.488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203640" y="638172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UF: $20.620, al 08 de ag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 AL AÑO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Al año 2004 existían 707.634 empresas formales en Chile, de las cu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81% son microempresas (571.5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Tramo 1: 4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Tramo 2: 2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Tramo 3: 2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16% son pequeñ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4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Además deben incluirse unas 748.000 de carácter in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62626"/>
                </a:solidFill>
                <a:latin typeface="Trebuchet MS"/>
              </a:rPr>
              <a:t>Existen más de 1.300.000 microempresas en Chile (1 por cada 12 habita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85840" y="5418000"/>
            <a:ext cx="83534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071800" y="571680"/>
            <a:ext cx="66769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000"/>
              </a:spcBef>
              <a:spcAft>
                <a:spcPts val="4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DISTRIBUCIÓN SECTORIAL AL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4481640" y="-5342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7572240" cy="4508640"/>
          </a:xfrm>
          <a:prstGeom prst="rect">
            <a:avLst/>
          </a:prstGeom>
          <a:ln w="0">
            <a:noFill/>
          </a:ln>
        </p:spPr>
      </p:pic>
      <p:sp>
        <p:nvSpPr>
          <p:cNvPr id="105" name="4 CuadroTexto"/>
          <p:cNvSpPr/>
          <p:nvPr/>
        </p:nvSpPr>
        <p:spPr>
          <a:xfrm>
            <a:off x="214200" y="5832360"/>
            <a:ext cx="8572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Comercio: Almacenes de barrio, bazares, pequeñas tiendas de ropa, puestos de diari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Servicios: administración de propiedades (mantención gas, agua, electricidad, servicios entreten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4481640" y="-5342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8400" y="1500120"/>
            <a:ext cx="9004320" cy="53578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1908000" y="571680"/>
            <a:ext cx="6950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Ventas y Empleo </a:t>
            </a: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(incluida ME infor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908000" y="571680"/>
            <a:ext cx="6950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Ventas y Empleo </a:t>
            </a: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(incluida ME infor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4481640" y="-5342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43880" cy="51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 – Niveles de ve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539640" y="1557360"/>
            <a:ext cx="8353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Las medianas y grande empresas suman el 3,4% de las unidades productivas formales, sin embargo son responsables del 87% de las ventas realizadas por las empresas for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la medianas y grandes empresas suman el 1,5% de las empresas y generan el 85,5% de las ventas (incluyendo las infor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Se ha observado un incremento notorio en la cantidad de microempresas en los últimos años, mostrando un aumento del 30,9% entre el año 1995 y 2003 (de 435.852 a 570.54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- Exportaciones ($M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642960" y="1500120"/>
            <a:ext cx="7715160" cy="2805120"/>
          </a:xfrm>
          <a:prstGeom prst="rect">
            <a:avLst/>
          </a:prstGeom>
          <a:ln w="0">
            <a:noFill/>
          </a:ln>
        </p:spPr>
      </p:pic>
      <p:sp>
        <p:nvSpPr>
          <p:cNvPr id="116" name="4 CuadroTexto"/>
          <p:cNvSpPr/>
          <p:nvPr/>
        </p:nvSpPr>
        <p:spPr>
          <a:xfrm>
            <a:off x="785880" y="4572000"/>
            <a:ext cx="764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La MIPE tiene una baja participación en el porcentaje de ventas totales en exportaciones, a pesar que el 40% de las empresas que exportan son MI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Solsire</cp:lastModifiedBy>
  <cp:lastPrinted>2004-06-01T23:06:04Z</cp:lastPrinted>
  <dcterms:modified xsi:type="dcterms:W3CDTF">2008-08-08T17:20:33Z</dcterms:modified>
  <cp:revision>442</cp:revision>
  <dc:subject/>
  <dc:title>Presentación de PowerPoint</dc:title>
</cp:coreProperties>
</file>