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89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47692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47692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2621-8431-4AFF-BE09-151E91AC5250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DB9B-35CD-4DB1-A28B-244FCFAA7C67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92B5-0BC4-4FAA-93A8-F57C43C64E9D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8867-702E-4044-ACEE-4A6BF8EF170C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1F1C-F2B1-4808-BC99-7AF710D6997F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84DC-C48D-442A-B23D-CA4066A4B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C4E6-52E8-4101-B086-365F1074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063B-081C-4BE7-A401-09F329FB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A940-F752-4683-AF70-BE179D488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9475-E33D-4C85-BC8D-E659AAA83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EB75-60A7-4BAB-9693-C5F509F5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7B04-1891-439F-A435-913BEA7D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25B0-B8D1-4B70-99B2-DA759CA4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A16C-D5EB-4FFF-9C1C-E18E1278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B023-78B1-4F5A-9459-8DE568DC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A284-2278-4DCE-92D0-7886870C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0D95-125D-47FE-BB9F-E689A0A1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8158-F429-48EA-94D7-A35A0D8F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F05B-B90E-4221-95FD-9145C52C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F133-F33D-4C07-9E76-3F671F29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9307-D57E-451F-9096-FD4C69819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0C40-A34D-49E8-B7C8-BE5661A50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B670-32C1-4BF9-B4CE-B39A21D4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B444-C77A-40FE-98E3-F0C82BB6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1470-A5E2-4CF2-9DD8-5CF6DB7B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9872-0087-478D-9DB1-73423CA8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D39D-C808-4066-B03E-28584AF5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1921-AD90-43DF-9B84-8C37C644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6F98-ECC2-4CBB-9CCF-127B8312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E0D0-0356-42FD-B04F-D16E2B5C2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logo_CMS_color"/>
          <p:cNvPicPr/>
          <p:nvPr/>
        </p:nvPicPr>
        <p:blipFill>
          <a:blip r:embed="rId2"/>
          <a:stretch/>
        </p:blipFill>
        <p:spPr>
          <a:xfrm>
            <a:off x="71280" y="214200"/>
            <a:ext cx="1857600" cy="1094040"/>
          </a:xfrm>
          <a:prstGeom prst="rect">
            <a:avLst/>
          </a:prstGeom>
          <a:ln w="0">
            <a:noFill/>
          </a:ln>
        </p:spPr>
      </p:pic>
      <p:sp>
        <p:nvSpPr>
          <p:cNvPr id="42" name="7 Conector recto"/>
          <p:cNvSpPr/>
          <p:nvPr/>
        </p:nvSpPr>
        <p:spPr>
          <a:xfrm>
            <a:off x="2000160" y="1285920"/>
            <a:ext cx="6715080" cy="1440"/>
          </a:xfrm>
          <a:prstGeom prst="line">
            <a:avLst/>
          </a:prstGeom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A5FB-4134-4F8C-BE0B-44E82F747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4" descr="logo_CMS_color"/>
          <p:cNvPicPr/>
          <p:nvPr/>
        </p:nvPicPr>
        <p:blipFill>
          <a:blip r:embed="rId1"/>
          <a:stretch/>
        </p:blipFill>
        <p:spPr>
          <a:xfrm>
            <a:off x="2928960" y="4143240"/>
            <a:ext cx="3024000" cy="1776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1"/>
          <p:cNvSpPr/>
          <p:nvPr/>
        </p:nvSpPr>
        <p:spPr>
          <a:xfrm>
            <a:off x="539640" y="1928880"/>
            <a:ext cx="8326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PRIMERA CAPACI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Datos de la Microempr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2071800" y="571680"/>
            <a:ext cx="667692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ATOS- Suel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539640" y="1557360"/>
            <a:ext cx="83534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Según la ultima encuesta Cas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El 25% de los microempresarios dice vivir con menos de 1 suel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El 56% de los microempresarios gana entre 1 y 2 sueldos míni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Nivel de pobrez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El 3,2% son catalogados como indig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El 12,1% como pob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5516640"/>
            <a:ext cx="5400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324000" y="5300640"/>
            <a:ext cx="367164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Línea de indigencia (3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U: $23.5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R: $18.1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4213080" y="5300640"/>
            <a:ext cx="374364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Línea de la pobreza (13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U: $47.0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R: $37.7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2071800" y="571680"/>
            <a:ext cx="667692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ATOS- Sistema Financi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000080" y="1785960"/>
            <a:ext cx="7000920" cy="4551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4" descr="logo_CMS_color"/>
          <p:cNvPicPr/>
          <p:nvPr/>
        </p:nvPicPr>
        <p:blipFill>
          <a:blip r:embed="rId1"/>
          <a:stretch/>
        </p:blipFill>
        <p:spPr>
          <a:xfrm>
            <a:off x="3119400" y="4643280"/>
            <a:ext cx="3024360" cy="17766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1"/>
          <p:cNvSpPr/>
          <p:nvPr/>
        </p:nvSpPr>
        <p:spPr>
          <a:xfrm>
            <a:off x="539640" y="1928880"/>
            <a:ext cx="8326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PRIMERA CAPACI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¿Cómo hacer la primera Capacit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2071800" y="571680"/>
            <a:ext cx="657216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RESPUE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539640" y="1557360"/>
            <a:ext cx="8353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99"/>
                </a:solidFill>
                <a:latin typeface="Trebuchet MS"/>
              </a:rPr>
              <a:t>Depe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Los integrantes de cada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os facili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l material disponible y conte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os objetivos del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os objetivos del equipo doc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tc.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9"/>
          <p:cNvSpPr/>
          <p:nvPr/>
        </p:nvSpPr>
        <p:spPr>
          <a:xfrm>
            <a:off x="1763640" y="4941720"/>
            <a:ext cx="2160720" cy="576360"/>
          </a:xfrm>
          <a:prstGeom prst="rightArrow">
            <a:avLst>
              <a:gd name="adj1" fmla="val 50000"/>
              <a:gd name="adj2" fmla="val 9372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4284720" y="472428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 EXISTE UNA MANERA UNICA DE REALIZAR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1908000" y="571680"/>
            <a:ext cx="68407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HERRAMIENTA  METODOLO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539640" y="1557360"/>
            <a:ext cx="8353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99"/>
                </a:solidFill>
                <a:latin typeface="Trebuchet MS"/>
              </a:rPr>
              <a:t>Se les entrega a todos los grupos una carpeta que contie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ontenidos y objetivos de l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iseño en detalle de cada capac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auta de apoyo al diseño de l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Reporte de cáted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Asis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071800" y="536400"/>
            <a:ext cx="664344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ELEMENTOS INDISPENS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8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Pasar desde lo escrito en la carpeta a la Cancha impl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star muy bien presen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Usar Lenguaje simple, pero formal (reconocer lo antes posible el lenguaje de los empresar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Buen manejo de los tiemp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efinir el meollo de la exposi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Recibir feed-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2071800" y="571680"/>
            <a:ext cx="65721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ELEMENTOS INDISPENS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Ponerse en disposición para serv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Prepararse y Prepar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Estudi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onocer las funciones de cada u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onocer el Contex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uidado mutu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Estar atento ante cualquier requerimiento, en especial del expositor y de los empresar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2000160" y="536400"/>
            <a:ext cx="66438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ELEMENTOS INDISPENS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500040" y="1571760"/>
            <a:ext cx="8424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En los compromi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En la entrega de la capa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Lob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Conversar y generar confianza con los encargados del Cen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Preguntar el nombre de cualquier pers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Cercan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Mezclarse entre los empresarios, estar con ellos, hacerlos partícipes del cu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Coffee break compart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Desde servirlo hasta comparti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2000160" y="571680"/>
            <a:ext cx="671508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QUIEBRES RECURR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428760" y="1606680"/>
            <a:ext cx="8424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Los Microempresarios piensan que van a recibir otro tipo de capac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Explicar en que consiste el programa CMS y sus obje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Algunos Microempresarios no llegan a la h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Exigir hora para comenzar, conversar con ellos (hacerlos entender), comenzar más ta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Las salas no son de la calidad esper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Tienen goteras, no siempre están todas las sillas, no siempre hay m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No siempre hay medios audiovisuales</a:t>
            </a:r>
            <a:r>
              <a:rPr b="1" lang="es-MX" sz="2000" spc="-1" strike="noStrike">
                <a:solidFill>
                  <a:srgbClr val="003399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2071800" y="536400"/>
            <a:ext cx="657216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QUIEBRES RECURR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500040" y="1606680"/>
            <a:ext cx="8424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Hay microempresarios “lideres” que se toman la pala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Tener control sobre al conversación, interrumpir sutilmente, dando la palabra a otro o continuando la cl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Hay microempresarios que no saben leer ni escrib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Hacer clase interac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Ayudarlos a completar los ejerc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Se desautorizan entre el equipo (Ej:“No te equivocaste eso no es así,…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Prepararse bien para no cometer err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Nunca hacerlo…buscar una manera alternativa de decir después que hubo un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2071800" y="571680"/>
            <a:ext cx="664344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QUÉ ES UNA MICROEMPR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00040" y="1643040"/>
          <a:ext cx="8358120" cy="4640400"/>
        </p:xfrm>
        <a:graphic>
          <a:graphicData uri="http://schemas.openxmlformats.org/drawingml/2006/table">
            <a:tbl>
              <a:tblPr/>
              <a:tblGrid>
                <a:gridCol w="1566720"/>
                <a:gridCol w="3284640"/>
                <a:gridCol w="3506760"/>
              </a:tblGrid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MA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NTAS ANUALES EN U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NTAS ANUALS EN 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Mic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os de 2.4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os de $ 49.488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Pequeñ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2.400 y  25.0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 $49.488.00 y $515.50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00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Medi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25.000 y 100.0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$515.500.001 y $2062.00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Gran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ás de 100.0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ás de $2062.00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3203640" y="6381720"/>
            <a:ext cx="55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UF: $20.620, al 08 de ago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2071800" y="536400"/>
            <a:ext cx="664344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QUIEBRES RECURR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428760" y="1606680"/>
            <a:ext cx="8424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Hay microempresarios que tiene muchos problemas personales, comienzan a hablar de su vida y se emocion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Tener ojo con los temas que se tratan en el curso. Si bien se hace trabajo de conocimiento personal, Háganlo superficial, no se involucren demasi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Los microempresarios hablan mucho y desvían la convers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No permitan que la conversación se les salga de rumbo, ustedes manejan la clase no los microempresarios. Recuerden que todo se hace sutil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071800" y="571680"/>
            <a:ext cx="664344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TRAMOS DE LA MICROEMPR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28760" y="1785960"/>
          <a:ext cx="8358120" cy="3639960"/>
        </p:xfrm>
        <a:graphic>
          <a:graphicData uri="http://schemas.openxmlformats.org/drawingml/2006/table">
            <a:tbl>
              <a:tblPr/>
              <a:tblGrid>
                <a:gridCol w="1566720"/>
                <a:gridCol w="3284640"/>
                <a:gridCol w="3506760"/>
              </a:tblGrid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MA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NTAS ANUALES EN U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NTAS ANUALS EN 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amo 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os de 2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os de $ 4.124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amo 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200 y 6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 $4.124.000 y $12.372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amo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600 y 2.4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$11.328.000 y $49.488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3203640" y="6381720"/>
            <a:ext cx="55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UF: $20.620, al 08 de ago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071800" y="571680"/>
            <a:ext cx="667692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ATOS AL AÑO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539640" y="1557360"/>
            <a:ext cx="8353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Al año 2004 existían 707.634 empresas formales en Chile, de las cu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81% son microempresas (571.5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Tramo 1: 4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Tramo 2: 2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Tramo 3: 2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16% son pequeñ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4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Además deben incluirse unas 748.000 de carácter inf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62626"/>
                </a:solidFill>
                <a:latin typeface="Trebuchet MS"/>
              </a:rPr>
              <a:t>Existen más de 1.300.000 microempresas en Chile (1 por cada 12 habitan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85840" y="5418000"/>
            <a:ext cx="83534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2071800" y="571680"/>
            <a:ext cx="66769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000"/>
              </a:spcBef>
              <a:spcAft>
                <a:spcPts val="4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rebuchet MS"/>
              </a:rPr>
              <a:t>DISTRIBUCIÓN SECTORIAL AL 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4481640" y="-5342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571680" y="1357200"/>
            <a:ext cx="7572240" cy="4508640"/>
          </a:xfrm>
          <a:prstGeom prst="rect">
            <a:avLst/>
          </a:prstGeom>
          <a:ln w="0">
            <a:noFill/>
          </a:ln>
        </p:spPr>
      </p:pic>
      <p:sp>
        <p:nvSpPr>
          <p:cNvPr id="105" name="4 CuadroTexto"/>
          <p:cNvSpPr/>
          <p:nvPr/>
        </p:nvSpPr>
        <p:spPr>
          <a:xfrm>
            <a:off x="214200" y="5832360"/>
            <a:ext cx="8572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Comercio: Almacenes de barrio, bazares, pequeñas tiendas de ropa, puestos de diario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Servicios: administración de propiedades (mantención gas, agua, electricidad, servicios entretenció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4481640" y="-5342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68400" y="1500120"/>
            <a:ext cx="9004320" cy="53578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"/>
          <p:cNvSpPr/>
          <p:nvPr/>
        </p:nvSpPr>
        <p:spPr>
          <a:xfrm>
            <a:off x="1908000" y="571680"/>
            <a:ext cx="69501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2999"/>
              </a:spcBef>
              <a:spcAft>
                <a:spcPts val="29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rebuchet MS"/>
              </a:rPr>
              <a:t>Ventas y Empleo </a:t>
            </a: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(incluida ME inform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1908000" y="571680"/>
            <a:ext cx="69501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2999"/>
              </a:spcBef>
              <a:spcAft>
                <a:spcPts val="29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rebuchet MS"/>
              </a:rPr>
              <a:t>Ventas y Empleo </a:t>
            </a: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(incluida ME inform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4481640" y="-5342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543880" cy="517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2071800" y="571680"/>
            <a:ext cx="667692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ATOS – Niveles de ven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539640" y="1557360"/>
            <a:ext cx="8353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Las medianas y grande empresas suman el 3,4% de las unidades productivas formales, sin embargo son responsables del 87% de las ventas realizadas por las empresas for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la medianas y grandes empresas suman el 1,5% de las empresas y generan el 85,5% de las ventas (incluyendo las inform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Se ha observado un incremento notorio en la cantidad de microempresas en los últimos años, mostrando un aumento del 30,9% entre el año 1995 y 2003 (de 435.852 a 570.54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2071800" y="571680"/>
            <a:ext cx="667692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ATOS- Exportaciones ($M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642960" y="1500120"/>
            <a:ext cx="7715160" cy="2805120"/>
          </a:xfrm>
          <a:prstGeom prst="rect">
            <a:avLst/>
          </a:prstGeom>
          <a:ln w="0">
            <a:noFill/>
          </a:ln>
        </p:spPr>
      </p:pic>
      <p:sp>
        <p:nvSpPr>
          <p:cNvPr id="116" name="4 CuadroTexto"/>
          <p:cNvSpPr/>
          <p:nvPr/>
        </p:nvSpPr>
        <p:spPr>
          <a:xfrm>
            <a:off x="785880" y="4572000"/>
            <a:ext cx="764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La MIPE tiene una baja participación en el porcentaje de ventas totales en exportaciones, a pesar que el 40% de las empresas que exportan son MI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22:56:56Z</dcterms:created>
  <dc:creator>Francisco J. Astudillo A.</dc:creator>
  <dc:description/>
  <dc:language>en-US</dc:language>
  <cp:lastModifiedBy>Solsire</cp:lastModifiedBy>
  <cp:lastPrinted>2004-06-01T23:06:04Z</cp:lastPrinted>
  <dcterms:modified xsi:type="dcterms:W3CDTF">2008-08-08T17:20:33Z</dcterms:modified>
  <cp:revision>442</cp:revision>
  <dc:subject/>
  <dc:title>Presentación de PowerPoint</dc:title>
</cp:coreProperties>
</file>