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0C1-76C2-46CF-920D-0030A7C5DD2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1FE-D84F-4328-B32A-90DC8B9F2A3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FB6E-BFD6-429F-AD41-6C20291B318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024-D6BB-4A3A-8629-BDCE4D1DED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2FB4-E614-4AA0-9D98-30D0BED9443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6D9-801E-4D61-9E8C-D0131629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4F7-82FD-41AF-85D0-F379E1CA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1C8-5FDC-44DA-83E3-AEA4903F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30-FF2D-47FA-872C-65A1470F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8D10-6BF7-449C-938B-6C7DF12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64F-7D38-4FCF-93BA-21A95DB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AF49-9EF0-4C01-B4F3-DD0C583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9BD-B307-4819-BF4C-2A57869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DEF-5329-4878-879F-F2A4057A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E6E-B6E3-45F6-B799-FCD2A71F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2C73-1DD0-47E1-A5F8-7A66BED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CD2-5416-4B75-8923-86C54004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4B27-91FD-4245-A0CE-58B2A11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415-EA5C-45D1-A166-E9746501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9D6F-0CDB-4B03-9FD9-B7DC9FFB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D041-16CB-4550-9CE6-4F4A14DB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8A7-F707-4856-91F7-2CE841C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E10-05D7-424D-91F0-592A95C9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9D7-B59A-4ED0-8EBA-5C8D24E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562-2785-4931-9EA6-B75C073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008-AC84-4526-9B3F-7EAF4DA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929-74FF-4DC9-8922-6E4ED470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353-1696-4CF8-9367-C1C36B6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CF7-5B76-48B1-8A5A-9D23F560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BDB-31D6-47D1-92C9-0FECBA80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496-953A-47FD-A843-3DE43596F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155736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gún la ultima encuesta Ca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25% de los microempresarios dice vivir con menos de 1 suel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56% de los microempresarios gana entre 1 y 2 sueldos mín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Nivel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3,2% son catalogados como ind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12,1% como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54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24000" y="5300640"/>
            <a:ext cx="367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indigencia (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23.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18.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213080" y="5300640"/>
            <a:ext cx="3743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la pobreza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47.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37.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04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9.488.00 y $515.5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515.500.001 y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206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760" y="1785960"/>
          <a:ext cx="8358120" cy="363996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.124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.124.000 y $12.37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9.48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620, al 08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39640" y="1557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 medianas y grandes empresas suman el 1,5% de las empresas y generan el 85,5% de las ventas (incluyendo las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785880" y="457200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el porcentaje de ventas totales en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08T17:20:33Z</dcterms:modified>
  <cp:revision>442</cp:revision>
  <dc:subject/>
  <dc:title>Presentación de PowerPoint</dc:title>
</cp:coreProperties>
</file>