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B48A-AAB9-4052-ABE5-513EE691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C005-1C28-400E-A54C-F4E9CB77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378-4D63-4165-B8F9-D73A580F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CBB-7FA0-49A0-AE80-99169EE5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93E-2620-4D8A-B8C2-CCC59078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499-F86F-4115-86F3-B04391FB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47C-247A-4858-A4B4-15ECF631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186A-A572-498C-9AC8-902E69EB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52B-92DE-496B-B7AC-65F2C237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D71D-F7D8-4FF8-A0FE-7C8E1D95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12B1-884D-40A5-8428-CF3F4B03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9A2-3EC6-451F-B2FE-CBDD0BAE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74A3-A856-4D2A-99DE-F2D1104776D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4" descr="logo_CMS_color"/>
          <p:cNvPicPr/>
          <p:nvPr/>
        </p:nvPicPr>
        <p:blipFill>
          <a:blip r:embed="rId1"/>
          <a:stretch/>
        </p:blipFill>
        <p:spPr>
          <a:xfrm>
            <a:off x="395280" y="4653000"/>
            <a:ext cx="3024360" cy="17762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45"/>
          <p:cNvGrpSpPr/>
          <p:nvPr/>
        </p:nvGrpSpPr>
        <p:grpSpPr>
          <a:xfrm>
            <a:off x="179280" y="189000"/>
            <a:ext cx="1150920" cy="1006560"/>
            <a:chOff x="179280" y="189000"/>
            <a:chExt cx="1150920" cy="1006560"/>
          </a:xfrm>
        </p:grpSpPr>
        <p:sp>
          <p:nvSpPr>
            <p:cNvPr id="43" name="Rectangle 35"/>
            <p:cNvSpPr/>
            <p:nvPr/>
          </p:nvSpPr>
          <p:spPr>
            <a:xfrm>
              <a:off x="82692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7"/>
            <p:cNvSpPr/>
            <p:nvPr/>
          </p:nvSpPr>
          <p:spPr>
            <a:xfrm>
              <a:off x="17928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39"/>
            <p:cNvSpPr/>
            <p:nvPr/>
          </p:nvSpPr>
          <p:spPr>
            <a:xfrm>
              <a:off x="179280" y="7635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47"/>
          <p:cNvGrpSpPr/>
          <p:nvPr/>
        </p:nvGrpSpPr>
        <p:grpSpPr>
          <a:xfrm>
            <a:off x="7740720" y="5589720"/>
            <a:ext cx="1152360" cy="1008000"/>
            <a:chOff x="7740720" y="5589720"/>
            <a:chExt cx="1152360" cy="1008000"/>
          </a:xfrm>
        </p:grpSpPr>
        <p:sp>
          <p:nvSpPr>
            <p:cNvPr id="47" name="Rectangle 42"/>
            <p:cNvSpPr/>
            <p:nvPr/>
          </p:nvSpPr>
          <p:spPr>
            <a:xfrm>
              <a:off x="774072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44"/>
            <p:cNvSpPr/>
            <p:nvPr/>
          </p:nvSpPr>
          <p:spPr>
            <a:xfrm>
              <a:off x="838836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46"/>
            <p:cNvSpPr/>
            <p:nvPr/>
          </p:nvSpPr>
          <p:spPr>
            <a:xfrm>
              <a:off x="8389800" y="55897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51"/>
          <p:cNvSpPr/>
          <p:nvPr/>
        </p:nvSpPr>
        <p:spPr>
          <a:xfrm>
            <a:off x="1692360" y="2276640"/>
            <a:ext cx="7173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rebuchet MS"/>
              </a:rPr>
              <a:t>CAPACITACIÓN 1  Aprender a Apr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ENEMIGOS DEL APRENDIZ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4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5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La ceguera</a:t>
            </a: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“No sabemos que no sabem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El miedo a declarar ignor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vergüenza de mostrar incompetencia (miedo al ridículo de las primeras accion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onsiderarse victima (factores extern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El orgullo (no querer pedir ayu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arrogancia (pretender que ya se al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pereza (floj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La impaciencia y el aburrimiento (querer aprender al mínimo esfuerz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Desconfianza de mi capacidad para aprender o en el mae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APRENDIZAJE DE HABIL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6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6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Formas usuales de apre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Recurrencia ... aprendizaje por repetición de prác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-deriva ... aprendizaje por acompañar a un experto o entrenamiento en la 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esión  y exig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Ilum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APRENDER A APRE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7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7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539640" y="1557360"/>
            <a:ext cx="835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La secue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3446640" y="2205000"/>
            <a:ext cx="1218960" cy="1676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Declarar espacios de aprendizaj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5348160" y="2222640"/>
            <a:ext cx="121932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Diseño de nuevas práctic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7253280" y="2222640"/>
            <a:ext cx="121932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Tahoma"/>
              </a:rPr>
              <a:t>Poner en marcha las prácticas diseña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395280" y="3060720"/>
            <a:ext cx="7621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167360" y="4508640"/>
            <a:ext cx="1676160" cy="167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ahoma"/>
              </a:rPr>
              <a:t>Evaluar resulta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8777160" y="3060720"/>
            <a:ext cx="0" cy="2286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1"/>
          <p:cNvSpPr/>
          <p:nvPr/>
        </p:nvSpPr>
        <p:spPr>
          <a:xfrm flipH="1">
            <a:off x="421920" y="5373720"/>
            <a:ext cx="3745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2"/>
          <p:cNvSpPr/>
          <p:nvPr/>
        </p:nvSpPr>
        <p:spPr>
          <a:xfrm flipH="1">
            <a:off x="5805000" y="5346720"/>
            <a:ext cx="2971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"/>
          <p:cNvSpPr/>
          <p:nvPr/>
        </p:nvSpPr>
        <p:spPr>
          <a:xfrm>
            <a:off x="2843280" y="306864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6567480" y="3060720"/>
            <a:ext cx="685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1143000" y="2205000"/>
            <a:ext cx="1676520" cy="1676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Observar insatisfacciones, anomalías y 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6"/>
          <p:cNvSpPr/>
          <p:nvPr/>
        </p:nvSpPr>
        <p:spPr>
          <a:xfrm>
            <a:off x="4670280" y="3068640"/>
            <a:ext cx="685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>
            <a:off x="8459640" y="3068640"/>
            <a:ext cx="30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395280" y="3068640"/>
            <a:ext cx="0" cy="22860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COMO MOVER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9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0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539640" y="126828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ompet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Reconocerlas y acept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Hacer ofer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Entrenar a 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Incompetenc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Reconocerlas y acept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No involucrarse en dominios donde se requie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Pedir ayuda a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Armar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Desarrollarlas ... Evaluando si es re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332000" y="380880"/>
            <a:ext cx="756108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000"/>
              </a:spcBef>
              <a:spcAft>
                <a:spcPts val="4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rebuchet MS"/>
              </a:rPr>
              <a:t>QUE SE ESPERA DE LOS EMPRES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1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1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539640" y="1486080"/>
            <a:ext cx="835344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pregunten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se declaren igno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Tal vez no en forma explicita pero si a través de la act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se sientan “Empresari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El termino microempresario establece barr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Son empresarios de micro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empren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Que inn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LA BASE PARA 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2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2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826920" y="1700280"/>
            <a:ext cx="75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os hombres nacen suaves y flexibles. </a:t>
            </a:r>
            <a:br>
              <a:rPr sz="2400"/>
            </a:b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n la muerte son rígidos y duros. Las plantas nacen tiernas y dóciles. En la muerte son secas y quebradizas. Entonces, cualquiera que sea rígido e inflexible es un discípulo de la muerte. Cualquiera que sea suave, abierto y flexible es un discípulo de la vi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aoTse, Tao Te 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54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58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539640" y="1557360"/>
            <a:ext cx="8353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Desarrollar capacidad de acción efectiva en algún dominio (transformación de acciones inefectivas en acciones efectiv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Lo primero es identificar una situación insatisfa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Todo proceso de aprendizaje es un proceso de camb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332000" y="299736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logo_CMS_color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66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70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7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8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Ceguera cognitiva: No sé que no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No es posible apr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ctúan como si supieran en dominios donde no 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ra salir de ella es necesaria la intervención externa o experimentar un quie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8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9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Ignorancia: Sé que no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de aquí se puede aprender o pedir ayu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Hay 3 formas en que puede actuar el ignor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us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re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incip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DOMINIOS DEL SA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01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05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Saber: Sé que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de aquí podemos hacer ofe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Trebuchet MS"/>
              </a:rPr>
              <a:t>Ceguera al Saber: No sé que 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e actúa eficientemente pero no podemos hacer ofe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e hacer para apre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1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1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Saber que existe el 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clarar ignorancia en el 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clarar interés en aprender y darme permiso para cometer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Buscar un profesor (o institución) que sea adecuado según estándares establecidos por una comunidad y pedirle que nos enseñe. Negociar los térm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arle autoridad al profe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acticar, practicar, practicar, con super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rreg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47640" y="380880"/>
            <a:ext cx="73440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ETAPAS DEL APRENDIZ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25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29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Ignor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incipiante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aprendizajes independiente del contex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Aprendiz adelantado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 (puede desarrollar mínima competencia, todavía no pude s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Competente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 (experiencia en situaciones reales, pero no puede reaccionar ante situaciones inespera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xperto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sabe que hacer, la acción es intuitiva, actúa sin pens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Maestro </a:t>
            </a:r>
            <a:r>
              <a:rPr b="1" lang="es-ES" sz="2000" spc="-1" strike="noStrike">
                <a:solidFill>
                  <a:srgbClr val="003399"/>
                </a:solidFill>
                <a:latin typeface="Trebuchet MS"/>
              </a:rPr>
              <a:t>(establece nuevos estándares, mantienen espíritu de aprendiza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547640" y="380880"/>
            <a:ext cx="73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rebuchet MS"/>
              </a:rPr>
              <a:t>CATALIZADORES PARA AP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logo_CMS_color"/>
          <p:cNvPicPr/>
          <p:nvPr/>
        </p:nvPicPr>
        <p:blipFill>
          <a:blip r:embed="rId1"/>
          <a:stretch/>
        </p:blipFill>
        <p:spPr>
          <a:xfrm>
            <a:off x="108000" y="5979960"/>
            <a:ext cx="1295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3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4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539640" y="1557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Decir “no sé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Saber pedir ay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Apertura a nuevas formas de actuar y ver las co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Perseverante en la realización de prác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Estado de ánimo de maravillamiento, ambición (sana) y deseos de supe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Aceptar los err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Solsire</cp:lastModifiedBy>
  <cp:lastPrinted>2004-06-01T23:06:04Z</cp:lastPrinted>
  <dcterms:modified xsi:type="dcterms:W3CDTF">2007-08-13T15:46:50Z</dcterms:modified>
  <cp:revision>428</cp:revision>
  <dc:subject/>
  <dc:title>Presentación de PowerPoint</dc:title>
</cp:coreProperties>
</file>