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4.png" ContentType="image/png"/>
  <Override PartName="/ppt/media/image29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825-B332-45E0-BBD3-9A5859A20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262-7E74-44BB-B5AB-12F6D106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B13-85AF-4651-887B-67853232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38B-FC3C-4CB9-AF50-0BE58231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E27-76AE-4DA1-8CA5-6B46675C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6AB-3107-4D68-85F1-C56768F5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E97-0373-498E-A35C-44873EB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624-7E33-42EE-8F24-12EA634E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CDC-3C55-4F4B-93D5-648D262A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0B8-D046-4FF4-B65F-F17A3F3F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0EF1-F328-4830-BBB3-B778FF0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BC4-F570-49AF-9A4C-98369B1D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657F-1BA1-43CD-8279-8440E4BC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9625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6429" r="0" b="0"/>
          <a:stretch/>
        </p:blipFill>
        <p:spPr>
          <a:xfrm>
            <a:off x="6461280" y="0"/>
            <a:ext cx="2682720" cy="399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23512" t="19659" r="7054" b="3932"/>
          <a:stretch/>
        </p:blipFill>
        <p:spPr>
          <a:xfrm>
            <a:off x="0" y="0"/>
            <a:ext cx="27003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777960" y="907920"/>
            <a:ext cx="7544880" cy="510120"/>
            <a:chOff x="777960" y="907920"/>
            <a:chExt cx="7544880" cy="510120"/>
          </a:xfrm>
        </p:grpSpPr>
        <p:sp>
          <p:nvSpPr>
            <p:cNvPr id="173" name=""/>
            <p:cNvSpPr/>
            <p:nvPr/>
          </p:nvSpPr>
          <p:spPr>
            <a:xfrm>
              <a:off x="777960" y="907920"/>
              <a:ext cx="7544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l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3720" y="1085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203360" y="1238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998280" y="2649600"/>
            <a:ext cx="735480" cy="582840"/>
            <a:chOff x="998280" y="2649600"/>
            <a:chExt cx="735480" cy="582840"/>
          </a:xfrm>
        </p:grpSpPr>
        <p:sp>
          <p:nvSpPr>
            <p:cNvPr id="177" name=""/>
            <p:cNvSpPr/>
            <p:nvPr/>
          </p:nvSpPr>
          <p:spPr>
            <a:xfrm>
              <a:off x="998280" y="27223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98800" y="26496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80840" y="2505240"/>
            <a:ext cx="2530440" cy="914760"/>
            <a:chOff x="1680840" y="2505240"/>
            <a:chExt cx="2530440" cy="914760"/>
          </a:xfrm>
        </p:grpSpPr>
        <p:sp>
          <p:nvSpPr>
            <p:cNvPr id="180" name=""/>
            <p:cNvSpPr/>
            <p:nvPr/>
          </p:nvSpPr>
          <p:spPr>
            <a:xfrm>
              <a:off x="1708560" y="250524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80840" y="2909880"/>
              <a:ext cx="253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26920" y="293688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064120" y="2685960"/>
            <a:ext cx="25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93200" y="40402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96000" y="3824280"/>
            <a:ext cx="2473920" cy="914760"/>
            <a:chOff x="3096000" y="3824280"/>
            <a:chExt cx="2473920" cy="914760"/>
          </a:xfrm>
        </p:grpSpPr>
        <p:sp>
          <p:nvSpPr>
            <p:cNvPr id="186" name=""/>
            <p:cNvSpPr/>
            <p:nvPr/>
          </p:nvSpPr>
          <p:spPr>
            <a:xfrm>
              <a:off x="3096000" y="3824280"/>
              <a:ext cx="247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7920" y="4228920"/>
              <a:ext cx="1803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14360" y="42559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637960" y="3962520"/>
            <a:ext cx="1552320" cy="582840"/>
            <a:chOff x="5637960" y="3962520"/>
            <a:chExt cx="1552320" cy="582840"/>
          </a:xfrm>
        </p:grpSpPr>
        <p:sp>
          <p:nvSpPr>
            <p:cNvPr id="190" name=""/>
            <p:cNvSpPr/>
            <p:nvPr/>
          </p:nvSpPr>
          <p:spPr>
            <a:xfrm>
              <a:off x="5637960" y="40352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5906160" y="3962520"/>
              <a:ext cx="1284120" cy="582840"/>
              <a:chOff x="5906160" y="3962520"/>
              <a:chExt cx="1284120" cy="582840"/>
            </a:xfrm>
          </p:grpSpPr>
          <p:sp>
            <p:nvSpPr>
              <p:cNvPr id="192" name=""/>
              <p:cNvSpPr/>
              <p:nvPr/>
            </p:nvSpPr>
            <p:spPr>
              <a:xfrm>
                <a:off x="5906160" y="4035240"/>
                <a:ext cx="128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[H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100920" y="396252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882800" y="53370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onstante de equilibrio es a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11280" y="246240"/>
            <a:ext cx="8180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 concentraciones de equilibrio de la reacción entre monóxido de carbono y cloro molecular para formar 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a la temperatura de 74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 son: [CO] = 0.012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[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05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y [COCl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0.14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Calcular las constantes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442240" y="2335320"/>
            <a:ext cx="4262040" cy="510120"/>
            <a:chOff x="2442240" y="2335320"/>
            <a:chExt cx="4262040" cy="510120"/>
          </a:xfrm>
        </p:grpSpPr>
        <p:sp>
          <p:nvSpPr>
            <p:cNvPr id="197" name=""/>
            <p:cNvSpPr/>
            <p:nvPr/>
          </p:nvSpPr>
          <p:spPr>
            <a:xfrm>
              <a:off x="2442240" y="2335320"/>
              <a:ext cx="4262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638240" y="2486160"/>
              <a:ext cx="609840" cy="152280"/>
              <a:chOff x="4638240" y="2486160"/>
              <a:chExt cx="609840" cy="152280"/>
            </a:xfrm>
          </p:grpSpPr>
          <p:sp>
            <p:nvSpPr>
              <p:cNvPr id="199" name=""/>
              <p:cNvSpPr/>
              <p:nvPr/>
            </p:nvSpPr>
            <p:spPr>
              <a:xfrm>
                <a:off x="4638600" y="248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4638240" y="2638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1836000" y="3273480"/>
            <a:ext cx="82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37640" y="3056040"/>
            <a:ext cx="1364760" cy="930600"/>
            <a:chOff x="2537640" y="3056040"/>
            <a:chExt cx="1364760" cy="930600"/>
          </a:xfrm>
        </p:grpSpPr>
        <p:sp>
          <p:nvSpPr>
            <p:cNvPr id="203" name=""/>
            <p:cNvSpPr/>
            <p:nvPr/>
          </p:nvSpPr>
          <p:spPr>
            <a:xfrm>
              <a:off x="2623320" y="3056040"/>
              <a:ext cx="119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37640" y="3476520"/>
              <a:ext cx="1364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[CO][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10000" y="3495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22560" y="3056040"/>
            <a:ext cx="2415600" cy="880200"/>
            <a:chOff x="3922560" y="3056040"/>
            <a:chExt cx="2415600" cy="880200"/>
          </a:xfrm>
        </p:grpSpPr>
        <p:sp>
          <p:nvSpPr>
            <p:cNvPr id="207" name=""/>
            <p:cNvSpPr/>
            <p:nvPr/>
          </p:nvSpPr>
          <p:spPr>
            <a:xfrm>
              <a:off x="3922560" y="3271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310280" y="3056040"/>
              <a:ext cx="2027880" cy="880200"/>
              <a:chOff x="4310280" y="3056040"/>
              <a:chExt cx="2027880" cy="880200"/>
            </a:xfrm>
          </p:grpSpPr>
          <p:sp>
            <p:nvSpPr>
              <p:cNvPr id="209" name=""/>
              <p:cNvSpPr/>
              <p:nvPr/>
            </p:nvSpPr>
            <p:spPr>
              <a:xfrm>
                <a:off x="4929480" y="30560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280" y="3476520"/>
                <a:ext cx="202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12 x 0.0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05320" y="349560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377040" y="32716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21160" y="4365720"/>
            <a:ext cx="19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1400" y="5203800"/>
            <a:ext cx="218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2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73560" y="52038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86040" y="520380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3 + 74 = 347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92480" y="5924520"/>
            <a:ext cx="4559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20 x (0.0821 x 347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353880"/>
            <a:ext cx="87757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stante de equilibrio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la rea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158 a una temperatura de 1000K. ¿Cuál es la presión de equilibrio del 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i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= 0.400 atm y la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270 at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6320" y="1125360"/>
            <a:ext cx="4448160" cy="510120"/>
            <a:chOff x="2596320" y="1125360"/>
            <a:chExt cx="4448160" cy="510120"/>
          </a:xfrm>
        </p:grpSpPr>
        <p:sp>
          <p:nvSpPr>
            <p:cNvPr id="220" name=""/>
            <p:cNvSpPr/>
            <p:nvPr/>
          </p:nvSpPr>
          <p:spPr>
            <a:xfrm>
              <a:off x="2596320" y="1125360"/>
              <a:ext cx="44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         2NO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 + 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990600" y="1288800"/>
              <a:ext cx="609840" cy="152280"/>
              <a:chOff x="3990600" y="1288800"/>
              <a:chExt cx="609840" cy="152280"/>
            </a:xfrm>
          </p:grpSpPr>
          <p:sp>
            <p:nvSpPr>
              <p:cNvPr id="222" name=""/>
              <p:cNvSpPr/>
              <p:nvPr/>
            </p:nvSpPr>
            <p:spPr>
              <a:xfrm>
                <a:off x="3990960" y="128880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990600" y="144108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3596760" y="3078000"/>
            <a:ext cx="1929240" cy="1092960"/>
            <a:chOff x="3596760" y="3078000"/>
            <a:chExt cx="1929240" cy="1092960"/>
          </a:xfrm>
        </p:grpSpPr>
        <p:sp>
          <p:nvSpPr>
            <p:cNvPr id="225" name=""/>
            <p:cNvSpPr/>
            <p:nvPr/>
          </p:nvSpPr>
          <p:spPr>
            <a:xfrm>
              <a:off x="3596760" y="3397320"/>
              <a:ext cx="83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32600" y="3338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53480" y="3109680"/>
              <a:ext cx="1037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NO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078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16400" y="363060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547520" y="3592440"/>
              <a:ext cx="767160" cy="578520"/>
              <a:chOff x="4547520" y="3592440"/>
              <a:chExt cx="767160" cy="578520"/>
            </a:xfrm>
          </p:grpSpPr>
          <p:sp>
            <p:nvSpPr>
              <p:cNvPr id="231" name=""/>
              <p:cNvSpPr/>
              <p:nvPr/>
            </p:nvSpPr>
            <p:spPr>
              <a:xfrm>
                <a:off x="4547520" y="360684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72160" y="35924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21280" y="3833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3441600" y="4417920"/>
            <a:ext cx="2176200" cy="1075320"/>
            <a:chOff x="3441600" y="4417920"/>
            <a:chExt cx="2176200" cy="1075320"/>
          </a:xfrm>
        </p:grpSpPr>
        <p:grpSp>
          <p:nvGrpSpPr>
            <p:cNvPr id="235" name=""/>
            <p:cNvGrpSpPr/>
            <p:nvPr/>
          </p:nvGrpSpPr>
          <p:grpSpPr>
            <a:xfrm>
              <a:off x="3441600" y="4646520"/>
              <a:ext cx="641160" cy="564120"/>
              <a:chOff x="3441600" y="4646520"/>
              <a:chExt cx="641160" cy="564120"/>
            </a:xfrm>
          </p:grpSpPr>
          <p:sp>
            <p:nvSpPr>
              <p:cNvPr id="236" name=""/>
              <p:cNvSpPr/>
              <p:nvPr/>
            </p:nvSpPr>
            <p:spPr>
              <a:xfrm>
                <a:off x="3441600" y="464652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789360" y="4873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4097160" y="46990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850640" y="4417920"/>
              <a:ext cx="767160" cy="578520"/>
              <a:chOff x="4850640" y="4417920"/>
              <a:chExt cx="767160" cy="578520"/>
            </a:xfrm>
          </p:grpSpPr>
          <p:sp>
            <p:nvSpPr>
              <p:cNvPr id="240" name=""/>
              <p:cNvSpPr/>
              <p:nvPr/>
            </p:nvSpPr>
            <p:spPr>
              <a:xfrm>
                <a:off x="4850640" y="44323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75280" y="4417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24400" y="46591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4899960" y="4925880"/>
              <a:ext cx="648720" cy="567360"/>
              <a:chOff x="4899960" y="4925880"/>
              <a:chExt cx="648720" cy="567360"/>
            </a:xfrm>
          </p:grpSpPr>
          <p:sp>
            <p:nvSpPr>
              <p:cNvPr id="244" name=""/>
              <p:cNvSpPr/>
              <p:nvPr/>
            </p:nvSpPr>
            <p:spPr>
              <a:xfrm>
                <a:off x="4899960" y="498312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N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40080" y="4925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4919760" y="496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917720" y="5745240"/>
            <a:ext cx="4025880" cy="564120"/>
            <a:chOff x="1917720" y="5745240"/>
            <a:chExt cx="4025880" cy="564120"/>
          </a:xfrm>
        </p:grpSpPr>
        <p:grpSp>
          <p:nvGrpSpPr>
            <p:cNvPr id="248" name=""/>
            <p:cNvGrpSpPr/>
            <p:nvPr/>
          </p:nvGrpSpPr>
          <p:grpSpPr>
            <a:xfrm>
              <a:off x="1917720" y="5745240"/>
              <a:ext cx="641160" cy="564120"/>
              <a:chOff x="1917720" y="5745240"/>
              <a:chExt cx="641160" cy="564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917720" y="5745240"/>
                <a:ext cx="520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65480" y="5972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453040" y="5775120"/>
              <a:ext cx="34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158 x (0.40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/(0.270)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869800" y="577044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347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43120" y="404640"/>
            <a:ext cx="394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37400" y="1284120"/>
            <a:ext cx="4676760" cy="510120"/>
            <a:chOff x="2237400" y="1284120"/>
            <a:chExt cx="4676760" cy="510120"/>
          </a:xfrm>
        </p:grpSpPr>
        <p:sp>
          <p:nvSpPr>
            <p:cNvPr id="255" name=""/>
            <p:cNvSpPr/>
            <p:nvPr/>
          </p:nvSpPr>
          <p:spPr>
            <a:xfrm>
              <a:off x="2237400" y="128412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3787560" y="1460160"/>
              <a:ext cx="609840" cy="152280"/>
              <a:chOff x="3787560" y="1460160"/>
              <a:chExt cx="609840" cy="15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3787920" y="1460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787560" y="1612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" name=""/>
          <p:cNvGrpSpPr/>
          <p:nvPr/>
        </p:nvGrpSpPr>
        <p:grpSpPr>
          <a:xfrm>
            <a:off x="1347480" y="2422440"/>
            <a:ext cx="2455560" cy="914760"/>
            <a:chOff x="1347480" y="2422440"/>
            <a:chExt cx="2455560" cy="914760"/>
          </a:xfrm>
        </p:grpSpPr>
        <p:grpSp>
          <p:nvGrpSpPr>
            <p:cNvPr id="260" name=""/>
            <p:cNvGrpSpPr/>
            <p:nvPr/>
          </p:nvGrpSpPr>
          <p:grpSpPr>
            <a:xfrm>
              <a:off x="1347480" y="2566800"/>
              <a:ext cx="735480" cy="583200"/>
              <a:chOff x="1347480" y="2566800"/>
              <a:chExt cx="735480" cy="583200"/>
            </a:xfrm>
          </p:grpSpPr>
          <p:sp>
            <p:nvSpPr>
              <p:cNvPr id="261" name=""/>
              <p:cNvSpPr/>
              <p:nvPr/>
            </p:nvSpPr>
            <p:spPr>
              <a:xfrm>
                <a:off x="1347480" y="263988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48000" y="25668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098440" y="2422440"/>
              <a:ext cx="1704600" cy="914760"/>
              <a:chOff x="2098440" y="2422440"/>
              <a:chExt cx="1704600" cy="914760"/>
            </a:xfrm>
          </p:grpSpPr>
          <p:sp>
            <p:nvSpPr>
              <p:cNvPr id="264" name=""/>
              <p:cNvSpPr/>
              <p:nvPr/>
            </p:nvSpPr>
            <p:spPr>
              <a:xfrm>
                <a:off x="2098440" y="2422440"/>
                <a:ext cx="1704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[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302920" y="282708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74400" y="2854080"/>
                <a:ext cx="153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"/>
          <p:cNvSpPr/>
          <p:nvPr/>
        </p:nvSpPr>
        <p:spPr>
          <a:xfrm>
            <a:off x="5036400" y="2422440"/>
            <a:ext cx="2966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CaO]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38240" y="4008600"/>
            <a:ext cx="1896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[C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832120" y="3790800"/>
            <a:ext cx="2249640" cy="864360"/>
            <a:chOff x="2832120" y="3790800"/>
            <a:chExt cx="2249640" cy="864360"/>
          </a:xfrm>
        </p:grpSpPr>
        <p:grpSp>
          <p:nvGrpSpPr>
            <p:cNvPr id="270" name=""/>
            <p:cNvGrpSpPr/>
            <p:nvPr/>
          </p:nvGrpSpPr>
          <p:grpSpPr>
            <a:xfrm>
              <a:off x="2832120" y="3935160"/>
              <a:ext cx="709560" cy="582840"/>
              <a:chOff x="2832120" y="3935160"/>
              <a:chExt cx="709560" cy="582840"/>
            </a:xfrm>
          </p:grpSpPr>
          <p:sp>
            <p:nvSpPr>
              <p:cNvPr id="271" name=""/>
              <p:cNvSpPr/>
              <p:nvPr/>
            </p:nvSpPr>
            <p:spPr>
              <a:xfrm>
                <a:off x="2832120" y="4007880"/>
                <a:ext cx="709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32280" y="393516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3541680" y="3790800"/>
              <a:ext cx="1540080" cy="864360"/>
              <a:chOff x="3541680" y="3790800"/>
              <a:chExt cx="1540080" cy="864360"/>
            </a:xfrm>
          </p:grpSpPr>
          <p:sp>
            <p:nvSpPr>
              <p:cNvPr id="274" name=""/>
              <p:cNvSpPr/>
              <p:nvPr/>
            </p:nvSpPr>
            <p:spPr>
              <a:xfrm>
                <a:off x="3669120" y="3790800"/>
                <a:ext cx="1296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C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828240" y="4195440"/>
                <a:ext cx="977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aO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41680" y="4222440"/>
                <a:ext cx="1540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6469560" y="4014720"/>
            <a:ext cx="1413720" cy="564480"/>
            <a:chOff x="6469560" y="4014720"/>
            <a:chExt cx="1413720" cy="564480"/>
          </a:xfrm>
        </p:grpSpPr>
        <p:sp>
          <p:nvSpPr>
            <p:cNvPr id="278" name=""/>
            <p:cNvSpPr/>
            <p:nvPr/>
          </p:nvSpPr>
          <p:spPr>
            <a:xfrm>
              <a:off x="6469560" y="4014720"/>
              <a:ext cx="1299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89880" y="42418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17680" y="5429160"/>
            <a:ext cx="816912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oncentración de sólidos y líquidos puros no se considera en la expresión para la constante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89320" y="1320840"/>
            <a:ext cx="3619440" cy="457200"/>
            <a:chOff x="3289320" y="1320840"/>
            <a:chExt cx="3619440" cy="457200"/>
          </a:xfrm>
        </p:grpSpPr>
        <p:sp>
          <p:nvSpPr>
            <p:cNvPr id="282" name=""/>
            <p:cNvSpPr/>
            <p:nvPr/>
          </p:nvSpPr>
          <p:spPr>
            <a:xfrm>
              <a:off x="328932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4368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1560" y="1320840"/>
              <a:ext cx="45720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rcRect l="0" t="0" r="0" b="7335"/>
          <a:stretch/>
        </p:blipFill>
        <p:spPr>
          <a:xfrm>
            <a:off x="609480" y="1082520"/>
            <a:ext cx="7925040" cy="333720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3844440" y="4808520"/>
            <a:ext cx="804960" cy="564480"/>
            <a:chOff x="3844440" y="4808520"/>
            <a:chExt cx="804960" cy="564480"/>
          </a:xfrm>
        </p:grpSpPr>
        <p:sp>
          <p:nvSpPr>
            <p:cNvPr id="287" name=""/>
            <p:cNvSpPr/>
            <p:nvPr/>
          </p:nvSpPr>
          <p:spPr>
            <a:xfrm>
              <a:off x="3844440" y="4808520"/>
              <a:ext cx="64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56000" y="50356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52920" y="480852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232720" y="152280"/>
            <a:ext cx="4676760" cy="510120"/>
            <a:chOff x="2232720" y="152280"/>
            <a:chExt cx="4676760" cy="510120"/>
          </a:xfrm>
        </p:grpSpPr>
        <p:sp>
          <p:nvSpPr>
            <p:cNvPr id="291" name=""/>
            <p:cNvSpPr/>
            <p:nvPr/>
          </p:nvSpPr>
          <p:spPr>
            <a:xfrm>
              <a:off x="2232720" y="152280"/>
              <a:ext cx="4676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Ca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782880" y="328320"/>
              <a:ext cx="609840" cy="152280"/>
              <a:chOff x="3782880" y="328320"/>
              <a:chExt cx="609840" cy="152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783240" y="328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3782880" y="480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1012320" y="5456160"/>
            <a:ext cx="6963840" cy="564120"/>
            <a:chOff x="1012320" y="5456160"/>
            <a:chExt cx="6963840" cy="564120"/>
          </a:xfrm>
        </p:grpSpPr>
        <p:grpSp>
          <p:nvGrpSpPr>
            <p:cNvPr id="296" name=""/>
            <p:cNvGrpSpPr/>
            <p:nvPr/>
          </p:nvGrpSpPr>
          <p:grpSpPr>
            <a:xfrm>
              <a:off x="1012320" y="5456160"/>
              <a:ext cx="804960" cy="564120"/>
              <a:chOff x="1012320" y="5456160"/>
              <a:chExt cx="804960" cy="564120"/>
            </a:xfrm>
          </p:grpSpPr>
          <p:sp>
            <p:nvSpPr>
              <p:cNvPr id="297" name=""/>
              <p:cNvSpPr/>
              <p:nvPr/>
            </p:nvSpPr>
            <p:spPr>
              <a:xfrm>
                <a:off x="1012320" y="5456160"/>
                <a:ext cx="648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23880" y="5682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701000" y="5473440"/>
              <a:ext cx="6275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 depende de la cantidad de: CaC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o Ca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68360" y="287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el siguiente equilibrio a 295 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presión parcial de cada gas es de 0.265 atm. Calcular Kp y Kc par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352240" y="1052640"/>
            <a:ext cx="4582080" cy="510120"/>
            <a:chOff x="2352240" y="1052640"/>
            <a:chExt cx="4582080" cy="510120"/>
          </a:xfrm>
        </p:grpSpPr>
        <p:sp>
          <p:nvSpPr>
            <p:cNvPr id="302" name=""/>
            <p:cNvSpPr/>
            <p:nvPr/>
          </p:nvSpPr>
          <p:spPr>
            <a:xfrm>
              <a:off x="2352240" y="1052640"/>
              <a:ext cx="4582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S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917520" y="1229040"/>
              <a:ext cx="609840" cy="152280"/>
              <a:chOff x="3917520" y="1229040"/>
              <a:chExt cx="609840" cy="152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917880" y="122904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917520" y="1381320"/>
                <a:ext cx="60948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1760040" y="3019320"/>
            <a:ext cx="1918080" cy="596160"/>
            <a:chOff x="1760040" y="3019320"/>
            <a:chExt cx="1918080" cy="596160"/>
          </a:xfrm>
        </p:grpSpPr>
        <p:sp>
          <p:nvSpPr>
            <p:cNvPr id="307" name=""/>
            <p:cNvSpPr/>
            <p:nvPr/>
          </p:nvSpPr>
          <p:spPr>
            <a:xfrm>
              <a:off x="1760040" y="3020760"/>
              <a:ext cx="1033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 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0960" y="3209760"/>
              <a:ext cx="58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959200" y="3019320"/>
              <a:ext cx="718920" cy="581760"/>
              <a:chOff x="2959200" y="3019320"/>
              <a:chExt cx="718920" cy="581760"/>
            </a:xfrm>
          </p:grpSpPr>
          <p:sp>
            <p:nvSpPr>
              <p:cNvPr id="310" name=""/>
              <p:cNvSpPr/>
              <p:nvPr/>
            </p:nvSpPr>
            <p:spPr>
              <a:xfrm>
                <a:off x="3107520" y="3195360"/>
                <a:ext cx="5706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0" lang="es-MX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59200" y="3019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>
            <a:off x="3598200" y="301932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0.265 x 0.265 = 0.0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92080" y="4076640"/>
            <a:ext cx="19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i="1" lang="es-MX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44040" y="4762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 – 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965120" y="4762440"/>
            <a:ext cx="15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295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60320" y="5448240"/>
            <a:ext cx="596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0.0702 x (0.0821 x 295)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2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528120" y="380880"/>
            <a:ext cx="2576520" cy="459720"/>
            <a:chOff x="528120" y="380880"/>
            <a:chExt cx="2576520" cy="459720"/>
          </a:xfrm>
        </p:grpSpPr>
        <p:sp>
          <p:nvSpPr>
            <p:cNvPr id="318" name=""/>
            <p:cNvSpPr/>
            <p:nvPr/>
          </p:nvSpPr>
          <p:spPr>
            <a:xfrm>
              <a:off x="528120" y="380880"/>
              <a:ext cx="25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C + 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485720" y="533520"/>
              <a:ext cx="609840" cy="152280"/>
              <a:chOff x="1485720" y="533520"/>
              <a:chExt cx="609840" cy="152280"/>
            </a:xfrm>
          </p:grpSpPr>
          <p:sp>
            <p:nvSpPr>
              <p:cNvPr id="320" name=""/>
              <p:cNvSpPr/>
              <p:nvPr/>
            </p:nvSpPr>
            <p:spPr>
              <a:xfrm>
                <a:off x="1486080" y="5335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1485720" y="685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527760" y="1214280"/>
            <a:ext cx="2559600" cy="459720"/>
            <a:chOff x="527760" y="1214280"/>
            <a:chExt cx="2559600" cy="459720"/>
          </a:xfrm>
        </p:grpSpPr>
        <p:sp>
          <p:nvSpPr>
            <p:cNvPr id="323" name=""/>
            <p:cNvSpPr/>
            <p:nvPr/>
          </p:nvSpPr>
          <p:spPr>
            <a:xfrm>
              <a:off x="527760" y="1214280"/>
              <a:ext cx="255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D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485720" y="1366920"/>
              <a:ext cx="609840" cy="152280"/>
              <a:chOff x="1485720" y="1366920"/>
              <a:chExt cx="609840" cy="152280"/>
            </a:xfrm>
          </p:grpSpPr>
          <p:sp>
            <p:nvSpPr>
              <p:cNvPr id="325" name=""/>
              <p:cNvSpPr/>
              <p:nvPr/>
            </p:nvSpPr>
            <p:spPr>
              <a:xfrm>
                <a:off x="1486080" y="1366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1485720" y="1519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 flipH="1">
            <a:off x="2133720" y="4572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33520" y="1290600"/>
            <a:ext cx="3808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666520" y="4572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066320" y="1290600"/>
            <a:ext cx="38124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9591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7040" y="2035080"/>
            <a:ext cx="2526120" cy="459720"/>
            <a:chOff x="527040" y="2035080"/>
            <a:chExt cx="2526120" cy="459720"/>
          </a:xfrm>
        </p:grpSpPr>
        <p:sp>
          <p:nvSpPr>
            <p:cNvPr id="333" name=""/>
            <p:cNvSpPr/>
            <p:nvPr/>
          </p:nvSpPr>
          <p:spPr>
            <a:xfrm>
              <a:off x="527040" y="203508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B          E +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485720" y="2187720"/>
              <a:ext cx="609840" cy="152280"/>
              <a:chOff x="1485720" y="2187720"/>
              <a:chExt cx="609840" cy="152280"/>
            </a:xfrm>
          </p:grpSpPr>
          <p:sp>
            <p:nvSpPr>
              <p:cNvPr id="335" name=""/>
              <p:cNvSpPr/>
              <p:nvPr/>
            </p:nvSpPr>
            <p:spPr>
              <a:xfrm>
                <a:off x="1486080" y="218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1485720" y="234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4960440" y="152280"/>
            <a:ext cx="1623600" cy="864360"/>
            <a:chOff x="4960440" y="152280"/>
            <a:chExt cx="1623600" cy="864360"/>
          </a:xfrm>
        </p:grpSpPr>
        <p:grpSp>
          <p:nvGrpSpPr>
            <p:cNvPr id="338" name=""/>
            <p:cNvGrpSpPr/>
            <p:nvPr/>
          </p:nvGrpSpPr>
          <p:grpSpPr>
            <a:xfrm>
              <a:off x="4960440" y="296640"/>
              <a:ext cx="735480" cy="583200"/>
              <a:chOff x="4960440" y="296640"/>
              <a:chExt cx="735480" cy="583200"/>
            </a:xfrm>
          </p:grpSpPr>
          <p:sp>
            <p:nvSpPr>
              <p:cNvPr id="339" name=""/>
              <p:cNvSpPr/>
              <p:nvPr/>
            </p:nvSpPr>
            <p:spPr>
              <a:xfrm>
                <a:off x="4960440" y="369720"/>
                <a:ext cx="73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160960" y="29664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623200" y="152280"/>
              <a:ext cx="960840" cy="864360"/>
              <a:chOff x="5623200" y="152280"/>
              <a:chExt cx="960840" cy="864360"/>
            </a:xfrm>
          </p:grpSpPr>
          <p:sp>
            <p:nvSpPr>
              <p:cNvPr id="342" name=""/>
              <p:cNvSpPr/>
              <p:nvPr/>
            </p:nvSpPr>
            <p:spPr>
              <a:xfrm>
                <a:off x="5623200" y="15228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641560" y="55692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730480" y="58392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4982760" y="1054080"/>
            <a:ext cx="1604520" cy="864360"/>
            <a:chOff x="4982760" y="1054080"/>
            <a:chExt cx="1604520" cy="864360"/>
          </a:xfrm>
        </p:grpSpPr>
        <p:sp>
          <p:nvSpPr>
            <p:cNvPr id="346" name=""/>
            <p:cNvSpPr/>
            <p:nvPr/>
          </p:nvSpPr>
          <p:spPr>
            <a:xfrm>
              <a:off x="4982760" y="1269720"/>
              <a:ext cx="73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83280" y="119664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3760" y="119196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5626440" y="1054080"/>
              <a:ext cx="960840" cy="864360"/>
              <a:chOff x="5626440" y="1054080"/>
              <a:chExt cx="960840" cy="864360"/>
            </a:xfrm>
          </p:grpSpPr>
          <p:sp>
            <p:nvSpPr>
              <p:cNvPr id="350" name=""/>
              <p:cNvSpPr/>
              <p:nvPr/>
            </p:nvSpPr>
            <p:spPr>
              <a:xfrm>
                <a:off x="5647320" y="105408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26440" y="1458720"/>
                <a:ext cx="96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[D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30480" y="148572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2203920" y="3068640"/>
            <a:ext cx="1612440" cy="864360"/>
            <a:chOff x="2203920" y="3068640"/>
            <a:chExt cx="1612440" cy="864360"/>
          </a:xfrm>
        </p:grpSpPr>
        <p:grpSp>
          <p:nvGrpSpPr>
            <p:cNvPr id="354" name=""/>
            <p:cNvGrpSpPr/>
            <p:nvPr/>
          </p:nvGrpSpPr>
          <p:grpSpPr>
            <a:xfrm>
              <a:off x="2889000" y="3068640"/>
              <a:ext cx="927360" cy="864360"/>
              <a:chOff x="2889000" y="3068640"/>
              <a:chExt cx="927360" cy="864360"/>
            </a:xfrm>
          </p:grpSpPr>
          <p:sp>
            <p:nvSpPr>
              <p:cNvPr id="355" name=""/>
              <p:cNvSpPr/>
              <p:nvPr/>
            </p:nvSpPr>
            <p:spPr>
              <a:xfrm>
                <a:off x="2895120" y="3068640"/>
                <a:ext cx="91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E][F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889000" y="3473280"/>
                <a:ext cx="92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[B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77920" y="3500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203920" y="327024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396960" y="304920"/>
            <a:ext cx="557280" cy="582840"/>
            <a:chOff x="3396960" y="304920"/>
            <a:chExt cx="557280" cy="582840"/>
          </a:xfrm>
        </p:grpSpPr>
        <p:sp>
          <p:nvSpPr>
            <p:cNvPr id="360" name=""/>
            <p:cNvSpPr/>
            <p:nvPr/>
          </p:nvSpPr>
          <p:spPr>
            <a:xfrm>
              <a:off x="3396960" y="37764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97480" y="30492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96960" y="1130400"/>
            <a:ext cx="557280" cy="587880"/>
            <a:chOff x="3396960" y="1130400"/>
            <a:chExt cx="557280" cy="587880"/>
          </a:xfrm>
        </p:grpSpPr>
        <p:sp>
          <p:nvSpPr>
            <p:cNvPr id="363" name=""/>
            <p:cNvSpPr/>
            <p:nvPr/>
          </p:nvSpPr>
          <p:spPr>
            <a:xfrm>
              <a:off x="3396960" y="120816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760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94240" y="11304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399120" y="20098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45760" y="3213000"/>
            <a:ext cx="1894320" cy="587880"/>
            <a:chOff x="5045760" y="3213000"/>
            <a:chExt cx="1894320" cy="587880"/>
          </a:xfrm>
        </p:grpSpPr>
        <p:sp>
          <p:nvSpPr>
            <p:cNvPr id="368" name=""/>
            <p:cNvSpPr/>
            <p:nvPr/>
          </p:nvSpPr>
          <p:spPr>
            <a:xfrm>
              <a:off x="5045760" y="3290760"/>
              <a:ext cx="82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382800" y="3213000"/>
              <a:ext cx="557280" cy="587880"/>
              <a:chOff x="6382800" y="3213000"/>
              <a:chExt cx="557280" cy="587880"/>
            </a:xfrm>
          </p:grpSpPr>
          <p:sp>
            <p:nvSpPr>
              <p:cNvPr id="370" name=""/>
              <p:cNvSpPr/>
              <p:nvPr/>
            </p:nvSpPr>
            <p:spPr>
              <a:xfrm>
                <a:off x="6382800" y="329076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64344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8008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784480" y="3213000"/>
              <a:ext cx="557280" cy="582840"/>
              <a:chOff x="5784480" y="3213000"/>
              <a:chExt cx="557280" cy="582840"/>
            </a:xfrm>
          </p:grpSpPr>
          <p:sp>
            <p:nvSpPr>
              <p:cNvPr id="374" name=""/>
              <p:cNvSpPr/>
              <p:nvPr/>
            </p:nvSpPr>
            <p:spPr>
              <a:xfrm>
                <a:off x="5784480" y="3285720"/>
                <a:ext cx="557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85000" y="3213000"/>
                <a:ext cx="27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3200" spc="-1" strike="noStrike">
                    <a:solidFill>
                      <a:srgbClr val="000000"/>
                    </a:solidFill>
                    <a:latin typeface="Arial"/>
                  </a:rPr>
                  <a:t>‘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6148440" y="328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24000" y="432432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as reacciones, la constante de equilibrio de toda la reacción está dada por el producto de las constantes de equilibrio de cad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604440" y="988920"/>
            <a:ext cx="3210480" cy="510120"/>
            <a:chOff x="604440" y="988920"/>
            <a:chExt cx="3210480" cy="510120"/>
          </a:xfrm>
        </p:grpSpPr>
        <p:sp>
          <p:nvSpPr>
            <p:cNvPr id="379" name=""/>
            <p:cNvSpPr/>
            <p:nvPr/>
          </p:nvSpPr>
          <p:spPr>
            <a:xfrm>
              <a:off x="604440" y="988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0476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90440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57560" y="1973160"/>
            <a:ext cx="3407040" cy="1003680"/>
            <a:chOff x="457560" y="1973160"/>
            <a:chExt cx="3407040" cy="1003680"/>
          </a:xfrm>
        </p:grpSpPr>
        <p:sp>
          <p:nvSpPr>
            <p:cNvPr id="383" name=""/>
            <p:cNvSpPr/>
            <p:nvPr/>
          </p:nvSpPr>
          <p:spPr>
            <a:xfrm>
              <a:off x="2007720" y="2226960"/>
              <a:ext cx="185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 4.63 x 10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57560" y="1973160"/>
              <a:ext cx="1582200" cy="1003680"/>
              <a:chOff x="457560" y="1973160"/>
              <a:chExt cx="1582200" cy="1003680"/>
            </a:xfrm>
          </p:grpSpPr>
          <p:sp>
            <p:nvSpPr>
              <p:cNvPr id="385" name=""/>
              <p:cNvSpPr/>
              <p:nvPr/>
            </p:nvSpPr>
            <p:spPr>
              <a:xfrm>
                <a:off x="457560" y="2228400"/>
                <a:ext cx="73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1033200" y="1973160"/>
                <a:ext cx="1006560" cy="1003680"/>
                <a:chOff x="1033200" y="1973160"/>
                <a:chExt cx="1006560" cy="10036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033200" y="197316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s-MX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033200" y="2466720"/>
                  <a:ext cx="10065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[N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s-MX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s-MX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17440" y="2447640"/>
                  <a:ext cx="838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90" name=""/>
          <p:cNvGrpSpPr/>
          <p:nvPr/>
        </p:nvGrpSpPr>
        <p:grpSpPr>
          <a:xfrm>
            <a:off x="5194080" y="988920"/>
            <a:ext cx="3210120" cy="510120"/>
            <a:chOff x="5194080" y="988920"/>
            <a:chExt cx="3210120" cy="510120"/>
          </a:xfrm>
        </p:grpSpPr>
        <p:sp>
          <p:nvSpPr>
            <p:cNvPr id="391" name=""/>
            <p:cNvSpPr/>
            <p:nvPr/>
          </p:nvSpPr>
          <p:spPr>
            <a:xfrm>
              <a:off x="5194080" y="988920"/>
              <a:ext cx="321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94040" y="115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4936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029200" y="1973160"/>
            <a:ext cx="1662120" cy="1004040"/>
            <a:chOff x="5029200" y="1973160"/>
            <a:chExt cx="1662120" cy="1004040"/>
          </a:xfrm>
        </p:grpSpPr>
        <p:sp>
          <p:nvSpPr>
            <p:cNvPr id="395" name=""/>
            <p:cNvSpPr/>
            <p:nvPr/>
          </p:nvSpPr>
          <p:spPr>
            <a:xfrm>
              <a:off x="5029200" y="2228760"/>
              <a:ext cx="81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5684760" y="1973160"/>
              <a:ext cx="1006560" cy="1004040"/>
              <a:chOff x="5684760" y="1973160"/>
              <a:chExt cx="1006560" cy="1004040"/>
            </a:xfrm>
          </p:grpSpPr>
          <p:sp>
            <p:nvSpPr>
              <p:cNvPr id="397" name=""/>
              <p:cNvSpPr/>
              <p:nvPr/>
            </p:nvSpPr>
            <p:spPr>
              <a:xfrm>
                <a:off x="5684760" y="197316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84760" y="2467080"/>
                <a:ext cx="10065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769000" y="2448000"/>
                <a:ext cx="83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5247000" y="2125800"/>
              <a:ext cx="27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6627600" y="2011320"/>
            <a:ext cx="763920" cy="866160"/>
            <a:chOff x="6627600" y="2011320"/>
            <a:chExt cx="763920" cy="866160"/>
          </a:xfrm>
        </p:grpSpPr>
        <p:sp>
          <p:nvSpPr>
            <p:cNvPr id="402" name=""/>
            <p:cNvSpPr/>
            <p:nvPr/>
          </p:nvSpPr>
          <p:spPr>
            <a:xfrm>
              <a:off x="6627600" y="2229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934320" y="2011320"/>
              <a:ext cx="457200" cy="866160"/>
              <a:chOff x="6934320" y="2011320"/>
              <a:chExt cx="457200" cy="866160"/>
            </a:xfrm>
          </p:grpSpPr>
          <p:sp>
            <p:nvSpPr>
              <p:cNvPr id="404" name=""/>
              <p:cNvSpPr/>
              <p:nvPr/>
            </p:nvSpPr>
            <p:spPr>
              <a:xfrm>
                <a:off x="6988680" y="2011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34320" y="2442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71040" y="24177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4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7" name=""/>
          <p:cNvSpPr/>
          <p:nvPr/>
        </p:nvSpPr>
        <p:spPr>
          <a:xfrm>
            <a:off x="7415280" y="22273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 2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5280" y="4076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la ecuación de una reacción reversible está escrita en dirección opuesta, la constante de equilibrio se convierte en el recíproco de la constante de equilibrio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416600" y="228600"/>
            <a:ext cx="63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resiones de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838080"/>
            <a:ext cx="868680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as especies en reacción en la fase condensada se expresan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.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la fase gaseosa, las concentraciones pueden ser expresadas en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o en a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concentraciones de los sólidos puros, líquidos puros y solventes no aparecen en las expresiones de constante de equilibr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constante de equilibrio es una cantidad sin dimens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l calcular el valor de la constante de equilibrio, se debe especificar la ecuación balanceada y la temperatu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reacción puede ser expresada como la suma de dos o más reacciones, la constante de equilibrio para toda la reacción está determinada por el producto de las constantes de equilibrio de cada una de las reac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1187280" y="3819600"/>
          <a:ext cx="7129800" cy="30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819600"/>
                    <a:ext cx="71298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380880" y="766800"/>
            <a:ext cx="83822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ciente de una reac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calcula sustituyendo las concentraciones iniciales de los reactantes y productos en la expresión de la constante de equilibrio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1946160"/>
            <a:ext cx="829944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izquierda a derech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sistema se encuentr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 algn="just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Qc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procede de derecha a izquierda para alcanzar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5280" y="235080"/>
            <a:ext cx="864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gnificado del valor numérico de una constante de equilib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000" y="380880"/>
            <a:ext cx="85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estado en el cual no se observan cambios a medida que transcurr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341360"/>
            <a:ext cx="85881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alcanza cuan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reactivos se transforman en productos con la misma velocidad que los productos vuelven a transformarse en reac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 los reactivos y productos permanecen constan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59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ilibrio Quí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nám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se establece debido a la igualdad de la velocidad con que ocurren dos procesos o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99960" y="243000"/>
            <a:ext cx="65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álculo de concentracion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" y="1371600"/>
            <a:ext cx="8686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xpresar las concentraciones, presiones parciales, o número de moles de equilibrio de todas las especies en términos de las cantidades iniciales y como una incógnita x, que representa el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cribir la expresión de la constante de equilibrio en términos de las concentrac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c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o de las presiones (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p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 de equilibrio. Sabiendo el valor de la constante de equilibrio, despejar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eniendo el valor de x, calcular las concentraciones de equilibrio de todas las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152280" y="152280"/>
          <a:ext cx="670572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705720" cy="3872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2781360" y="5486400"/>
          <a:ext cx="32004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81360" y="5486400"/>
                    <a:ext cx="320040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52280" y="4219560"/>
          <a:ext cx="323856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19560"/>
                    <a:ext cx="3238560" cy="11048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7086600" y="152280"/>
          <a:ext cx="1752480" cy="96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52280"/>
                    <a:ext cx="1752480" cy="96048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7086600" y="1295280"/>
          <a:ext cx="1752480" cy="944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752480" cy="9446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619440" y="4219560"/>
          <a:ext cx="4724640" cy="1114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19440" y="4219560"/>
                    <a:ext cx="4724640" cy="1114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6172200" y="5486400"/>
          <a:ext cx="2819520" cy="114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5486400"/>
                    <a:ext cx="2819520" cy="11430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152280" y="5486400"/>
          <a:ext cx="2446560" cy="1150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52280" y="5486400"/>
                    <a:ext cx="2446560" cy="11509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789120" y="244440"/>
            <a:ext cx="81802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128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 la constante de 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ara la re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1.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 Si las concentraciones iniciales son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[Br] = 0.01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alcular las concentraciones de estas especies en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025800" y="812880"/>
            <a:ext cx="3151440" cy="440640"/>
            <a:chOff x="3025800" y="812880"/>
            <a:chExt cx="3151440" cy="440640"/>
          </a:xfrm>
        </p:grpSpPr>
        <p:sp>
          <p:nvSpPr>
            <p:cNvPr id="437" name=""/>
            <p:cNvSpPr/>
            <p:nvPr/>
          </p:nvSpPr>
          <p:spPr>
            <a:xfrm>
              <a:off x="3025800" y="812880"/>
              <a:ext cx="3151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4108320" y="928440"/>
              <a:ext cx="609120" cy="152280"/>
              <a:chOff x="4108320" y="928440"/>
              <a:chExt cx="609120" cy="152280"/>
            </a:xfrm>
          </p:grpSpPr>
          <p:sp>
            <p:nvSpPr>
              <p:cNvPr id="439" name=""/>
              <p:cNvSpPr/>
              <p:nvPr/>
            </p:nvSpPr>
            <p:spPr>
              <a:xfrm>
                <a:off x="4108320" y="92844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4108320" y="1080720"/>
                <a:ext cx="60912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2881440" y="3062160"/>
            <a:ext cx="3852720" cy="440640"/>
            <a:chOff x="2881440" y="3062160"/>
            <a:chExt cx="3852720" cy="440640"/>
          </a:xfrm>
        </p:grpSpPr>
        <p:sp>
          <p:nvSpPr>
            <p:cNvPr id="442" name=""/>
            <p:cNvSpPr/>
            <p:nvPr/>
          </p:nvSpPr>
          <p:spPr>
            <a:xfrm>
              <a:off x="2881440" y="3062160"/>
              <a:ext cx="3852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2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069800" y="3178080"/>
              <a:ext cx="609840" cy="152280"/>
              <a:chOff x="4069800" y="3178080"/>
              <a:chExt cx="609840" cy="152280"/>
            </a:xfrm>
          </p:grpSpPr>
          <p:sp>
            <p:nvSpPr>
              <p:cNvPr id="444" name=""/>
              <p:cNvSpPr/>
              <p:nvPr/>
            </p:nvSpPr>
            <p:spPr>
              <a:xfrm>
                <a:off x="4070160" y="3178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4069800" y="333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779400" y="2492280"/>
            <a:ext cx="666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jamos 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el cambio en la concentración de 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05120" y="357336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53640" y="410688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54360" y="464040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91204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02880" y="3573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65840" y="41068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33920" y="410688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99640" y="464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63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067720" y="464040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55600" y="5372280"/>
            <a:ext cx="1538280" cy="845280"/>
            <a:chOff x="255600" y="5372280"/>
            <a:chExt cx="1538280" cy="845280"/>
          </a:xfrm>
        </p:grpSpPr>
        <p:grpSp>
          <p:nvGrpSpPr>
            <p:cNvPr id="457" name=""/>
            <p:cNvGrpSpPr/>
            <p:nvPr/>
          </p:nvGrpSpPr>
          <p:grpSpPr>
            <a:xfrm>
              <a:off x="1031760" y="5372280"/>
              <a:ext cx="762120" cy="845280"/>
              <a:chOff x="1031760" y="5372280"/>
              <a:chExt cx="762120" cy="845280"/>
            </a:xfrm>
          </p:grpSpPr>
          <p:sp>
            <p:nvSpPr>
              <p:cNvPr id="458" name=""/>
              <p:cNvSpPr/>
              <p:nvPr/>
            </p:nvSpPr>
            <p:spPr>
              <a:xfrm>
                <a:off x="1074600" y="5372280"/>
                <a:ext cx="65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]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77480" y="5776920"/>
                <a:ext cx="658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31760" y="5756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55600" y="557352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237040" y="5348160"/>
            <a:ext cx="3972240" cy="828720"/>
            <a:chOff x="2237040" y="5348160"/>
            <a:chExt cx="3972240" cy="828720"/>
          </a:xfrm>
        </p:grpSpPr>
        <p:sp>
          <p:nvSpPr>
            <p:cNvPr id="463" name=""/>
            <p:cNvSpPr/>
            <p:nvPr/>
          </p:nvSpPr>
          <p:spPr>
            <a:xfrm>
              <a:off x="2237040" y="557676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2922840" y="5348160"/>
              <a:ext cx="1839600" cy="828720"/>
              <a:chOff x="2922840" y="5348160"/>
              <a:chExt cx="1839600" cy="828720"/>
            </a:xfrm>
          </p:grpSpPr>
          <p:sp>
            <p:nvSpPr>
              <p:cNvPr id="465" name=""/>
              <p:cNvSpPr/>
              <p:nvPr/>
            </p:nvSpPr>
            <p:spPr>
              <a:xfrm>
                <a:off x="2922840" y="5348160"/>
                <a:ext cx="16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201120" y="5778000"/>
                <a:ext cx="117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009600" y="574488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4772880" y="557532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880320" y="5452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“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”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459000" y="352440"/>
            <a:ext cx="3972240" cy="828720"/>
            <a:chOff x="459000" y="352440"/>
            <a:chExt cx="3972240" cy="828720"/>
          </a:xfrm>
        </p:grpSpPr>
        <p:sp>
          <p:nvSpPr>
            <p:cNvPr id="471" name=""/>
            <p:cNvSpPr/>
            <p:nvPr/>
          </p:nvSpPr>
          <p:spPr>
            <a:xfrm>
              <a:off x="459000" y="581040"/>
              <a:ext cx="713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144800" y="352440"/>
              <a:ext cx="1839600" cy="828720"/>
              <a:chOff x="1144800" y="352440"/>
              <a:chExt cx="1839600" cy="828720"/>
            </a:xfrm>
          </p:grpSpPr>
          <p:sp>
            <p:nvSpPr>
              <p:cNvPr id="473" name=""/>
              <p:cNvSpPr/>
              <p:nvPr/>
            </p:nvSpPr>
            <p:spPr>
              <a:xfrm>
                <a:off x="1144800" y="352440"/>
                <a:ext cx="1770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(0.012 + 2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23080" y="782280"/>
                <a:ext cx="124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63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31560" y="749160"/>
                <a:ext cx="175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" name=""/>
            <p:cNvSpPr/>
            <p:nvPr/>
          </p:nvSpPr>
          <p:spPr>
            <a:xfrm>
              <a:off x="2994840" y="5796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1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439560" y="1177920"/>
            <a:ext cx="56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8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144 = 0.0000693 – 0.001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2800" y="1635120"/>
            <a:ext cx="36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491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0.0000747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57080" y="2244600"/>
            <a:ext cx="18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034320" y="1925640"/>
            <a:ext cx="2709000" cy="929520"/>
            <a:chOff x="6034320" y="1925640"/>
            <a:chExt cx="2709000" cy="929520"/>
          </a:xfrm>
        </p:grpSpPr>
        <p:sp>
          <p:nvSpPr>
            <p:cNvPr id="481" name=""/>
            <p:cNvSpPr/>
            <p:nvPr/>
          </p:nvSpPr>
          <p:spPr>
            <a:xfrm>
              <a:off x="6598080" y="2041560"/>
              <a:ext cx="21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  b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4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47440" y="1925640"/>
              <a:ext cx="3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85120" y="200160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80160" y="2446200"/>
              <a:ext cx="198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10960" y="2395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34320" y="2217600"/>
              <a:ext cx="68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-38880" y="3429000"/>
            <a:ext cx="6795720" cy="1999080"/>
            <a:chOff x="-38880" y="3429000"/>
            <a:chExt cx="6795720" cy="1999080"/>
          </a:xfrm>
        </p:grpSpPr>
        <p:grpSp>
          <p:nvGrpSpPr>
            <p:cNvPr id="488" name=""/>
            <p:cNvGrpSpPr/>
            <p:nvPr/>
          </p:nvGrpSpPr>
          <p:grpSpPr>
            <a:xfrm>
              <a:off x="2614320" y="3429000"/>
              <a:ext cx="3852360" cy="440640"/>
              <a:chOff x="2614320" y="3429000"/>
              <a:chExt cx="3852360" cy="440640"/>
            </a:xfrm>
          </p:grpSpPr>
          <p:sp>
            <p:nvSpPr>
              <p:cNvPr id="489" name=""/>
              <p:cNvSpPr/>
              <p:nvPr/>
            </p:nvSpPr>
            <p:spPr>
              <a:xfrm>
                <a:off x="2614320" y="3429000"/>
                <a:ext cx="385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Br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                            2Br (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4056840" y="3544920"/>
                <a:ext cx="667440" cy="152280"/>
                <a:chOff x="4056840" y="3544920"/>
                <a:chExt cx="667440" cy="152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056840" y="354492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4056840" y="3697200"/>
                  <a:ext cx="66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3" name=""/>
            <p:cNvSpPr/>
            <p:nvPr/>
          </p:nvSpPr>
          <p:spPr>
            <a:xfrm>
              <a:off x="17280" y="3962160"/>
              <a:ext cx="240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-38880" y="4495680"/>
              <a:ext cx="270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-38520" y="5029200"/>
              <a:ext cx="287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65960" y="3962160"/>
              <a:ext cx="95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35160" y="396216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4424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978800" y="44956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631960" y="5029200"/>
              <a:ext cx="145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63 -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7960" y="5029200"/>
              <a:ext cx="22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12 + 2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525480" y="27608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01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96680" y="2760840"/>
            <a:ext cx="146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-0.01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" y="5749920"/>
            <a:ext cx="496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] = 0.012 + 2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-0.00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41200" y="57499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  0.00844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0488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356000" y="5661000"/>
            <a:ext cx="12193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35200" y="2637000"/>
            <a:ext cx="18288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97600" y="6207120"/>
            <a:ext cx="509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quilibrio, [Br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62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  0.06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1" name=""/>
          <p:cNvGraphicFramePr/>
          <p:nvPr/>
        </p:nvGraphicFramePr>
        <p:xfrm>
          <a:off x="250920" y="228600"/>
          <a:ext cx="871380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28600"/>
                    <a:ext cx="87138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2124000" y="5467320"/>
          <a:ext cx="500076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5467320"/>
                    <a:ext cx="500076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"/>
          <p:cNvGraphicFramePr/>
          <p:nvPr/>
        </p:nvGraphicFramePr>
        <p:xfrm>
          <a:off x="468360" y="404640"/>
          <a:ext cx="8156520" cy="37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156520" cy="37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533520" y="47610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puede ver que l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roxi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ión que el grado de descomposición era muy pequeño, debido al valor pequeño de la constante de equilibrio, era correct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39640" y="9079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ólido-Solu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116000" y="1704960"/>
            <a:ext cx="6912000" cy="44607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895480" y="304920"/>
            <a:ext cx="41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ILIBRIO HETEROGENE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279440" y="439560"/>
            <a:ext cx="66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la solubilidad del cloruro de plata en g/L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765440" y="1197000"/>
            <a:ext cx="4220280" cy="398880"/>
            <a:chOff x="1765440" y="1197000"/>
            <a:chExt cx="4220280" cy="398880"/>
          </a:xfrm>
        </p:grpSpPr>
        <p:sp>
          <p:nvSpPr>
            <p:cNvPr id="523" name=""/>
            <p:cNvSpPr/>
            <p:nvPr/>
          </p:nvSpPr>
          <p:spPr>
            <a:xfrm>
              <a:off x="1765440" y="1197000"/>
              <a:ext cx="422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014280" y="13017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013920" y="1454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6634800" y="211932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131400" y="2043000"/>
            <a:ext cx="1680840" cy="1465560"/>
            <a:chOff x="131400" y="2043000"/>
            <a:chExt cx="1680840" cy="1465560"/>
          </a:xfrm>
        </p:grpSpPr>
        <p:sp>
          <p:nvSpPr>
            <p:cNvPr id="528" name=""/>
            <p:cNvSpPr/>
            <p:nvPr/>
          </p:nvSpPr>
          <p:spPr>
            <a:xfrm>
              <a:off x="182880" y="2043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1400" y="257652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32120" y="310968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408852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7060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34560" y="2043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21320" y="257652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488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79720" y="3110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30480" y="2536920"/>
            <a:ext cx="10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874560" y="2997360"/>
            <a:ext cx="1108440" cy="459360"/>
            <a:chOff x="6874560" y="2997360"/>
            <a:chExt cx="1108440" cy="459360"/>
          </a:xfrm>
        </p:grpSpPr>
        <p:sp>
          <p:nvSpPr>
            <p:cNvPr id="539" name=""/>
            <p:cNvSpPr/>
            <p:nvPr/>
          </p:nvSpPr>
          <p:spPr>
            <a:xfrm>
              <a:off x="6874560" y="3008520"/>
              <a:ext cx="1064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48520" y="3057840"/>
              <a:ext cx="31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9840" y="2997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891480" y="349092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7600" y="4113360"/>
            <a:ext cx="23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62680" y="4111560"/>
            <a:ext cx="22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0840" y="4888080"/>
            <a:ext cx="22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olubilidad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Ag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14160" y="4722840"/>
            <a:ext cx="2657880" cy="765720"/>
            <a:chOff x="2414160" y="4722840"/>
            <a:chExt cx="2657880" cy="765720"/>
          </a:xfrm>
        </p:grpSpPr>
        <p:sp>
          <p:nvSpPr>
            <p:cNvPr id="547" name=""/>
            <p:cNvSpPr/>
            <p:nvPr/>
          </p:nvSpPr>
          <p:spPr>
            <a:xfrm>
              <a:off x="2414160" y="4722840"/>
              <a:ext cx="22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.3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5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mol Ag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50000" y="5089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 L sol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81120" y="508788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071680" y="4722840"/>
            <a:ext cx="2184840" cy="765360"/>
            <a:chOff x="5071680" y="4722840"/>
            <a:chExt cx="2184840" cy="765360"/>
          </a:xfrm>
        </p:grpSpPr>
        <p:grpSp>
          <p:nvGrpSpPr>
            <p:cNvPr id="551" name=""/>
            <p:cNvGrpSpPr/>
            <p:nvPr/>
          </p:nvGrpSpPr>
          <p:grpSpPr>
            <a:xfrm>
              <a:off x="5427720" y="4722840"/>
              <a:ext cx="1828800" cy="765360"/>
              <a:chOff x="5427720" y="4722840"/>
              <a:chExt cx="1828800" cy="765360"/>
            </a:xfrm>
          </p:grpSpPr>
          <p:sp>
            <p:nvSpPr>
              <p:cNvPr id="552" name=""/>
              <p:cNvSpPr/>
              <p:nvPr/>
            </p:nvSpPr>
            <p:spPr>
              <a:xfrm>
                <a:off x="5462640" y="4722840"/>
                <a:ext cx="176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43.35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g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632560" y="508932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mol Ag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7720" y="5087880"/>
                <a:ext cx="182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5071680" y="4900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7242480" y="4911840"/>
            <a:ext cx="18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745080" y="4800240"/>
            <a:ext cx="1295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878440" y="5181120"/>
            <a:ext cx="1295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37680" y="11606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3436920" y="473040"/>
            <a:ext cx="23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ip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4000" y="151776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acciones de precipita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éllas que dan como resultado la formación d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roducto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cipitad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ólido insoluble que se forma por una reacción en sol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5280" y="331776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¿Cómo saber si se formará precipitado?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zclamos dos disoluciones que contienen dos iones qu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den formar una sal insolu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=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quilibrio : disolución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g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e desplaza hacia la izquierda : precipi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&lt;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No precipita : disolución no satur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7848360" cy="337212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324000" y="333360"/>
            <a:ext cx="838188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mezclamos disoluciones de AgNO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KI 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ar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tener una disolución de mezcla que contiene [Ag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01M 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[I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]=0.015M.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AgI es una sal poco soluble.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cir si la disolución es saturada, no saturada 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bre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to: 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AgI)=8.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8040" y="927000"/>
            <a:ext cx="7365960" cy="5526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74760" y="260280"/>
            <a:ext cx="4826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C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31000" cy="33591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1187280" y="40464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e cantidad de ion plata permanece en solu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1280" y="537372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resultado aproximado dice que la cantidad de ion plata que permanece en solución es practicamente c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380880" y="333360"/>
            <a:ext cx="845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 manera para resolver el problema es suponer que la reacción ocurre en un 100% hacia la derecha (que sería el significado del resultado anterior) y luego plantear el problema del equilibrio a partir de los productos de la reacció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5280" y="551808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e procedimiento es muy conveniente en muchos casos en que la reacción planteada originalmente ocurre en casi un 100% y el resultado numérico no puede distinguir el valor real del correspondiente al 100%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69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68360" y="80028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Qué concentración de 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requerida para precipitar únicamente AgBr en una solución que contiene tanto 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como 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una concentración de 0.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32760" y="4246560"/>
            <a:ext cx="4711320" cy="398880"/>
            <a:chOff x="932760" y="4246560"/>
            <a:chExt cx="4711320" cy="398880"/>
          </a:xfrm>
        </p:grpSpPr>
        <p:sp>
          <p:nvSpPr>
            <p:cNvPr id="573" name=""/>
            <p:cNvSpPr/>
            <p:nvPr/>
          </p:nvSpPr>
          <p:spPr>
            <a:xfrm>
              <a:off x="932760" y="4246560"/>
              <a:ext cx="471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82680" y="4351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182320" y="45036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6449040" y="4711680"/>
            <a:ext cx="176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Cl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51920" y="425448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6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932040" y="2112840"/>
            <a:ext cx="4738680" cy="398880"/>
            <a:chOff x="932040" y="2112840"/>
            <a:chExt cx="4738680" cy="398880"/>
          </a:xfrm>
        </p:grpSpPr>
        <p:sp>
          <p:nvSpPr>
            <p:cNvPr id="579" name=""/>
            <p:cNvSpPr/>
            <p:nvPr/>
          </p:nvSpPr>
          <p:spPr>
            <a:xfrm>
              <a:off x="932040" y="2112840"/>
              <a:ext cx="473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gBr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Br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83040" y="22176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2183040" y="236988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380640" y="2112840"/>
            <a:ext cx="19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77040" y="2494080"/>
            <a:ext cx="1777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ps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Br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416600" y="3051000"/>
            <a:ext cx="1781640" cy="832320"/>
            <a:chOff x="1416600" y="3051000"/>
            <a:chExt cx="1781640" cy="832320"/>
          </a:xfrm>
        </p:grpSpPr>
        <p:sp>
          <p:nvSpPr>
            <p:cNvPr id="585" name=""/>
            <p:cNvSpPr/>
            <p:nvPr/>
          </p:nvSpPr>
          <p:spPr>
            <a:xfrm>
              <a:off x="1416600" y="32814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2534400" y="3051000"/>
              <a:ext cx="663840" cy="832320"/>
              <a:chOff x="2534400" y="3051000"/>
              <a:chExt cx="663840" cy="832320"/>
            </a:xfrm>
          </p:grpSpPr>
          <p:sp>
            <p:nvSpPr>
              <p:cNvPr id="587" name=""/>
              <p:cNvSpPr/>
              <p:nvPr/>
            </p:nvSpPr>
            <p:spPr>
              <a:xfrm>
                <a:off x="2602800" y="30510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534400" y="3484440"/>
                <a:ext cx="62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r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588760" y="3473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"/>
          <p:cNvGrpSpPr/>
          <p:nvPr/>
        </p:nvGrpSpPr>
        <p:grpSpPr>
          <a:xfrm>
            <a:off x="3180600" y="3089160"/>
            <a:ext cx="3573360" cy="765360"/>
            <a:chOff x="3180600" y="3089160"/>
            <a:chExt cx="3573360" cy="765360"/>
          </a:xfrm>
        </p:grpSpPr>
        <p:grpSp>
          <p:nvGrpSpPr>
            <p:cNvPr id="591" name=""/>
            <p:cNvGrpSpPr/>
            <p:nvPr/>
          </p:nvGrpSpPr>
          <p:grpSpPr>
            <a:xfrm>
              <a:off x="3180600" y="3089160"/>
              <a:ext cx="1789200" cy="765360"/>
              <a:chOff x="3180600" y="3089160"/>
              <a:chExt cx="1789200" cy="76536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3522240" y="3089160"/>
                <a:ext cx="1447560" cy="765360"/>
                <a:chOff x="3522240" y="3089160"/>
                <a:chExt cx="1447560" cy="7653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94960" y="30891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7.7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773160" y="3455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522240" y="3458880"/>
                  <a:ext cx="1447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3180600" y="3277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53240" y="3279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3.9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11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419840" y="5108400"/>
            <a:ext cx="1781640" cy="832320"/>
            <a:chOff x="1419840" y="5108400"/>
            <a:chExt cx="1781640" cy="832320"/>
          </a:xfrm>
        </p:grpSpPr>
        <p:sp>
          <p:nvSpPr>
            <p:cNvPr id="599" name=""/>
            <p:cNvSpPr/>
            <p:nvPr/>
          </p:nvSpPr>
          <p:spPr>
            <a:xfrm>
              <a:off x="1419840" y="5338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g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538360" y="5108400"/>
              <a:ext cx="663120" cy="832320"/>
              <a:chOff x="2538360" y="5108400"/>
              <a:chExt cx="663120" cy="832320"/>
            </a:xfrm>
          </p:grpSpPr>
          <p:sp>
            <p:nvSpPr>
              <p:cNvPr id="601" name=""/>
              <p:cNvSpPr/>
              <p:nvPr/>
            </p:nvSpPr>
            <p:spPr>
              <a:xfrm>
                <a:off x="2606040" y="5108400"/>
                <a:ext cx="506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38360" y="5541840"/>
                <a:ext cx="61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Cl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92000" y="55306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3183480" y="5146560"/>
            <a:ext cx="3486600" cy="765360"/>
            <a:chOff x="3183480" y="5146560"/>
            <a:chExt cx="3486600" cy="765360"/>
          </a:xfrm>
        </p:grpSpPr>
        <p:grpSp>
          <p:nvGrpSpPr>
            <p:cNvPr id="605" name=""/>
            <p:cNvGrpSpPr/>
            <p:nvPr/>
          </p:nvGrpSpPr>
          <p:grpSpPr>
            <a:xfrm>
              <a:off x="3183480" y="5146560"/>
              <a:ext cx="1789920" cy="765360"/>
              <a:chOff x="3183480" y="5146560"/>
              <a:chExt cx="1789920" cy="7653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3525480" y="5146560"/>
                <a:ext cx="1447920" cy="765360"/>
                <a:chOff x="3525480" y="5146560"/>
                <a:chExt cx="1447920" cy="76536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600360" y="5146560"/>
                  <a:ext cx="1299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1.6 x 10</a:t>
                  </a:r>
                  <a:r>
                    <a:rPr b="0" lang="es-MX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-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777120" y="55130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525480" y="5516280"/>
                  <a:ext cx="1447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183480" y="53352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4951800" y="5337000"/>
              <a:ext cx="171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8.0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9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257920" y="620064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9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&lt; [Ag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8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13080" y="26028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24000" y="817560"/>
            <a:ext cx="8532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468360" y="900000"/>
            <a:ext cx="8280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52280" y="609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i una perturbación externa se aplica a un sistema en equilibrio, el sistema se ajusta en cierta forma para que la perturbación se contrarreste parcialmente y el sistema pueda alcanzar una nueva posición de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003840" y="18900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4480" y="2220840"/>
            <a:ext cx="36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922680" y="3247920"/>
            <a:ext cx="4218480" cy="440640"/>
            <a:chOff x="922680" y="3247920"/>
            <a:chExt cx="4218480" cy="440640"/>
          </a:xfrm>
        </p:grpSpPr>
        <p:sp>
          <p:nvSpPr>
            <p:cNvPr id="620" name=""/>
            <p:cNvSpPr/>
            <p:nvPr/>
          </p:nvSpPr>
          <p:spPr>
            <a:xfrm>
              <a:off x="922680" y="3247920"/>
              <a:ext cx="4218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3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2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125160" y="3376440"/>
              <a:ext cx="609840" cy="152280"/>
              <a:chOff x="3125160" y="3376440"/>
              <a:chExt cx="609840" cy="152280"/>
            </a:xfrm>
          </p:grpSpPr>
          <p:sp>
            <p:nvSpPr>
              <p:cNvPr id="622" name=""/>
              <p:cNvSpPr/>
              <p:nvPr/>
            </p:nvSpPr>
            <p:spPr>
              <a:xfrm>
                <a:off x="3125520" y="3376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125160" y="3528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4" name=""/>
          <p:cNvGrpSpPr/>
          <p:nvPr/>
        </p:nvGrpSpPr>
        <p:grpSpPr>
          <a:xfrm>
            <a:off x="3726360" y="3657600"/>
            <a:ext cx="1270440" cy="1250280"/>
            <a:chOff x="3726360" y="3657600"/>
            <a:chExt cx="1270440" cy="1250280"/>
          </a:xfrm>
        </p:grpSpPr>
        <p:sp>
          <p:nvSpPr>
            <p:cNvPr id="625" name=""/>
            <p:cNvSpPr/>
            <p:nvPr/>
          </p:nvSpPr>
          <p:spPr>
            <a:xfrm>
              <a:off x="3726360" y="4162320"/>
              <a:ext cx="127044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e aña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429408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63560" y="3886200"/>
            <a:ext cx="2832120" cy="1618560"/>
            <a:chOff x="763560" y="3886200"/>
            <a:chExt cx="2832120" cy="1618560"/>
          </a:xfrm>
        </p:grpSpPr>
        <p:sp>
          <p:nvSpPr>
            <p:cNvPr id="628" name=""/>
            <p:cNvSpPr/>
            <p:nvPr/>
          </p:nvSpPr>
          <p:spPr>
            <a:xfrm flipH="1">
              <a:off x="2757600" y="447012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3560" y="3886200"/>
              <a:ext cx="19051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l equilibrio se desplaza hacia la izquierda para disminuir el cambi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12000" y="1916280"/>
            <a:ext cx="281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500560" y="503280"/>
            <a:ext cx="387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58600" y="3878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193440" y="357336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68880" y="4411800"/>
            <a:ext cx="48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924960" y="44118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67440" y="484344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producto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08480" y="4843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67440" y="5707080"/>
            <a:ext cx="48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crece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68880" y="5275440"/>
            <a:ext cx="49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concentración de reactante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00560" y="527544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24960" y="57070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2869200" y="2486160"/>
            <a:ext cx="3493080" cy="398880"/>
            <a:chOff x="2869200" y="2486160"/>
            <a:chExt cx="3493080" cy="398880"/>
          </a:xfrm>
        </p:grpSpPr>
        <p:sp>
          <p:nvSpPr>
            <p:cNvPr id="643" name=""/>
            <p:cNvSpPr/>
            <p:nvPr/>
          </p:nvSpPr>
          <p:spPr>
            <a:xfrm>
              <a:off x="2869200" y="2486160"/>
              <a:ext cx="349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                  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33960" y="260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233960" y="2756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708440" y="1419120"/>
            <a:ext cx="1864080" cy="1629000"/>
            <a:chOff x="4708440" y="1419120"/>
            <a:chExt cx="1864080" cy="1629000"/>
          </a:xfrm>
        </p:grpSpPr>
        <p:grpSp>
          <p:nvGrpSpPr>
            <p:cNvPr id="647" name=""/>
            <p:cNvGrpSpPr/>
            <p:nvPr/>
          </p:nvGrpSpPr>
          <p:grpSpPr>
            <a:xfrm>
              <a:off x="5655600" y="1419120"/>
              <a:ext cx="916920" cy="903240"/>
              <a:chOff x="5655600" y="1419120"/>
              <a:chExt cx="916920" cy="903240"/>
            </a:xfrm>
          </p:grpSpPr>
          <p:sp>
            <p:nvSpPr>
              <p:cNvPr id="648" name=""/>
              <p:cNvSpPr/>
              <p:nvPr/>
            </p:nvSpPr>
            <p:spPr>
              <a:xfrm>
                <a:off x="61113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65560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 flipH="1">
              <a:off x="470844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614040" y="1419120"/>
            <a:ext cx="2024280" cy="1629000"/>
            <a:chOff x="3614040" y="1419120"/>
            <a:chExt cx="2024280" cy="1629000"/>
          </a:xfrm>
        </p:grpSpPr>
        <p:sp>
          <p:nvSpPr>
            <p:cNvPr id="652" name=""/>
            <p:cNvSpPr/>
            <p:nvPr/>
          </p:nvSpPr>
          <p:spPr>
            <a:xfrm>
              <a:off x="472428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3614040" y="1419120"/>
              <a:ext cx="916920" cy="903240"/>
              <a:chOff x="3614040" y="1419120"/>
              <a:chExt cx="916920" cy="903240"/>
            </a:xfrm>
          </p:grpSpPr>
          <p:sp>
            <p:nvSpPr>
              <p:cNvPr id="654" name=""/>
              <p:cNvSpPr/>
              <p:nvPr/>
            </p:nvSpPr>
            <p:spPr>
              <a:xfrm>
                <a:off x="4070160" y="178884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14040" y="1419120"/>
                <a:ext cx="91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Añadi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6" name=""/>
          <p:cNvGrpSpPr/>
          <p:nvPr/>
        </p:nvGrpSpPr>
        <p:grpSpPr>
          <a:xfrm>
            <a:off x="2738520" y="1406520"/>
            <a:ext cx="1985040" cy="1641600"/>
            <a:chOff x="2738520" y="1406520"/>
            <a:chExt cx="1985040" cy="1641600"/>
          </a:xfrm>
        </p:grpSpPr>
        <p:sp>
          <p:nvSpPr>
            <p:cNvPr id="657" name=""/>
            <p:cNvSpPr/>
            <p:nvPr/>
          </p:nvSpPr>
          <p:spPr>
            <a:xfrm flipH="1">
              <a:off x="3809520" y="3048120"/>
              <a:ext cx="914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738520" y="1406520"/>
              <a:ext cx="874080" cy="902880"/>
              <a:chOff x="2738520" y="1406520"/>
              <a:chExt cx="874080" cy="902880"/>
            </a:xfrm>
          </p:grpSpPr>
          <p:sp>
            <p:nvSpPr>
              <p:cNvPr id="659" name=""/>
              <p:cNvSpPr/>
              <p:nvPr/>
            </p:nvSpPr>
            <p:spPr>
              <a:xfrm flipV="1">
                <a:off x="3173400" y="177624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738520" y="140652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1" name=""/>
          <p:cNvGrpSpPr/>
          <p:nvPr/>
        </p:nvGrpSpPr>
        <p:grpSpPr>
          <a:xfrm>
            <a:off x="3733920" y="1380960"/>
            <a:ext cx="1821960" cy="1667160"/>
            <a:chOff x="3733920" y="1380960"/>
            <a:chExt cx="1821960" cy="1667160"/>
          </a:xfrm>
        </p:grpSpPr>
        <p:grpSp>
          <p:nvGrpSpPr>
            <p:cNvPr id="662" name=""/>
            <p:cNvGrpSpPr/>
            <p:nvPr/>
          </p:nvGrpSpPr>
          <p:grpSpPr>
            <a:xfrm>
              <a:off x="4681800" y="1380960"/>
              <a:ext cx="874080" cy="902880"/>
              <a:chOff x="4681800" y="1380960"/>
              <a:chExt cx="874080" cy="90288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5116680" y="1750680"/>
                <a:ext cx="0" cy="53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81800" y="138096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ff0000"/>
                    </a:solidFill>
                    <a:latin typeface="Arial"/>
                  </a:rPr>
                  <a:t>Quit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3733920" y="304812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626560" y="476280"/>
            <a:ext cx="409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volumen y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994120" y="1197000"/>
            <a:ext cx="3472920" cy="398880"/>
            <a:chOff x="2994120" y="1197000"/>
            <a:chExt cx="3472920" cy="398880"/>
          </a:xfrm>
        </p:grpSpPr>
        <p:sp>
          <p:nvSpPr>
            <p:cNvPr id="668" name=""/>
            <p:cNvSpPr/>
            <p:nvPr/>
          </p:nvSpPr>
          <p:spPr>
            <a:xfrm>
              <a:off x="2994120" y="1197000"/>
              <a:ext cx="34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B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C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722840" y="1314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722480" y="1467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667880" y="256860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24920" y="2263680"/>
            <a:ext cx="25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79920" y="310212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pres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60760" y="310212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79920" y="353376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467600" y="353376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79920" y="4397400"/>
            <a:ext cx="26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980280" y="39654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el 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467600" y="3965400"/>
            <a:ext cx="35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á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60760" y="4397400"/>
            <a:ext cx="38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 lado con menos moles de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4572000" y="175896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7" dur="1" fill="hold"/>
                                  <p:tgtEl>
                                    <p:spTgt spid="6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2698200" y="476280"/>
            <a:ext cx="36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ambios en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71080" y="206532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13200" y="206532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x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1680" y="2598840"/>
            <a:ext cx="298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umenta la tempera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1080" y="259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81320" y="3030480"/>
            <a:ext cx="308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minuye la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72200" y="303048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656400" y="206532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Rx Endotér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18720" y="259884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a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57600" y="303048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cr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611280" y="1844640"/>
            <a:ext cx="7924680" cy="3070440"/>
            <a:chOff x="611280" y="1844640"/>
            <a:chExt cx="7924680" cy="3070440"/>
          </a:xfrm>
        </p:grpSpPr>
        <p:pic>
          <p:nvPicPr>
            <p:cNvPr id="696" name="" descr=""/>
            <p:cNvPicPr/>
            <p:nvPr/>
          </p:nvPicPr>
          <p:blipFill>
            <a:blip r:embed="rId1"/>
            <a:srcRect l="0" t="0" r="0" b="10022"/>
            <a:stretch/>
          </p:blipFill>
          <p:spPr>
            <a:xfrm>
              <a:off x="611280" y="1844640"/>
              <a:ext cx="792468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950040" y="4346640"/>
              <a:ext cx="185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i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35560" y="4346640"/>
              <a:ext cx="195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n cataliz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059200" y="5300640"/>
            <a:ext cx="551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catalizador baj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mb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re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50920" y="589608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catalizador no cambia la constante de equilibrio o mueve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58920" y="692280"/>
            <a:ext cx="66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el valor de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cambia la posición de un sistema en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sistema alcanzará más rápido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864160" y="26028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ición de  u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4195" r="0" b="5676"/>
          <a:stretch/>
        </p:blipFill>
        <p:spPr>
          <a:xfrm>
            <a:off x="152280" y="1143000"/>
            <a:ext cx="8686800" cy="32767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966400" y="304920"/>
            <a:ext cx="3210480" cy="510120"/>
            <a:chOff x="2966400" y="304920"/>
            <a:chExt cx="3210480" cy="510120"/>
          </a:xfrm>
        </p:grpSpPr>
        <p:sp>
          <p:nvSpPr>
            <p:cNvPr id="52" name=""/>
            <p:cNvSpPr/>
            <p:nvPr/>
          </p:nvSpPr>
          <p:spPr>
            <a:xfrm>
              <a:off x="2966400" y="304920"/>
              <a:ext cx="321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2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266720" y="4701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266720" y="622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60800" y="4495680"/>
            <a:ext cx="218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85360" y="4495680"/>
            <a:ext cx="22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79160" y="4495680"/>
            <a:ext cx="300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con 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8800" y="1800360"/>
            <a:ext cx="1396800" cy="1003320"/>
            <a:chOff x="838800" y="1800360"/>
            <a:chExt cx="1396800" cy="1003320"/>
          </a:xfrm>
        </p:grpSpPr>
        <p:sp>
          <p:nvSpPr>
            <p:cNvPr id="59" name=""/>
            <p:cNvSpPr/>
            <p:nvPr/>
          </p:nvSpPr>
          <p:spPr>
            <a:xfrm>
              <a:off x="1684440" y="21942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38800" y="180036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872520" y="1197000"/>
            <a:ext cx="1396800" cy="1003320"/>
            <a:chOff x="3872520" y="1197000"/>
            <a:chExt cx="1396800" cy="1003320"/>
          </a:xfrm>
        </p:grpSpPr>
        <p:sp>
          <p:nvSpPr>
            <p:cNvPr id="62" name=""/>
            <p:cNvSpPr/>
            <p:nvPr/>
          </p:nvSpPr>
          <p:spPr>
            <a:xfrm>
              <a:off x="4718160" y="159084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2520" y="1197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901560" y="2181240"/>
            <a:ext cx="1396800" cy="1003320"/>
            <a:chOff x="6901560" y="2181240"/>
            <a:chExt cx="1396800" cy="1003320"/>
          </a:xfrm>
        </p:grpSpPr>
        <p:sp>
          <p:nvSpPr>
            <p:cNvPr id="65" name=""/>
            <p:cNvSpPr/>
            <p:nvPr/>
          </p:nvSpPr>
          <p:spPr>
            <a:xfrm>
              <a:off x="7747200" y="257508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01560" y="218124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Arial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8390520" y="63849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4620" r="0" b="0"/>
          <a:stretch/>
        </p:blipFill>
        <p:spPr>
          <a:xfrm>
            <a:off x="2286000" y="5105520"/>
            <a:ext cx="4876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2671200" y="189000"/>
            <a:ext cx="382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INCIPIO DE LE CH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ÂTE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3960" y="14590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53040" y="1114560"/>
            <a:ext cx="26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esplazamient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5716800" y="1063800"/>
            <a:ext cx="3036600" cy="714240"/>
            <a:chOff x="5716800" y="1063800"/>
            <a:chExt cx="3036600" cy="714240"/>
          </a:xfrm>
        </p:grpSpPr>
        <p:sp>
          <p:nvSpPr>
            <p:cNvPr id="707" name=""/>
            <p:cNvSpPr/>
            <p:nvPr/>
          </p:nvSpPr>
          <p:spPr>
            <a:xfrm>
              <a:off x="5716800" y="1063800"/>
              <a:ext cx="3036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ambio en la cons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e equilib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784840" y="177804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360720" y="202896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9040" y="2028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72120" y="202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2840" y="260028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479040" y="2600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97212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6880" y="317196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79040" y="317196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972120" y="3171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56120" y="374328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47904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904800" y="3743280"/>
            <a:ext cx="4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7520" y="4314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 ca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4600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72120" y="4314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333360"/>
          <a:ext cx="91440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6588000" y="602136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67640" y="4797360"/>
            <a:ext cx="360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26560" y="145080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.63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82160" y="1197000"/>
            <a:ext cx="1497240" cy="934200"/>
            <a:chOff x="2882160" y="1197000"/>
            <a:chExt cx="1497240" cy="934200"/>
          </a:xfrm>
        </p:grpSpPr>
        <p:sp>
          <p:nvSpPr>
            <p:cNvPr id="75" name=""/>
            <p:cNvSpPr/>
            <p:nvPr/>
          </p:nvSpPr>
          <p:spPr>
            <a:xfrm>
              <a:off x="2882160" y="1452600"/>
              <a:ext cx="6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3453480" y="1197000"/>
              <a:ext cx="925920" cy="934200"/>
              <a:chOff x="3453480" y="1197000"/>
              <a:chExt cx="925920" cy="934200"/>
            </a:xfrm>
          </p:grpSpPr>
          <p:sp>
            <p:nvSpPr>
              <p:cNvPr id="77" name=""/>
              <p:cNvSpPr/>
              <p:nvPr/>
            </p:nvSpPr>
            <p:spPr>
              <a:xfrm>
                <a:off x="3453480" y="119700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453480" y="169056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541320" y="16239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3481920" y="4206960"/>
            <a:ext cx="1724040" cy="953280"/>
            <a:chOff x="3481920" y="4206960"/>
            <a:chExt cx="1724040" cy="953280"/>
          </a:xfrm>
        </p:grpSpPr>
        <p:sp>
          <p:nvSpPr>
            <p:cNvPr id="81" name=""/>
            <p:cNvSpPr/>
            <p:nvPr/>
          </p:nvSpPr>
          <p:spPr>
            <a:xfrm>
              <a:off x="3481920" y="446256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057200" y="4206960"/>
              <a:ext cx="1148760" cy="953280"/>
              <a:chOff x="4057200" y="4206960"/>
              <a:chExt cx="1148760" cy="953280"/>
            </a:xfrm>
          </p:grpSpPr>
          <p:sp>
            <p:nvSpPr>
              <p:cNvPr id="83" name=""/>
              <p:cNvSpPr/>
              <p:nvPr/>
            </p:nvSpPr>
            <p:spPr>
              <a:xfrm>
                <a:off x="4057200" y="420696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67640" y="470052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7160" y="46814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2672280" y="5578560"/>
            <a:ext cx="366912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ey de acción de m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42280" y="549360"/>
            <a:ext cx="331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2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4280" y="325764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  +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13080" y="3402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212720" y="3546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06960" y="69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0660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252720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una reacción gener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2120" y="2666880"/>
            <a:ext cx="64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gt;&gt; 1   se favorece la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200400"/>
            <a:ext cx="639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   se favorece la formación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7800" y="1916280"/>
            <a:ext cx="38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uede conclui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652000" y="692280"/>
            <a:ext cx="1724040" cy="953280"/>
            <a:chOff x="5652000" y="692280"/>
            <a:chExt cx="1724040" cy="953280"/>
          </a:xfrm>
        </p:grpSpPr>
        <p:sp>
          <p:nvSpPr>
            <p:cNvPr id="98" name=""/>
            <p:cNvSpPr/>
            <p:nvPr/>
          </p:nvSpPr>
          <p:spPr>
            <a:xfrm>
              <a:off x="5652000" y="947880"/>
              <a:ext cx="73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227280" y="692280"/>
              <a:ext cx="1148760" cy="953280"/>
              <a:chOff x="6227280" y="692280"/>
              <a:chExt cx="1148760" cy="953280"/>
            </a:xfrm>
          </p:grpSpPr>
          <p:sp>
            <p:nvSpPr>
              <p:cNvPr id="100" name=""/>
              <p:cNvSpPr/>
              <p:nvPr/>
            </p:nvSpPr>
            <p:spPr>
              <a:xfrm>
                <a:off x="6227280" y="692280"/>
                <a:ext cx="114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237720" y="1185840"/>
                <a:ext cx="112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r>
                  <a:rPr b="0" lang="es-MX" sz="2400" spc="-1" strike="noStrike" baseline="30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267240" y="116676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27560" y="880920"/>
            <a:ext cx="3236400" cy="459720"/>
            <a:chOff x="1627560" y="880920"/>
            <a:chExt cx="3236400" cy="459720"/>
          </a:xfrm>
        </p:grpSpPr>
        <p:sp>
          <p:nvSpPr>
            <p:cNvPr id="104" name=""/>
            <p:cNvSpPr/>
            <p:nvPr/>
          </p:nvSpPr>
          <p:spPr>
            <a:xfrm>
              <a:off x="1627560" y="8809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41560" y="10458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41560" y="11984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7" name=""/>
          <p:cNvGraphicFramePr/>
          <p:nvPr/>
        </p:nvGraphicFramePr>
        <p:xfrm>
          <a:off x="324000" y="4005360"/>
          <a:ext cx="4176720" cy="22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05360"/>
                    <a:ext cx="417672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788000" y="4005360"/>
          <a:ext cx="4248000" cy="22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4005360"/>
                    <a:ext cx="4248000" cy="22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37000"/>
            <a:ext cx="19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POS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1341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407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eter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98100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se Gase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5840" y="1773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5840" y="357336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5840" y="4113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íquido – Gas (vap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68792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ido – Líq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907920"/>
            <a:ext cx="73080" cy="136872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80000" y="3357720"/>
            <a:ext cx="144360" cy="180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1413000"/>
            <a:ext cx="144360" cy="3025800"/>
          </a:xfrm>
          <a:custGeom>
            <a:avLst/>
            <a:gdLst>
              <a:gd name="textAreaLeft" fmla="*/ 92160 w 144360"/>
              <a:gd name="textAreaRight" fmla="*/ 144360 w 144360"/>
              <a:gd name="textAreaTop" fmla="*/ 78840 h 3025800"/>
              <a:gd name="textAreaBottom" fmla="*/ 2946960 h 30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00360" y="115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QUILIBRIO HOMOGÉ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98920" y="692280"/>
            <a:ext cx="374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4 (g)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              2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 (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836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140360" y="97956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91440" y="1241280"/>
            <a:ext cx="1492560" cy="934200"/>
            <a:chOff x="2791440" y="1241280"/>
            <a:chExt cx="1492560" cy="934200"/>
          </a:xfrm>
        </p:grpSpPr>
        <p:sp>
          <p:nvSpPr>
            <p:cNvPr id="127" name=""/>
            <p:cNvSpPr/>
            <p:nvPr/>
          </p:nvSpPr>
          <p:spPr>
            <a:xfrm>
              <a:off x="2791440" y="1496880"/>
              <a:ext cx="736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n-US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3358080" y="1241280"/>
              <a:ext cx="925920" cy="934200"/>
              <a:chOff x="3358080" y="1241280"/>
              <a:chExt cx="925920" cy="934200"/>
            </a:xfrm>
          </p:grpSpPr>
          <p:sp>
            <p:nvSpPr>
              <p:cNvPr id="129" name=""/>
              <p:cNvSpPr/>
              <p:nvPr/>
            </p:nvSpPr>
            <p:spPr>
              <a:xfrm>
                <a:off x="3358080" y="124128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358080" y="1734840"/>
                <a:ext cx="8683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[N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445920" y="166824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179280" y="2530440"/>
            <a:ext cx="122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2000" y="2349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2746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6360" y="27464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1308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gas ide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40560" y="2492280"/>
            <a:ext cx="146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V = n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1399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29242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3559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15280" y="3105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5800" y="29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33559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328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4360" y="33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0600" y="44308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63640" y="364500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8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41148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05080" y="4618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4618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36720" y="515952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6720" y="50878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40766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81440" y="465300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4618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61808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3564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41860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4437000"/>
            <a:ext cx="6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35040" y="44006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07280" y="4400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RT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1200" y="6094440"/>
            <a:ext cx="455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4360" y="609444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12952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60360" y="6310440"/>
            <a:ext cx="129564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 baseline="-40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62755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5608800"/>
            <a:ext cx="61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número de moles de gas de productos –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moles de gas de 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86600" y="6416640"/>
            <a:ext cx="22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  (c + d) – (a +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9-09T05:24:06Z</dcterms:modified>
  <cp:revision>174</cp:revision>
  <dc:subject/>
  <dc:title>Presentación de PowerPoint</dc:title>
</cp:coreProperties>
</file>