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947B-4589-4936-8251-2CFA0BFD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C09-9E60-4E66-AAA4-3826FFE4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90E-765F-4DF0-AA15-49B66A46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2181-5D75-4AA6-8910-B4B091B9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F5A-A606-4104-8B72-96E9D704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4A71-D278-4FDC-8A7F-36101BEF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44C-025E-4DFC-AE6B-39D79B28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E29-A7EE-402D-8A53-BBA30BF3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00E-0095-4C1E-AFA1-84DFFA3A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17B-F18A-4DDE-B76C-8E166D91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9285-0C2E-4FAB-9374-87E11109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C4E-6110-4DD8-840D-0510FD0C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2DD8-CF29-4D77-AB58-8328FA656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232360" cy="1709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39640" y="3933720"/>
            <a:ext cx="3600360" cy="2664000"/>
            <a:chOff x="539640" y="3933720"/>
            <a:chExt cx="3600360" cy="2664000"/>
          </a:xfrm>
        </p:grpSpPr>
        <p:graphicFrame>
          <p:nvGraphicFramePr>
            <p:cNvPr id="43" name=""/>
            <p:cNvGraphicFramePr/>
            <p:nvPr/>
          </p:nvGraphicFramePr>
          <p:xfrm>
            <a:off x="539640" y="3933720"/>
            <a:ext cx="3418920" cy="2664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9640" y="3933720"/>
                      <a:ext cx="3418920" cy="2664000"/>
                    </a:xfrm>
                    <a:prstGeom prst="rect">
                      <a:avLst/>
                    </a:prstGeom>
                    <a:ln w="19080">
                      <a:solidFill>
                        <a:srgbClr val="3333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5" name=""/>
            <p:cNvSpPr/>
            <p:nvPr/>
          </p:nvSpPr>
          <p:spPr>
            <a:xfrm>
              <a:off x="539640" y="5254200"/>
              <a:ext cx="1002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ALAME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94680" y="5866200"/>
              <a:ext cx="104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LAS REJ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3300000">
              <a:off x="3592440" y="4410000"/>
              <a:ext cx="93240" cy="364320"/>
            </a:xfrm>
            <a:prstGeom prst="upArrow">
              <a:avLst>
                <a:gd name="adj1" fmla="val 50000"/>
                <a:gd name="adj2" fmla="val 9768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7080" y="4781520"/>
              <a:ext cx="31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92040" y="4923720"/>
              <a:ext cx="104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390920" y="3860640"/>
            <a:ext cx="4753080" cy="2684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260280"/>
            <a:ext cx="54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Tahoma Small Cap"/>
              </a:rPr>
              <a:t>PRÁCTICA DE VA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Tahoma Small Cap"/>
              </a:rPr>
              <a:t>MICROSIMULACIÓN DE CORREDORES DE TRANSPORTE PÚBLICO USANDO PAR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2060640"/>
            <a:ext cx="7416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 Small Cap"/>
              </a:rPr>
              <a:t>EL OBJETIVO DE LAS PRÁCTICAS ES CODIFICAR Y CALIBRAR EN EL MICROSIMULADOR DE TRÁFICO PARAMICS Y SU APLICACIÓN MISTRANSIT, CORREDORES DE TRANSPORTE PÚBLICO ACTUALMENTE EN FUNCIONAMIENTO EN SANTIAGO (SANTA ROSA, PAJARITOS, GRECIA, ENTRE OTRO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 Small Cap"/>
              </a:rPr>
              <a:t>LOS ALUMNOS TRABAJARÁN EN EL LABORATORIO DE SIMULACIÓN Y MODELAMIENTO URBANO, UBICADO EN INGENIERÍA DE TRANSPORTE (5TO PISO EDIFICIO INGENIERÍA CIVIL). TANTO EL SOFTWARE COMO LA INFORMACIÓN DIGITAL PARA CODIFICAR ESTARÁN DISPONIBLES PARA EL TRABA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268280"/>
            <a:ext cx="554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e ofrece prácticas de vacaciones con financiamiento, para comenzar lo antes posible (preferentemente el lunes 8 de Diciembre), por un plazo de 2 meses jornada compl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3789360"/>
            <a:ext cx="4932360" cy="2736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Posibles interesados enviar antecedentes 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Dr. Cristián Cortés, Ingeniería Civil-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e-mail: ccortes@ing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20:43:11Z</dcterms:created>
  <dc:creator> cc</dc:creator>
  <dc:description/>
  <dc:language>en-US</dc:language>
  <cp:lastModifiedBy> cc</cp:lastModifiedBy>
  <dcterms:modified xsi:type="dcterms:W3CDTF">2008-12-03T15:52:23Z</dcterms:modified>
  <cp:revision>10</cp:revision>
  <dc:subject/>
  <dc:title>Diapositiva 1</dc:title>
</cp:coreProperties>
</file>