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322-67D5-4355-8FB9-8C98E21A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EFC-6734-4E46-8A29-32E60946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81D-BF0E-4272-8760-233EF958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2D0-4FAC-4AEC-9BB9-4E9D97F5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ECD-2FB7-4739-A2CA-B895EA2F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75B-3674-43B7-9915-C2515A40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16B-0078-488E-9107-D8425033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78B-1E8B-4B53-B902-E2E60C7A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43E-7D8E-4EE1-BF7C-069826B8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EA0-DF71-4DB9-AD06-C1415B3B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7D0-38FE-4F9E-8C12-7DD06214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565-173A-4463-9ADE-5FD75F88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DC83-3A59-4F0E-8EB9-ED55CF741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232360" cy="1709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39640" y="3933720"/>
            <a:ext cx="3600360" cy="2664000"/>
            <a:chOff x="539640" y="3933720"/>
            <a:chExt cx="3600360" cy="2664000"/>
          </a:xfrm>
        </p:grpSpPr>
        <p:graphicFrame>
          <p:nvGraphicFramePr>
            <p:cNvPr id="43" name=""/>
            <p:cNvGraphicFramePr/>
            <p:nvPr/>
          </p:nvGraphicFramePr>
          <p:xfrm>
            <a:off x="539640" y="3933720"/>
            <a:ext cx="3418920" cy="2664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3933720"/>
                      <a:ext cx="3418920" cy="2664000"/>
                    </a:xfrm>
                    <a:prstGeom prst="rect">
                      <a:avLst/>
                    </a:prstGeom>
                    <a:ln w="1908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539640" y="5254200"/>
              <a:ext cx="1002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ALAME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94680" y="586620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LAS REJ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3300000">
              <a:off x="3592440" y="4410000"/>
              <a:ext cx="93240" cy="364320"/>
            </a:xfrm>
            <a:prstGeom prst="upArrow">
              <a:avLst>
                <a:gd name="adj1" fmla="val 50000"/>
                <a:gd name="adj2" fmla="val 9768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7080" y="4781520"/>
              <a:ext cx="31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92040" y="492372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390920" y="3860640"/>
            <a:ext cx="4753080" cy="268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26028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 Small Cap"/>
              </a:rPr>
              <a:t>PRÁCTICA DE VA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 Small Cap"/>
              </a:rPr>
              <a:t>MICROSIMULACIÓN DE CORREDORES DE TRANSPORTE PÚBLICO USANDO PAR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2060640"/>
            <a:ext cx="7416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 Small Cap"/>
              </a:rPr>
              <a:t>EL OBJETIVO DE LAS PRÁCTICAS ES CODIFICAR Y CALIBRAR EN EL MICROSIMULADOR DE TRÁFICO PARAMICS Y SU APLICACIÓN MISTRANSIT, CORREDORES DE TRANSPORTE PÚBLICO ACTUALMENTE EN FUNCIONAMIENTO EN SANTIAGO (SANTA ROSA, PAJARITOS, GRECIA, ENTRE OTRO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 Small Cap"/>
              </a:rPr>
              <a:t>LOS ALUMNOS TRABAJARÁN EN EL LABORATORIO DE SIMULACIÓN Y MODELAMIENTO URBANO, UBICADO EN INGENIERÍA DE TRANSPORTE (5TO PISO EDIFICIO INGENIERÍA CIVIL). TANTO EL SOFTWARE COMO LA INFORMACIÓN DIGITAL PARA CODIFICAR ESTARÁN DISPONIBLES PARA EL TRABA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268280"/>
            <a:ext cx="554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e ofrece prácticas de vacaciones con financiamiento, para comenzar lo antes posible (preferentemente el lunes 8 de Diciembre), por un plazo de 2 meses jornada compl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3789360"/>
            <a:ext cx="4932360" cy="2736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Posibles interesados enviar antecedentes 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Dr. Cristián Cortés, Ingeniería Civil-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e-mail: ccortes@ing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0:43:11Z</dcterms:created>
  <dc:creator> cc</dc:creator>
  <dc:description/>
  <dc:language>en-US</dc:language>
  <cp:lastModifiedBy> cc</cp:lastModifiedBy>
  <dcterms:modified xsi:type="dcterms:W3CDTF">2008-12-03T15:52:23Z</dcterms:modified>
  <cp:revision>10</cp:revision>
  <dc:subject/>
  <dc:title>Diapositiva 1</dc:title>
</cp:coreProperties>
</file>