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D20-8DD5-4F6F-B8B8-02F93EED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D9B-D018-4D36-88CB-DFF39EE2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915-0530-4E4D-917F-30BBA358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5946-0589-404B-B579-53B3B2D5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808-FAA2-448E-A867-917C3A38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24F-23B8-4442-BBFA-C51735A9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17D-00D8-4758-B7D9-0E1F16EC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196-D3AF-4509-B3DA-599D7CA3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4FA-CFD4-4419-B1EC-8B8438D5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2BE-381B-465E-AFC6-FA3415B6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FA4-79AC-47E0-BD17-96B9F493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02B-E3A7-49D4-B863-AF497025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F7F4-9066-4933-ABBF-81E1D5B70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</cp:lastModifiedBy>
  <cp:lastPrinted>2004-08-06T18:14:12Z</cp:lastPrinted>
  <dcterms:modified xsi:type="dcterms:W3CDTF">2008-08-11T08:52:37Z</dcterms:modified>
  <cp:revision>26</cp:revision>
  <dc:subject/>
  <dc:title>CI71M PRINCIPIOS DE REMEDIACION Y RESTAURACION</dc:title>
</cp:coreProperties>
</file>