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980-9C90-4C74-A862-EF4D7EE3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B10-7D67-4633-8D2E-7978399D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57E-CE13-434E-9E08-D68CF4C2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410-0392-4813-B7A6-7BDF0770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35B-FE95-41EA-A387-46C74379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6F9-F399-4708-B869-99DDFFA2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F3F-2973-4368-829F-0299CBE9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249-1B69-49DA-943D-FC64DCDE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4F2-E5F2-467E-8BF0-29D07709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5AA-EB74-4EB1-AB7C-3A574542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839D-A616-4259-AC40-081E9165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D029-F253-4DF4-9949-CF64B2DB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8B9A-792D-4EA8-A2EF-17D46AD1D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</cp:lastModifiedBy>
  <cp:lastPrinted>2004-08-06T18:14:12Z</cp:lastPrinted>
  <dcterms:modified xsi:type="dcterms:W3CDTF">2008-08-11T08:52:37Z</dcterms:modified>
  <cp:revision>26</cp:revision>
  <dc:subject/>
  <dc:title>CI71M PRINCIPIOS DE REMEDIACION Y RESTAURACION</dc:title>
</cp:coreProperties>
</file>