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B0CF-F2EB-4016-9916-C507D2DC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560C-2AF0-4302-B8F0-564F897F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BE67-FEA8-40B1-81A6-785EB80A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1B40-2FF3-4E70-AB9C-EEACE0E8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BFA4-D1F9-4AA5-BE0F-0F2DB07E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06FF-1210-413A-8310-1ABBE600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5D84-FD7F-4CB7-88D0-5A1621E1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87C9-9B9F-4ABA-A3C4-9EFD03A9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AA53-5DF3-4FC9-A371-A78E7A13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EAB7-1ACA-41A8-9793-D8D3C68A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AAAB-0E0A-4EE1-85B5-0B04368E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C7BC-CCCE-4287-BB20-8084A31A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4A86-20CC-4DEC-AFAE-A85F7E1AE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L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SEMESTRE PRIMAVERA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oveer al alumno de los fundamentos de los mecanismos asociados con remediación y restauración de suelos y aguas subterráneas, los que le permitan abordar el diagnóstico y solución de problemas complejos, asociados con contaminación de suelos y aguas subterrán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MI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  9:00 - 12:00  (Cátedra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TEM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UELO Y SISTEMAS ACUIF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NSPORTE Y DESTINO DE CONTAMINANTES EN AGUAS SUBTERRAN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MICROBIOLOGIA, METABOLISMO Y BIOQUI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DE COMPUESTOS SELECCIO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Y ATENUACION 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IN SI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O/LIQU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BIOLOGICO EN FASE GASE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OTROS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8:12:03Z</dcterms:created>
  <dc:creator>Carlos Espinoza</dc:creator>
  <dc:description/>
  <dc:language>en-US</dc:language>
  <cp:lastModifiedBy>Carlos</cp:lastModifiedBy>
  <cp:lastPrinted>2004-08-06T18:14:12Z</cp:lastPrinted>
  <dcterms:modified xsi:type="dcterms:W3CDTF">2008-08-11T08:52:37Z</dcterms:modified>
  <cp:revision>26</cp:revision>
  <dc:subject/>
  <dc:title>CI71M PRINCIPIOS DE REMEDIACION Y RESTAURACION</dc:title>
</cp:coreProperties>
</file>