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DCFF-666A-442C-BA39-62B63D072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84CF-7BD3-4624-9D23-EC74C57D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EEF3-2EC2-4AF4-8361-58FDED004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3BBF-BA95-40D4-9EC9-312799BF0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3577-9726-4954-9178-CECDE0F2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1E79-F86E-46B9-8B3B-AAC2FABA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1DC9-194E-4C5C-AD2D-258EF9FE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C317-A005-49F3-909B-8BD8A88E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43C1-2F94-4B48-8633-517B7834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8773-CE08-4864-AA51-294B0778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CA6B-31D2-4BC9-B588-758984EB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422C-3B68-4C8B-BC76-F5BEC381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A1B3-D72E-450E-8D34-D41B5027A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LAS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INTRODUC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SEMESTRE PRIMAVERA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Comic Sans MS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roveer al alumno de los fundamentos de los mecanismos asociados con remediación y restauración de suelos y aguas subterráneas, los que le permitan abordar el diagnóstico y solución de problemas complejos, asociados con contaminación de suelos y aguas subterrán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MI 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  9:00 - 12:00  (Cátedra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TEM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INTRODUC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SUELO Y SISTEMAS ACUIF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NSPORTE Y DESTINO DE CONTAMINANTES EN AGUAS SUBTERRAN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MICROBIOLOGIA, METABOLISMO Y BIOQUI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GRADACION DE COMPUESTOS SELECCION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GRADACION Y ATENUACION NA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TAMIENTO IN SI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REMEDIACION EN FASE SO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REMEDIACION EN FASE SOLIDO/LIQU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TAMIENTO BIOLOGICO EN FASE GASE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OTROS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18:12:03Z</dcterms:created>
  <dc:creator>Carlos Espinoza</dc:creator>
  <dc:description/>
  <dc:language>en-US</dc:language>
  <cp:lastModifiedBy>Carlos</cp:lastModifiedBy>
  <cp:lastPrinted>2004-08-06T18:14:12Z</cp:lastPrinted>
  <dcterms:modified xsi:type="dcterms:W3CDTF">2008-08-11T08:52:37Z</dcterms:modified>
  <cp:revision>26</cp:revision>
  <dc:subject/>
  <dc:title>CI71M PRINCIPIOS DE REMEDIACION Y RESTAURACION</dc:title>
</cp:coreProperties>
</file>