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11B-26A9-4591-946F-D3AA08EB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536-CEDB-4986-8BDA-8CD88927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E44-D1E8-46B7-A947-61BC728C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868-8E2E-462C-B8CB-79F57CAD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C1F-46DD-4A8F-BADB-2F534AD3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C49-5648-49D3-AE24-5ACC0326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92F-825A-40E4-98C3-DE7CD712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04D-4D34-409E-B0F4-A1DA1505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3EC-9A86-41A5-9535-69AC36E1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585-FC11-4524-857C-3D4D6C0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229-494C-4446-918B-D6894C01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C9F-7369-4F93-866C-DB905D2F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2174-6642-4BAD-93E7-E8689704A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914400"/>
            <a:ext cx="729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  &lt; ---- &gt;  Prove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&gt; Todas las personas de la organización deben conocer e involucrarse en la implementación de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mejorar las operaciones, encontrando que cosas se están haciendo incorrectamente y determinando ideas para solventar esos problemas. 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Nivel Oper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que los pequeños cambios están consiguiendo los resultados deseados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Estraté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 Evidencia basada en documentos, registros, hechos, di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stitución rectora a nivel paí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s Acreditada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 certificada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228600"/>
            <a:ext cx="8474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ara certificar, la empresa se prepara realizando capacitación a todo el personal y preparando los procedimientos y registros de la operación según los proced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La certificación es un proceso posterior a una Auditoría de certificación, realizado por una expresa acreditada por el I.N.N., que verifica que el sistema está implementado y hay evidencia que está operando según los procedimientos defi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8360" y="567540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de Participación del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43000" y="1752120"/>
            <a:ext cx="685800" cy="4038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4668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360" y="502920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Toma de decisiones basada en h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647960" y="220968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76520" y="4419360"/>
            <a:ext cx="31240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685800"/>
            <a:ext cx="8382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 certificación comprende a toda la organización, pero su ámbito de procesos son solamente los que se declara y aparecen en el certific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 empresa puede certificar en forma gradual sus procesos, pero todos son parte del mismo sistema de gestión de calidad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Una empresa puede certificarse con varias normas, como: ISO 9001:2000 (Gestión de Calidad), ISO 14.001:2004 (Gestión de Calidad Ambiental) y OSHAS 18.000 (Seguridad e Higie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18T19:26:49Z</dcterms:modified>
  <cp:revision>50</cp:revision>
  <dc:subject/>
  <dc:title>Diapositiva 1</dc:title>
</cp:coreProperties>
</file>