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02EA-B04A-491D-BEB2-EE492D376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025A-26D1-46F4-ADD3-41F229C6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371A-A58D-473E-91E7-7AEEEB079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06FE-5ACC-4485-A407-6ACEB6B37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9C43-360F-4F58-9B29-4E3EAB4B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CAD0-FB1A-4A05-8D1F-FD86B4FF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5798-0090-47AA-9AC9-E35E2F77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4A68-029F-42C8-B9E1-7E437764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FE0B-86B4-4C00-8C3B-318CCC0DD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5A15-41A4-4653-918B-BE299156E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9FD6-67B9-4F83-AD02-0779341F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70DE-A3A0-483F-AA58-746C99A9C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EC620-856E-4D98-A010-3CB687117C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620640"/>
            <a:ext cx="801216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UNIVERSIDAD DE CH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99"/>
                </a:solidFill>
                <a:latin typeface="Arial"/>
              </a:rPr>
              <a:t>FACULTAD DE CIENCIAS FÍSICAS Y MATEMÁTICAS  -  ESCUELA DE INGENIE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 u="sng">
                <a:solidFill>
                  <a:srgbClr val="333399"/>
                </a:solidFill>
                <a:uFillTx/>
                <a:latin typeface="Arial"/>
              </a:rPr>
              <a:t>DEPARTAMENTO DE INGENIERÍA CIV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EMI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"EVALUACIÓN DE IMPACTO AMBIENTAL (EIA)"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SEMESTRE PRIMAVERA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PROFESOR : ENRIQUE KALISKI KRIG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333399"/>
                </a:solidFill>
                <a:uFillTx/>
                <a:latin typeface="Arial"/>
              </a:rPr>
              <a:t>Sesión Nº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95280" y="404640"/>
            <a:ext cx="828036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L PLAN DE MEDIDAS DE MITIGACIÓN, REPARACIÓN Y COMPENSACIÓN, DEL PLAN DE SEGUIMIENTO AMBIENTAL Y DE LA FISC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59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as medidas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reparación y/o restauración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tienen por finalidad reponer uno o más de los componentes o elementos del medio ambiente a una calidad similar a la que tenían con anterioridad al daño causado o, en caso de no ser ello posible, restablecer sus propiedades bás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Dichas medidas se expresarán en un Plan de Medidas de Reparación y/o Restau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60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as medidas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compensación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tienen por finalidad producir o generar un efecto positivo alternativo y equivalente a un efecto adverso identific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Dichas medidas se expresarán en un Plan de Medidas de Compensación, el que incluirá el reemplazo o sustitución de los recursos naturales o elementos del medio ambiente afectados, por otros de similares características, clase, naturaleza y c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24600" y="547560"/>
            <a:ext cx="7593480" cy="64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INSTRUMENTO DE GESTION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EN ORGANIZACION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SISTEMA DE GESTION  AMBIENTAL DE  CAL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NORMA ISO 14.001: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0000"/>
                </a:solidFill>
                <a:latin typeface="Arial"/>
              </a:rPr>
              <a:t>¿Qué es Calida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189000"/>
            <a:ext cx="10012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INSTRUMENTO DE GESTION AMBIENTAL - ORGANIZACIONES</a:t>
            </a:r>
            <a:br>
              <a:rPr sz="2400"/>
            </a:b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LA GESTION  AMBIENTAL DE 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1413000"/>
            <a:ext cx="8280360" cy="53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Conjunto de elementos mutuamente relacionados o que interactú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estión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Actividades coordinadas para dirigir y controlar una organiz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alida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Grado en que el conjunto de características inherentes cumple con los requisi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 de calida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Un sistema de calidad es un método planificado y sistemático de medios y acciones, encaminados a asegurar suficiente confianza en que los productos o servicios, se ajusten a las especific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istema de gestión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Sistema para establecer política y los objetivos y para lograr dichos obje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istema de gestión de calidad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:  Sistema de gestión para dirigir y controlar una organización con respecto a la calida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3640" y="65160"/>
            <a:ext cx="795780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Arial"/>
              </a:rPr>
              <a:t>LA GESTION  DE 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Princip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1: Enfoque en el cliente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2: Liderazgo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3: Participación del persona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4: Enfoque en los proceso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5: Gestión basada en los sistema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6: Mejora continua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7: Toma de decisiones basada en hechos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Principio 8: Relación mutuamente beneficiosa con los suministrad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838080" y="914400"/>
            <a:ext cx="7293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1. Enfoque en el cliente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organizaciones dependen de sus clientes y, por lo tanto, deberían comprender las demandas actuales y futuras de sus clientes, satisfacer los requisitos de los clientes y esforzarse en rebasar las expectativas de los clientes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o de Clientes Externos e Inter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epto de Cliente  &lt; ---- &gt;  Provee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08200" y="857160"/>
            <a:ext cx="7580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2  Liderazgo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 líderes son los que establecen la unidad en cuento a los fines y el rumbo de la organización. Es conveniente que éstos desarrollen y mantengan un entorno interno que permita que las personas puedan participar de forma plena en la consecución de los objetivos de la organización.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79480" y="857160"/>
            <a:ext cx="6932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3. Participación del personal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personas que intervienen en todos los niveles de la organización constituyen la esencia de ésta y su plena participación es lo que permite que sus capacidades sean aprovechadas en beneficio de la organización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=&gt; Todas las personas de la organización deben conocer e involucrarse en la implementación de ISO 14.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66760" y="712800"/>
            <a:ext cx="75819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4. Enfoque de proceso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resultado esperado se consigue de forma más eficiente cuando las actividades y los recursos relacionados se gestionan como un proceso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458360" y="388152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0360" y="4076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360" y="3789360"/>
            <a:ext cx="1584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64000" y="407664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5240" y="386064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2160" y="386064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09000" y="4869000"/>
            <a:ext cx="69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alida de un proceso puede ser la entrada del proceso sigu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66760" y="1073160"/>
            <a:ext cx="74376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5  Gestión basada en los sistema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identificación, comprensión y gestión a modo de sistema de los procesos interrelacionados contribuye a la eficacia y la eficiencia de la organización a la hora de conseguir sus objetivos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84360" y="692280"/>
            <a:ext cx="8084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incipio 6. Mejora continua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mejora continua del funcionamiento global de la organización debería constituir un objetivo permanente de ésta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2205000"/>
            <a:ext cx="772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333399"/>
                </a:solidFill>
                <a:latin typeface="Arial"/>
              </a:rPr>
              <a:t>El Ciclo de Deming. (Edward Dem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Esta basado en un ciclo infinito de 4 pasos: Planifique (Plan), Haga (Do), Verifique (Check) y Actúe  (Do) y se conocen ampliamente por sus siglas como ciclos PHVA (en español) o ciclo PDCA (Ingl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87640" y="3789360"/>
            <a:ext cx="324000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24000" y="333360"/>
            <a:ext cx="777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Sistema de Evaluación de Impacto Ambiental  (SE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710520" y="148428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348000" y="2205000"/>
            <a:ext cx="1655640" cy="100800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635280" y="2421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á en el Art. 3º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03640" y="27082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43280" y="2708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211640" y="1844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58000" y="22971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897640" y="23684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561640" y="2440080"/>
            <a:ext cx="17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gresa al SE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220500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ede ingresar al SEIA en forma volunt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64000" y="1484280"/>
            <a:ext cx="1439640" cy="35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16000" y="2133720"/>
            <a:ext cx="172728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2349360"/>
            <a:ext cx="180036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43640" y="285264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651640" y="364500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¿Cumple algún requisito Art. 5º al 11º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32360" y="3357720"/>
            <a:ext cx="2951280" cy="1582560"/>
          </a:xfrm>
          <a:prstGeom prst="diamond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372360" y="49417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4427640" y="4149720"/>
            <a:ext cx="5745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445440" y="5013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02880" y="3789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51240" y="5516640"/>
            <a:ext cx="279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3300"/>
                </a:solidFill>
                <a:latin typeface="Arial"/>
              </a:rPr>
              <a:t>Debe hacer un E.I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Contenidos: Art. 12º y 13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127600" y="3860640"/>
            <a:ext cx="285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8000"/>
                </a:solidFill>
                <a:latin typeface="Arial"/>
              </a:rPr>
              <a:t>Hace una D.I.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Contenidos: Art. 14º al 16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64200" y="5824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5445000"/>
            <a:ext cx="309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Agregar Contenidos de Permisos Sectoriales Art. 65º al 106º, según el tipo de proye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771640" y="4797360"/>
            <a:ext cx="432000" cy="71928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3492000" y="6021360"/>
            <a:ext cx="1584360" cy="216000"/>
          </a:xfrm>
          <a:prstGeom prst="line">
            <a:avLst/>
          </a:prstGeom>
          <a:ln w="2844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879480" y="639720"/>
            <a:ext cx="7724880" cy="56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Cada paso del ciclo se describe como sigu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Planifique</a:t>
            </a: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para mejorar las operaciones, encontrando que cosas se están haciendo incorrectamente y determinando ideas para solventar esos problemas.  </a:t>
            </a:r>
            <a:r>
              <a:rPr b="0" lang="es-VE" sz="1800" spc="-1" strike="noStrike">
                <a:solidFill>
                  <a:srgbClr val="ff0000"/>
                </a:solidFill>
                <a:latin typeface="Arial"/>
              </a:rPr>
              <a:t>(Nivel de gest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Haga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cambios diseñados para resolver los problemas primero en una escala pequeña o experimental. Esto minimiza el entorpecimiento de las actividades diarias mientras se prueban si los cambios funcionan o n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(Nivel Operat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Verifique</a:t>
            </a:r>
            <a:r>
              <a:rPr b="0" lang="es-V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que los pequeños cambios están consiguiendo los resultados deseados. </a:t>
            </a:r>
            <a:r>
              <a:rPr b="0" lang="es-VE" sz="1800" spc="-1" strike="noStrike">
                <a:solidFill>
                  <a:srgbClr val="ff0000"/>
                </a:solidFill>
                <a:latin typeface="Arial"/>
              </a:rPr>
              <a:t>(Nivel de gestió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00"/>
                </a:solidFill>
                <a:latin typeface="Arial"/>
              </a:rPr>
              <a:t>Actúe</a:t>
            </a:r>
            <a:r>
              <a:rPr b="0" lang="es-V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para implementar el cambio a gran escala si el experimento es exitoso. Actuar también involucra a otras personas (otros departamentos, suplidores o clientes) afectado por el cambio y cuya cooperación se necesita para implementar el cambio a gran escala. </a:t>
            </a:r>
            <a:r>
              <a:rPr b="0" lang="es-VE" sz="1800" spc="-1" strike="noStrike">
                <a:solidFill>
                  <a:srgbClr val="ff0000"/>
                </a:solidFill>
                <a:latin typeface="Arial"/>
              </a:rPr>
              <a:t>(Nivel Estratégic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79480" y="568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4360" y="620640"/>
            <a:ext cx="770400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333399"/>
                </a:solidFill>
                <a:latin typeface="Arial"/>
              </a:rPr>
              <a:t>Ejemplo del Ciclo de Dem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333399"/>
                </a:solidFill>
                <a:latin typeface="Arial"/>
              </a:rPr>
              <a:t>Proceso de estudio de una asignatura  de un alumno en un sem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Planifique: Cómo estudiará en el semest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Haga: estudie según lo plan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Verifique: Registra las notas obtenidas de las evaluaciones y analiza el rendimiento, según lo planific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000" spc="-1" strike="noStrike">
                <a:solidFill>
                  <a:srgbClr val="000000"/>
                </a:solidFill>
                <a:latin typeface="Arial"/>
              </a:rPr>
              <a:t>Actúe: Aplique modificaciones a lo planificado para mejorar resul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08200" y="568440"/>
            <a:ext cx="7508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7. Toma de decisiones basada en hecho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s decisiones eficaces se basan en el análisis de los datos y la información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epto de Evidencia basada en documentos, registros, hechos, dich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808200" y="1000080"/>
            <a:ext cx="808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cipio 8. Relación mutuamente beneficiosa con los suministradores o provee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organización y sus suministradores mantienen interdependencias y una relación mutuamente beneficiosa sirve para aumentar la capacidad de ambas partes a la hora de aportar un valor añadid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58880" y="522936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64000" y="5445000"/>
            <a:ext cx="2087640" cy="0"/>
          </a:xfrm>
          <a:prstGeom prst="line">
            <a:avLst/>
          </a:prstGeom>
          <a:ln w="76320">
            <a:solidFill>
              <a:srgbClr val="3333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798880" y="5300640"/>
            <a:ext cx="123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vee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92200" y="1000080"/>
            <a:ext cx="8156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Cuando se hace un informe y/o un plano, que puede tener muchas versiones hasta su versión definitiv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¿Cómo se aseguran que la versión que acceden es la vig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8000"/>
                </a:solidFill>
                <a:latin typeface="Arial"/>
              </a:rPr>
              <a:t>¿Cómo lo debería hacer una organización que maneja muchos documentos a la vez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1280" y="333360"/>
            <a:ext cx="8208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Conceptos importantes en un Sistema de gestión de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Procedimiento documentad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 Los pasos a seguir en un procedimiento están explícitos en un documento formal de la organ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 En la U. de Chile, hay un procedimiento para las evaluaciones docentes (Reglamen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Documento  Controlado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Documento que tiene un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Procedimiento documentado, para controlar que la versión que está disponible sea la última o la vig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o: Cada vez que se emita una nueva versión del informe o plano, se debe identificar con la fecha de emisión y asegurarse que todas las copias de la versión no vigente queden fuera de circulación en la organización.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La persona que recibe un documento, firma en un registro de documentos entregados, de modo de conocer donde está cada cop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LOS DOCUMENTOS CONTROLADOS ASEGURAN QUE LA VERSIÓN DISPONIBLE ES LA VIGENTE Y EVITAN ERRORES DE VER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24000" y="549360"/>
            <a:ext cx="81565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Arial"/>
              </a:rPr>
              <a:t>¿Qué son las normas ISO?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Las normas ISO son normas o estándares desarrollados por la International Organization for Standarization (ISO), organismo internacional no gubernamental con sede en Ginebra, con más de 100 agrupaciones o países miembros, y que no está afiliada a las Naciones Unidas ni a ninguna organización europea. 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1280" y="836640"/>
            <a:ext cx="7364160" cy="52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Las Normas ISO 14000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as Normas ISO-14000 son una familia de normas que persiguen establecer herramientas y sistemas para la administración de numerosas obligaciones ambientales de una organización sin prescribir que metas debe alcanza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sta serie, como un todo, busca la estandarización de algunas herramientas de análisis clave, tales como l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uditoría ambiental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y el avalúo del ciclo de vida. 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La norma base o núcleo de esta familia de normas, es la ISO 14001, la cual entrega los requisitos que debe tener un sistema de gestión ambiental (SGA)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26920" y="620640"/>
            <a:ext cx="722160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Esta norma busca conducir a la organización dentro de un Sistema de Gestión Ambiental (SGA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ertificable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, estructurado e integrado a la actividad general de gestión, especificando lo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quisitos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que debe poseer y que sea aplicable a cualquier tipo y tamaño de organización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68360" y="260280"/>
            <a:ext cx="786924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6600"/>
                </a:solidFill>
                <a:uFillTx/>
                <a:latin typeface="Arial"/>
              </a:rPr>
              <a:t>Niveles de certif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1.  </a:t>
            </a: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Institución rectora a nivel país</a:t>
            </a: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:  I.N.N. (Otorga acreditación a empresas especializadas, para que puedan certificar a otras organizaciones según ISO 14.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2.  </a:t>
            </a: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mpresas Acreditadas</a:t>
            </a: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: Efectúan auditorías a organizaciones para certificación (</a:t>
            </a:r>
            <a:r>
              <a:rPr b="1" i="1" lang="es-CL" sz="2400" spc="-1" strike="noStrike">
                <a:solidFill>
                  <a:srgbClr val="006600"/>
                </a:solidFill>
                <a:latin typeface="Arial"/>
              </a:rPr>
              <a:t>Verifican que la organización cumple todos los requisitos de la Norma ISO 14001</a:t>
            </a: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66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Empresa certificada</a:t>
            </a: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: Tiene un sistema de gestión de calidad ambiental, según ISO 14.001 y cuenta con una auditoría que lo certif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03120" y="496800"/>
            <a:ext cx="8445600" cy="57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PROCEDIMIENTO DE LA EVALUACIÓN DE IMPACTO 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De la evaluación de los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Estudios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23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os órganos de la Administración del Estado competentes que participen en la evaluación del Estudio de Impacto Ambiental, deberán informar dentro del plazo máximo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treinta días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, contados desde el envío de los ejempla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De la evaluación de las </a:t>
            </a:r>
            <a:r>
              <a:rPr b="1" lang="es-CL" sz="1800" spc="-1" strike="noStrike">
                <a:solidFill>
                  <a:srgbClr val="ff0000"/>
                </a:solidFill>
                <a:latin typeface="Arial"/>
              </a:rPr>
              <a:t>Declaraciones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29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os órganos de la Administración del Estado competentes que participen en la evaluación de la Declaración de Impacto Ambiental, dispondrán de un plazo máximo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quince días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, contados desde el envío de los ejemplares, para informar a la Comisión Regional del Medio Ambiente respectiva o a la Dirección Ejecutiva de la Comisión Nacional del Medio Ambiente, a través de su Secretario o Director Ejecutivo, respectivamente, si el impacto ambiental que genere o presente el proyecto o actividad se ajusta a las normas ambientales vig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1219320"/>
            <a:ext cx="2301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Ejemplo de Certificado Norma ISO 14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124080" y="304920"/>
            <a:ext cx="45738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35120" y="281160"/>
            <a:ext cx="8084880" cy="56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Requis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Numeral 4.2 de la N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claración de una </a:t>
            </a: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Política Ambiental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definida por la alta gerencia, con compromiso por un mejoramiento continuo y prevención de la contaminación, cumplimiento de la reglamentación ambiental, debidamente documentada y comunicada tanto a los empleados y se encuentre a disposición del público. 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627280" y="260280"/>
            <a:ext cx="6202440" cy="65977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900720" y="1413000"/>
            <a:ext cx="173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Ejemp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de Polí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Ambie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55640" y="189000"/>
            <a:ext cx="7796160" cy="65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3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Planificación</a:t>
            </a:r>
            <a:r>
              <a:rPr b="0" lang="es-ES" sz="2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 procedimientos para: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identificar los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Aspectos Ambient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sus actividades y determinar aquellos que tienen Impactos significativos sobre el medio ambiente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identificar los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Requisitos Legales y otr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, que se apliquen a sus aspectos ambientales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ablecer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Objetivos y Metas Ambient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en cada función y nivel de la organización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 través de estos últimos, generar un 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rograma de Gestión Ambient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519120" y="712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55640" y="189000"/>
            <a:ext cx="779616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4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Implementación y Oper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: 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un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Estructur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que defina las funciones, responsabilidades y autoridades para llevar a cabo una gestión ambiental efec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rograma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apacitación Ambienta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para los miembros de la organización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dimiento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munic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interna y externa con respecto a sus aspectos ambientales y al SGA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 sistema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Documenta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ntrol de document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l SGA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dimiento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Control de operacion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Preparación y respuesta ante situaciones de emerge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0"/>
            <a:ext cx="7796160" cy="64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5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Verificación y acción correctiv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del SGA, considerando: 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procedimientos para el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Monitoreo y Medi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regular, de las características ambientales claves de sus actividades y el cumplimiento de la legislación ambiental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cedimientos para manejar una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No conformi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las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cciones Correctivas y Preventiv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 tomar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ntención y disposición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egistro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ambientales. 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gramas y procedimientos de 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Auditoría del SG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como principal herramienta de control. </a:t>
            </a:r>
            <a:br>
              <a:rPr sz="1800"/>
            </a:b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4360" y="0"/>
            <a:ext cx="7796160" cy="47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Sistema de Gestión Ambiental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quisi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umeral 4.6 de la Nor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Revisión de la Gerenci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alta gerencia de la organización debe revisar en forma periódica la efectividad del SGA, considerando la necesidad de cambios a la política, objetivos y otros elementos, de acuerdo a los resultados de las auditorias, de los cambios de circunstancia y del compromiso por el mejoramiento continuo.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908000" y="4076640"/>
            <a:ext cx="5040360" cy="2567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2400" y="189000"/>
            <a:ext cx="82641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00"/>
                </a:solidFill>
                <a:latin typeface="Arial"/>
              </a:rPr>
              <a:t>En resumen, los requisitos de la Norma ISO 14.001 s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2 Política Ambien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3 Plan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4 Implementación y Ope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5 Verificación y acción correc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6600"/>
                </a:solidFill>
                <a:latin typeface="Arial"/>
              </a:rPr>
              <a:t>4.6 Revisión por la G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808200" y="784080"/>
            <a:ext cx="786744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Por qué ISO 14001?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2800"/>
            </a:br>
            <a:br>
              <a:rPr sz="2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ntre las principales razones para implementar ISO14001, se tienen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stándar internacionalmente reconocido y aceptado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xiste experiencia internacional en su implementación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Existencia de organizaciones auditoras y certificadoras de aceptación internacional. 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Flexibilidad de adaptación a la realidad de la empresa y su gestión general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Mecanismo eficaz para lograr los compromisos legales.</a:t>
            </a: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66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Consistente con la política de Desarrollo Sustentable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4360" y="444600"/>
            <a:ext cx="8135640" cy="54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Ventajas de contar con un SGA</a:t>
            </a:r>
            <a:r>
              <a:rPr b="0" lang="en-US" sz="3200" spc="-1" strike="noStrike">
                <a:solidFill>
                  <a:srgbClr val="006600"/>
                </a:solidFill>
                <a:latin typeface="Arial"/>
              </a:rPr>
              <a:t>.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Conformidad con las regulaciones. 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Conformidad con las exigencias de los consumidores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La compañía será más vendible (mejor imagen de Marketing)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Mejor utilización de recursos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Reducción del costo de explotación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Niveles de seguridad superiores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Mejora la imagen ante la comunidad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Acceso creciente al capital (Ventajas Financieras)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Limitación del riesgo.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006600"/>
                </a:solidFill>
                <a:latin typeface="Arial"/>
              </a:rPr>
              <a:t> Mejor acceso a seguros, permisos y otras autoriz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824760" y="4762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El tiempo corre a favor del proyecto en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8200" y="1576440"/>
            <a:ext cx="77245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Según la </a:t>
            </a: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Ley 19.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Para los E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Art. 15º: fija plazo de revisión de 120 días como máxi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Art. 16º: El plazo se puede ampliar hasta en 60 días adi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Artículo 17.-</a:t>
            </a:r>
            <a:r>
              <a:rPr b="0" lang="es-ES" sz="2000" spc="-1" strike="noStrike">
                <a:solidFill>
                  <a:srgbClr val="333399"/>
                </a:solidFill>
                <a:latin typeface="Arial"/>
              </a:rPr>
              <a:t> Si transcurridos los plazos a que se refieren los artículos 15 y 16, la Comisión Regional o Nacional del Medio Ambiente, en su caso, no se ha pronunciado sobre el Estudio de Impacto Ambiental, éste se entenderá calificado favorable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11280" y="260280"/>
            <a:ext cx="7869240" cy="56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6600"/>
                </a:solidFill>
                <a:latin typeface="Arial"/>
              </a:rPr>
              <a:t>Como se realiza una Auditoría para certificar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La empresa contrata a una consultora ACREDITA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La consultora ACREDITADA acuerda con la empresa un programa para revisar el cumplimiento de todos los requisitos de la Nor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Si se encuentra una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No Conformidad =  Incumplimiento de un requisito </a:t>
            </a: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y se indica como un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Hallaz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l Hallazgo debe explicitarse con tres anteced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1. Evidencia objetiva del documento, hecho, dicho u otro encontrado que se obj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2. Numeral de la Norma que correspo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3. Explicar porqué no se cumple el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92200" y="639720"/>
            <a:ext cx="8012160" cy="53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Arial"/>
              </a:rPr>
              <a:t>Como se realiza una Auditoría para certificar ISO 14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empresa debe resolver o corregir o comprometerse a cumplir con los hallazgos encontrados, dentro de un plazo no superior a 90 dí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Una vez que se verifican todos los requisitos, la empresa se puede certifi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certificación dura 3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a empresa debe realizar auditorías de mantención de la certificación, una vez al añ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68360" y="476280"/>
            <a:ext cx="8083440" cy="56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EJEMPLO DE HALLAZGOS Y NO CONFORM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Dice el encargado de implementar el Sistema de gestión Ambiental bajo la Norma ISO 14001 “He tenido problemas para implementar esta norma por falta de recursos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videncia objetiva del documento, hecho, dicho u otro encontrado que se objeta.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os dichos del encarg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2. Numeral de la Norma que corresponde: 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4.4.1, segundo párra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3. Explicar porqué no se cumple el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l párrafo dice”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a gerencia debe proporcionar los recursos esenciales para la implementación  y el control del sistema de gestión ambiental …..”, lo cual se verifica que no se ha cumplido, según lo inform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11280" y="857160"/>
            <a:ext cx="82818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6600"/>
                </a:solidFill>
                <a:latin typeface="Arial"/>
              </a:rPr>
              <a:t>¿Cómo se puede resolver esta No Conformidad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La Alta Gerencia emite un documento oficial, en que se explicita el compromiso de asignar los recursos  que fal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Nota: Todos los compromisos deben ser oficiales, de la Alta Gerencia, posibles de verificar en las auditorías sigu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68360" y="476280"/>
            <a:ext cx="8083440" cy="46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EJEMPLO DE HALLAZGOS Y NO CONFORM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Se produjo un error en la implementación de un proyecto ambiental, debido a que se utilizó una versión antigua de las Especificaciones Técnicas para la compra de los equipos de descontamin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6600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videncia objetiva del documento, hecho, dicho u otro encontrado que se objeta.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La 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versión antigua de las Especificaciones Técnic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2. Numeral de la Norma que corresponde:  </a:t>
            </a:r>
            <a:r>
              <a:rPr b="0" lang="es-CL" sz="2000" spc="-1" strike="noStrike">
                <a:solidFill>
                  <a:srgbClr val="333399"/>
                </a:solidFill>
                <a:latin typeface="Arial"/>
              </a:rPr>
              <a:t>4.4.5, d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3. Explicar porqué no se cumple el requis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00"/>
                </a:solidFill>
                <a:latin typeface="Arial"/>
              </a:rPr>
              <a:t>El párrafo se refiere al Control de documentos, específicamente, al retiro de los documentos obsole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84360" y="333360"/>
            <a:ext cx="748800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6600"/>
                </a:solidFill>
                <a:latin typeface="Arial"/>
              </a:rPr>
              <a:t>¿Cómo se puede resolver esta No Conformidad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La Alta Gerencia emite un documento oficial, en que se compromete a capacitar al personal en el procedimiento de control de documentos. (Además de cambiar el documento obsoleto, lo cual es verificable) =&gt; </a:t>
            </a:r>
            <a:r>
              <a:rPr b="0" lang="es-CL" sz="2400" spc="-1" strike="noStrike">
                <a:solidFill>
                  <a:srgbClr val="006600"/>
                </a:solidFill>
                <a:latin typeface="Arial"/>
              </a:rPr>
              <a:t>asegurarse que no se volverá a producir el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Se debe indicar el Nº de personas, duración del curso, materia, etc. y registrar su realización con asistencia y evalu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Dicho registro constituye la evidencia para levantar la no conform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04920" y="228600"/>
            <a:ext cx="847404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Arial"/>
              </a:rPr>
              <a:t>Algunas consideraciones sobre ISO 14.001: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Para certificar, la empresa se prepara realizando capacitación a todo el personal y preparando los procedimientos y registros de la operación según los procedimie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66"/>
                </a:solidFill>
                <a:latin typeface="Arial"/>
              </a:rPr>
              <a:t>La certificación es un proceso posterior a una Auditoría de certificación, realizado por una expresa acreditada por el I.N.N., que verifica que el sistema está implementado y hay evidencia que está operando según los procedimientos defin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8360" y="5675400"/>
            <a:ext cx="440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incipio de Participación del pers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143000" y="1752120"/>
            <a:ext cx="685800" cy="4038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46680" y="49896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276360" y="5029200"/>
            <a:ext cx="54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incipio Toma de decisiones basada en hech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 flipV="1">
            <a:off x="4647960" y="2209680"/>
            <a:ext cx="152280" cy="2819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1676520" y="4419360"/>
            <a:ext cx="312408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380880" y="685800"/>
            <a:ext cx="8382240" cy="527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Algunas consideraciones sobre ISO 14.001: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La certificación comprende a toda la organización, pero su ámbito de procesos son solamente los que se declara y aparecen en el certific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Una empresa puede certificar en forma gradual sus procesos, pero todos son parte del mismo sistema de gestión de calidad ambien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- Una empresa puede certificarse con varias normas, como: ISO 9001:2000 (Gestión de Calidad), ISO 14.001:2004 (Gestión de Calidad Ambiental) y OSHAS 18.000 (Seguridad e Higie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24760" y="4762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El tiempo corre a favor del proyecto en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981000"/>
            <a:ext cx="815652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Artículo 18.-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Los titulares de los proyectos o actividades que deban someterse al sistema de evaluación de impacto ambiental y que no requieran elaborar un Estudio de Impacto Ambiental, presentarán una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Declaración de Impacto Ambiental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, bajo la forma de una declaración jurada, en la cual expresarán que éstos cumplen con la legislación ambiental vig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No obstante lo anterior, la Declaración de Impacto Ambiental podrá contemplar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compromisos ambientales voluntarios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, no exigidos por la ley. En tal caso, el titular estará obligado a cumplirl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La Comisión Regional o Nacional del Medio Ambiente, en su caso, tendrá un plazo d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sesenta días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para pronunciarse sobre la Declaración de Impacto Ambient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i transcurrido el plazo a que se refiere el inciso anterior, los organismos del Estado competentes no hubieren otorgado los permisos o pronunciamientos ambientales sectoriales requeridos para el respectivo proyecto o actividad, la Comisión Regional o Nacional del Medio Ambiente, en su caso, a petición del interesado, requerirá al organismo del Estado responsable para que, en el plazo de treinta días, emita el permiso o pronunciamiento correspondiente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Vencido este plazo, el permiso o pronunciamiento faltante se entenderá otorgado favorablem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3564000" y="2997000"/>
            <a:ext cx="1079280" cy="36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824760" y="476280"/>
            <a:ext cx="707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0000"/>
                </a:solidFill>
                <a:latin typeface="Arial"/>
              </a:rPr>
              <a:t>El tiempo corre a favor del proyecto en rev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1268280"/>
            <a:ext cx="73663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. 23º del reglamento (E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De ser necesario,  se solicitarán fundadamente las aclaraciones, rectificaciones o ampliaciones que se estimen pertinentes para la adecuada comprensión de dicho Estud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n el Art. 29º del Reglamento (DI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99"/>
                </a:solidFill>
                <a:latin typeface="Arial"/>
              </a:rPr>
              <a:t>De ser necesario, se solicitarán fundadamente, las aclaraciones, rectificaciones o ampliaciones que se estimen pertinentes para la adecuada comprensión de dicha Decla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Cuando la CONAMA o COREMA solicita aclaraciones o informes, se detiene el tiempo transcurrido de revis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92200" y="857160"/>
            <a:ext cx="7940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 34º  De la Resolución de Calificación Ambiental del Proyecto o Activ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 42º  De las Reclam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Art 49º  - DE LA PARTICIPACIÓN DE LA COMUNIDAD EN EL PROCE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DE EVALUACIÓN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333399"/>
                </a:solidFill>
                <a:latin typeface="Arial"/>
              </a:rPr>
              <a:t>Publicación de un extracto visado por la CORE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Artículo 53.- 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s organizaciones y personas a que se refiere el artículo anterior podrán formular observaciones al Estudio de Impacto Ambiental, ante el organismo competente.  Para ello dispondrán de un plazo de </a:t>
            </a:r>
            <a:r>
              <a:rPr b="0" lang="es-ES" sz="1800" spc="-1" strike="noStrike">
                <a:solidFill>
                  <a:srgbClr val="ff0000"/>
                </a:solidFill>
                <a:latin typeface="Arial"/>
              </a:rPr>
              <a:t>sesenta días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, contado desde la respectiva publicación del extrac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9080" y="333360"/>
            <a:ext cx="73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OCEDIMIENTO DE LA EVALUACIÓN DE IMPACTO AMBIE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1280" y="692280"/>
            <a:ext cx="8229600" cy="43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s-ES" sz="2400" spc="-1" strike="noStrike">
                <a:solidFill>
                  <a:srgbClr val="333399"/>
                </a:solidFill>
                <a:latin typeface="Arial"/>
              </a:rPr>
              <a:t>DEL PLAN DE MEDIDAS DE MITIGACIÓN, REPARACIÓN Y COMPENSACIÓN, DEL PLAN DE SEGUIMIENTO AMBIENTAL Y DE LA FISCAL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57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El Plan de Medidas de Mitigación, Reparación y Compensación de un proyecto o actividad deberá contener, cuando proceda, uno o más de los siguientes pla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Plan de Medidas de Mitig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Plan de Medidas de Reparación y/o Restaur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c)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Plan de Medidas de Compens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11280" y="404640"/>
            <a:ext cx="77961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333399"/>
                </a:solidFill>
                <a:latin typeface="Arial"/>
              </a:rPr>
              <a:t>DEL PLAN DE MEDIDAS DE MITIGACIÓN, REPARACIÓN Y COMPENSACIÓN, DEL PLAN DE SEGUIMIENTO AMBIENTAL Y DE LA FISCALIZ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Artículo 58.- 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Las medidas de </a:t>
            </a:r>
            <a:r>
              <a:rPr b="0" lang="es-CL" sz="1800" spc="-1" strike="noStrike">
                <a:solidFill>
                  <a:srgbClr val="ff0000"/>
                </a:solidFill>
                <a:latin typeface="Arial"/>
              </a:rPr>
              <a:t>mitigación</a:t>
            </a:r>
            <a:r>
              <a:rPr b="0" lang="es-CL" sz="1800" spc="-1" strike="noStrike">
                <a:solidFill>
                  <a:srgbClr val="333399"/>
                </a:solidFill>
                <a:latin typeface="Arial"/>
              </a:rPr>
              <a:t> tienen por finalidad evitar o disminuir  los efectos adversos del proyecto o actividad, cualquiera sea su fase de ejecución. Se expresarán en un Plan de Medidas de Mitigación que deberá considerar , a lo menos, una de las siguientes medid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33339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s que impidan o eviten completamente el efecto adverso significativo, mediante la no ejecución de una obra o acción, o de alguna de sus par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b)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333399"/>
                </a:solidFill>
                <a:latin typeface="Arial"/>
              </a:rPr>
              <a:t>Las que minimizan o disminuyen el efecto adverso significativo, mediante una adecuada limitación o reducción de la magnitud o duración de la obra o acción, o de alguna de sus partes, o a través de la implementación de medidas específic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2T18:41:14Z</dcterms:created>
  <dc:creator>Enrique K</dc:creator>
  <dc:description/>
  <dc:language>en-US</dc:language>
  <cp:lastModifiedBy>Mario</cp:lastModifiedBy>
  <dcterms:modified xsi:type="dcterms:W3CDTF">2008-11-18T19:26:49Z</dcterms:modified>
  <cp:revision>50</cp:revision>
  <dc:subject/>
  <dc:title>Diapositiva 1</dc:title>
</cp:coreProperties>
</file>