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DE50-0D2F-44DF-90FF-6B1F8441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08D2-A454-4B8D-BA01-4B18173B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8DFA-AADD-4892-9586-6724FAF3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BB90-299B-400D-9DF9-99EB873B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5D06-3457-4BA2-BAC7-94C0D216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882-D030-4640-BC84-D5395D3C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D024-A80A-4F03-89E8-551D116D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8C2D-8164-49D9-B9A9-D36B10F5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82F8-7ECF-45CD-B7B1-9F21137F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87AC-3434-491B-8499-B2389C65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4ED6-E966-4CB9-8E5F-1A0254BF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CE0B-E8AB-445E-8567-CCFEB20E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25E9-46A3-43E5-BE11-0C1294D25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620640"/>
            <a:ext cx="801216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FACULTAD DE CIENCIAS FÍSICAS Y MATEMÁTICAS  -  ESCUELA DE INGENIE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99"/>
                </a:solidFill>
                <a:uFillTx/>
                <a:latin typeface="Arial"/>
              </a:rPr>
              <a:t>DEPARTAMENTO DE INGENIERÍ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MI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"EVALUACIÓN DE IMPACTO AMBIENTAL (EIA)"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MESTRE PRIMAVERA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PROFESOR : ENRIQUE KALISKI KRIG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99"/>
                </a:solidFill>
                <a:uFillTx/>
                <a:latin typeface="Arial"/>
              </a:rPr>
              <a:t>Sesión Nº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95280" y="40464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9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reparación y/o restaur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reponer uno o más de los componentes o elementos del medio ambiente a una calidad similar a la que tenían con anterioridad al daño causado o, en caso de no ser ello posible, restablecer sus propiedades bás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Dichas medidas se expresarán en un Plan de Medidas de Reparación y/o Resta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60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ompens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producir o generar un efecto positivo alternativo y equivalente a un efecto adverso identif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Dichas medidas se expresarán en un Plan de Medidas de Compensación, el que incluirá el reemplazo o sustitución de los recursos naturales o elementos del medio ambiente afectados, por otros de similares características, clase, naturaleza y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24600" y="547560"/>
            <a:ext cx="7593480" cy="64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INSTRUMENTO DE GESTION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 ORGANIZACION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ISTEMA DE GESTION  AMBIENTAL DE  C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NORMA ISO 14.001: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Arial"/>
              </a:rPr>
              <a:t>¿Qué es Cali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89000"/>
            <a:ext cx="10012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NSTRUMENTO DE GESTION AMBIENTAL - ORGANIZACIONES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LA GESTION  AMBIENTAL DE 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413000"/>
            <a:ext cx="8280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Conjunto de elementos mutuamente relacionados o que interactú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stió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Actividades coordinadas para dirigir y controlar un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Grado en que el conjunto de características inherentes cumple con los requisi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de 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Un sistema de calidad es un método planificado y sistemático de medios y acciones, encaminados a asegurar suficiente confianza en que los productos o servicios, se ajusten a las especific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de gestió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Sistema para establecer política y los objetivos y para lograr dichos obje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stema de gestión de 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Sistema de gestión para dirigir y controlar una organización con respecto a la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3640" y="65160"/>
            <a:ext cx="79578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LA GESTION  DE 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Princi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1: Enfoque en el client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2: Liderazg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3: Participación del person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4: Enfoque en los proceso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5: Gestión basada en los sistema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6: Mejora continu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7: Toma de decisiones basada en hechos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8: Relación mutuamente beneficiosa con los suministra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38080" y="914400"/>
            <a:ext cx="7293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1. Enfoque en el client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organizaciones dependen de sus clientes y, por lo tanto, deberían comprender las demandas actuales y futuras de sus clientes, satisfacer los requisitos de los clientes y esforzarse en rebasar las expectativas de los cliente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o de Clientes Externos e Int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o de Cliente  &lt; ---- &gt;  Provee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08200" y="857160"/>
            <a:ext cx="758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2  Liderazgo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líderes son los que establecen la unidad en cuento a los fines y el rumbo de la organización. Es conveniente que éstos desarrollen y mantengan un entorno interno que permita que las personas puedan participar de forma plena en la consecución de los objetivos de la organización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79480" y="857160"/>
            <a:ext cx="693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3. Participación del persona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personas que intervienen en todos los niveles de la organización constituyen la esencia de ésta y su plena participación es lo que permite que sus capacidades sean aprovechadas en beneficio de la organización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&gt; Todas las personas de la organización deben conocer e involucrarse en la implementación de ISO 14.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66760" y="712800"/>
            <a:ext cx="758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4. Enfoque de proceso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resultado esperado se consigue de forma más eficiente cuando las actividades y los recursos relacionados se gestionan como un proces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58360" y="38815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4076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3789360"/>
            <a:ext cx="1584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4076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5240" y="386064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2160" y="38606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9000" y="4869000"/>
            <a:ext cx="69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alida de un proceso puede ser la entrada del proceso 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66760" y="1073160"/>
            <a:ext cx="743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5  Gestión basada en los sistema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identificación, comprensión y gestión a modo de sistema de los procesos interrelacionados contribuye a la eficacia y la eficiencia de la organización a la hora de conseguir sus objetivo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4360" y="692280"/>
            <a:ext cx="808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io 6. Mejora continua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ejora continua del funcionamiento global de la organización debería constituir un objetivo permanente de ésta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205000"/>
            <a:ext cx="772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333399"/>
                </a:solidFill>
                <a:latin typeface="Arial"/>
              </a:rPr>
              <a:t>El Ciclo de Deming. (Edward De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sta basado en un ciclo infinito de 4 pasos: Planifique (Plan), Haga (Do), Verifique (Check) y Actúe  (Do) y se conocen ampliamente por sus siglas como ciclos PHVA (en español) o ciclo PDCA (Ingl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87640" y="3789360"/>
            <a:ext cx="32400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33336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istema de Evaluación de Impacto Ambiental  (SE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10520" y="14842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2205000"/>
            <a:ext cx="1655640" cy="10080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2421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á en el Art. 3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0364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43280" y="2708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18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58000" y="229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97640" y="2368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61640" y="24400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gresa al S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220500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ede ingresar al SEIA en forma volu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484280"/>
            <a:ext cx="143964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2133720"/>
            <a:ext cx="17272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2349360"/>
            <a:ext cx="1800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51640" y="364500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mple algún requisito Art. 5º al 11º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3357720"/>
            <a:ext cx="2951280" cy="15825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72360" y="49417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427640" y="4149720"/>
            <a:ext cx="574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5440" y="501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288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51240" y="5516640"/>
            <a:ext cx="279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3300"/>
                </a:solidFill>
                <a:latin typeface="Arial"/>
              </a:rPr>
              <a:t>Debe hacer un E.I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Contenidos: Art. 12º y 13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7600" y="3860640"/>
            <a:ext cx="285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</a:rPr>
              <a:t>Hace una D.I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Contenidos: Art. 14º al 16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64200" y="582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544500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Agregar Contenidos de Permisos Sectoriales Art. 65º al 106º, según el tipo de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771640" y="4797360"/>
            <a:ext cx="432000" cy="719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492000" y="6021360"/>
            <a:ext cx="1584360" cy="216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79480" y="639720"/>
            <a:ext cx="772488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Cada paso del ciclo se describe como sig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Planifique</a:t>
            </a: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para mejorar las operaciones, encontrando que cosas se están haciendo incorrectamente y determinando ideas para solventar esos problemas.  </a:t>
            </a:r>
            <a:r>
              <a:rPr b="0" lang="es-VE" sz="1800" spc="-1" strike="noStrike">
                <a:solidFill>
                  <a:srgbClr val="ff0000"/>
                </a:solidFill>
                <a:latin typeface="Arial"/>
              </a:rPr>
              <a:t>(Nivel de gest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Haga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cambios diseñados para resolver los problemas primero en una escala pequeña o experimental. Esto minimiza el entorpecimiento de las actividades diarias mientras se prueban si los cambios funcionan o 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(Nivel Opera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Verifique</a:t>
            </a: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que los pequeños cambios están consiguiendo los resultados deseados. </a:t>
            </a:r>
            <a:r>
              <a:rPr b="0" lang="es-VE" sz="1800" spc="-1" strike="noStrike">
                <a:solidFill>
                  <a:srgbClr val="ff0000"/>
                </a:solidFill>
                <a:latin typeface="Arial"/>
              </a:rPr>
              <a:t>(Nivel de gest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Actúe</a:t>
            </a: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para implementar el cambio a gran escala si el experimento es exitoso. Actuar también involucra a otras personas (otros departamentos, suplidores o clientes) afectado por el cambio y cuya cooperación se necesita para implementar el cambio a gran escala. </a:t>
            </a:r>
            <a:r>
              <a:rPr b="0" lang="es-VE" sz="1800" spc="-1" strike="noStrike">
                <a:solidFill>
                  <a:srgbClr val="ff0000"/>
                </a:solidFill>
                <a:latin typeface="Arial"/>
              </a:rPr>
              <a:t>(Nivel Estratég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79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620640"/>
            <a:ext cx="7704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333399"/>
                </a:solidFill>
                <a:latin typeface="Arial"/>
              </a:rPr>
              <a:t>Ejemplo del Ciclo de Dem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333399"/>
                </a:solidFill>
                <a:latin typeface="Arial"/>
              </a:rPr>
              <a:t>Proceso de estudio de una asignatura  de un alumno en un se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Planifique: Cómo estudiará en el se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Haga: estudie según lo plan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Verifique: Registra las notas obtenidas de las evaluaciones y analiza el rendimiento, según lo plan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Actúe: Aplique modificaciones a lo planificado para mejorar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08200" y="568440"/>
            <a:ext cx="750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7. Toma de decisiones basada en hecho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decisiones eficaces se basan en el análisis de los datos y la información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o de Evidencia basada en documentos, registros, hechos, dich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08200" y="1000080"/>
            <a:ext cx="808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8. Relación mutuamente beneficiosa con los suministradores o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organización y sus suministradores mantienen interdependencias y una relación mutuamente beneficiosa sirve para aumentar la capacidad de ambas partes a la hora de aportar un valor añadid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58880" y="522936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64000" y="5445000"/>
            <a:ext cx="2087640" cy="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8880" y="530064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92200" y="1000080"/>
            <a:ext cx="8156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Cuando se hace un informe y/o un plano, que puede tener muchas versiones hasta su versión definitiv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¿Cómo se aseguran que la versión que acceden es la vig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¿Cómo lo debería hacer una organización que maneja muchos documentos a la vez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333360"/>
            <a:ext cx="8208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nceptos importantes en un Sistema de gestión de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Procedimiento documentad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 Los pasos a seguir en un procedimiento están explícitos en un documento formal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En la U. de Chile, hay un procedimiento para las evaluaciones docentes (Reglam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Documento  Controlado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cumento que tiene un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dimiento documentado, para controlar que la versión que está disponible sea la última o la vig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Cada vez que se emita una nueva versión del informe o plano, se debe identificar con la fecha de emisión y asegurarse que todas las copias de la versión no vigente queden fuera de circulación en la organización.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La persona que recibe un documento, firma en un registro de documentos entregados, de modo de conocer donde está cada co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LOS DOCUMENTOS CONTROLADOS ASEGURAN QUE LA VERSIÓN DISPONIBLE ES LA VIGENTE Y EVITAN ERRORES DE VER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549360"/>
            <a:ext cx="81565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¿Qué son las normas ISO?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as normas ISO son normas o estándares desarrollados por la International Organization for Standarization (ISO), organismo internacional no gubernamental con sede en Ginebra, con más de 100 agrupaciones o países miembros, y que no está afiliada a las Naciones Unidas ni a ninguna organización europea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836640"/>
            <a:ext cx="736416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Las Normas ISO 14000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s Normas ISO-14000 son una familia de normas que persiguen establecer herramientas y sistemas para la administración de numerosas obligaciones ambientales de una organización sin prescribir que metas debe alcanz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sta serie, como un todo, busca la estandarización de algunas herramientas de análisis clave, tales como l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ditoría ambiental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y el avalúo del ciclo de vida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 norma base o núcleo de esta familia de normas, es la ISO 14001, la cual entrega los requisitos que debe tener un sistema de gestión ambiental (SGA)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26920" y="620640"/>
            <a:ext cx="72216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Esta norma busca conducir a la organización dentro de un Sistema de Gestión Ambiental (SGA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ertificable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, estructurado e integrado a la actividad general de gestión, especificando lo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quisito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que debe poseer y que sea aplicable a cualquier tipo y tamaño de organización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260280"/>
            <a:ext cx="786924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6600"/>
                </a:solidFill>
                <a:uFillTx/>
                <a:latin typeface="Arial"/>
              </a:rPr>
              <a:t>Niveles de cer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1. 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Institución rectora a nivel país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:  I.N.N. (Otorga acreditación a empresas especializadas, para que puedan certificar a otras organizaciones según ISO 14.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2. 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mpresas Acreditadas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: Efectúan auditorías a organizaciones para certificación (</a:t>
            </a:r>
            <a:r>
              <a:rPr b="1" i="1" lang="es-CL" sz="2400" spc="-1" strike="noStrike">
                <a:solidFill>
                  <a:srgbClr val="006600"/>
                </a:solidFill>
                <a:latin typeface="Arial"/>
              </a:rPr>
              <a:t>Verifican que la organización cumple todos los requisitos de la Norma ISO 14001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mpresa certificada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: Tiene un sistema de gestión de calidad ambiental, según ISO 14.001 y cuenta con una auditoría que lo certi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3120" y="496800"/>
            <a:ext cx="84456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CEDIMIENTO DE LA EVALUACIÓN DE IMPACT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e la evaluación de lo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Estudios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23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os órganos de la Administración del Estado competentes que participen en la evaluación del Estudio de Impacto Ambiental, deberán informar dentro del plazo máximo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treinta días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, contados desde el envío de los ejempla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e la evaluación de la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Declaraciones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29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os órganos de la Administración del Estado competentes que participen en la evaluación de la Declaración de Impacto Ambiental, dispondrán de un plazo máximo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quince días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, contados desde el envío de los ejemplares, para informar a la Comisión Regional del Medio Ambiente respectiva o a la Dirección Ejecutiva de la Comisión Nacional del Medio Ambiente, a través de su Secretario o Director Ejecutivo, respectivamente, si el impacto ambiental que genere o presente el proyecto o actividad se ajusta a las normas ambientales vig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12193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jemplo de Certificado Norma ISO 14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124080" y="304920"/>
            <a:ext cx="4573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35120" y="281160"/>
            <a:ext cx="80848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Requis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umeral 4.2 de la N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claración de una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olítica Ambient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finida por la alta gerencia, con compromiso por un mejoramiento continuo y prevención de la contaminación, cumplimiento de la reglamentación ambiental, debidamente documentada y comunicada tanto a los empleados y se encuentre a disposición del público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6202440" cy="6597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00720" y="1413000"/>
            <a:ext cx="173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Ejemp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e 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55640" y="189000"/>
            <a:ext cx="7796160" cy="65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3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lanificación</a:t>
            </a:r>
            <a:r>
              <a:rPr b="0" lang="es-E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procedimientos para: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identificar l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spectos Ambien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sus actividades y determinar aquellos que tienen Impactos significativos sobre el medio ambiente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ntificar l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Requisitos Legales y ot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que se apliquen a sus aspectos ambientales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ecer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Objetivos y Metas Ambien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cada función y nivel de la organización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través de estos últimos, generar un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rograma de Gestión Ambient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1912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189000"/>
            <a:ext cx="77961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4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Implementación y Oper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: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un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structu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defina las funciones, responsabilidades y autoridades para llevar a cabo una gestión ambiental efec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rograma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apacitación Ambient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ara los miembros de la organizació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munic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terna y externa con respecto a sus aspectos ambientales y al SG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sistema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ocument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trol de document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SG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trol de opera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reparación y respuesta ante situaciones de emerg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0"/>
            <a:ext cx="77961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5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Verificación y acción correctiv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SGA, considerando: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procedimientos para el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onitoreo y Medi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gular, de las características ambientales claves de sus actividades y el cumplimiento de la legislación ambiental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para manejar un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o conform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cciones Correctivas y Preventiv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omar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tención y disposi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egistr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mbientales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gramas y 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uditoría del SG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como principal herramienta de control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4360" y="0"/>
            <a:ext cx="77961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6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Revisión de la Ger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lta gerencia de la organización debe revisar en forma periódica la efectividad del SGA, considerando la necesidad de cambios a la política, objetivos y otros elementos, de acuerdo a los resultados de las auditorias, de los cambios de circunstancia y del compromiso por el mejoramiento continuo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08000" y="4076640"/>
            <a:ext cx="5040360" cy="2567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2400" y="189000"/>
            <a:ext cx="82641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En resumen, los requisitos de la Norma ISO 14.001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2 Política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3 Plan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4 Implementación y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5 Verificación y acción corr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6 Revisión por la G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08200" y="784080"/>
            <a:ext cx="78674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or qué ISO 14001?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ntre las principales razones para implementar ISO14001, se tienen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stándar internacionalmente reconocido y aceptado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xiste experiencia internacional en su implementación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xistencia de organizaciones auditoras y certificadoras de aceptación internacional. 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lexibilidad de adaptación a la realidad de la empresa y su gestión general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ecanismo eficaz para lograr los compromisos legales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nsistente con la política de Desarrollo Sustentable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4360" y="444600"/>
            <a:ext cx="81356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Ventajas de contar con un SGA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Conformidad con las regulaciones.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Conformidad con las exigencias de los consumidore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La compañía será más vendible (mejor imagen de Marketing)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 utilización de recurso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Reducción del costo de explotación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Niveles de seguridad superiore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a la imagen ante la comunidad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Acceso creciente al capital (Ventajas Financieras)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Limitación del riesgo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 acceso a seguros, permisos y otras autoriz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8200" y="1576440"/>
            <a:ext cx="7724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Según la 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Ley 19.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Para los E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Art. 15º: fija plazo de revisión de 120 días como máx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Art. 16º: El plazo se puede ampliar hasta en 60 días adi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rtículo 17.-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Si transcurridos los plazos a que se refieren los artículos 15 y 16, la Comisión Regional o Nacional del Medio Ambiente, en su caso, no se ha pronunciado sobre el Estudio de Impacto Ambiental, éste se entenderá calificado favorable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260280"/>
            <a:ext cx="786924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6600"/>
                </a:solidFill>
                <a:latin typeface="Arial"/>
              </a:rPr>
              <a:t>Como se realiza una Auditoría para certificar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La empresa contrata a una consultora ACREDIT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La consultora ACREDITADA acuerda con la empresa un programa para revisar el cumplimiento de todos los requisitos de la Nor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Si se encuentra una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No Conformidad =  Incumplimiento de un requisito </a:t>
            </a: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y se indica como un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Hallaz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Hallazgo debe explicitarse con tres anteced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1. Evidencia objetiva del documento, hecho, dicho u otro encontrado que se obj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2200" y="639720"/>
            <a:ext cx="801216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Arial"/>
              </a:rPr>
              <a:t>Como se realiza una Auditoría para certificar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resa debe resolver o corregir o comprometerse a cumplir con los hallazgos encontrados, dentro de un plazo no superior a 90 dí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a vez que se verifican todos los requisitos, la empresa se puede certif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certificación dura 3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resa debe realizar auditorías de mantención de la certificación, una vez al 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360" y="476280"/>
            <a:ext cx="8083440" cy="56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JEMPLO DE HALLAZGOS Y NO CONFORM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Dice el encargado de implementar el Sistema de gestión Ambiental bajo la Norma ISO 14001 “He tenido problemas para implementar esta norma por falta de recurso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videncia objetiva del documento, hecho, dicho u otro encontrado que se objeta.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os dichos del encar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: 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4.4.1, segundo párra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párrafo dice”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a gerencia debe proporcionar los recursos esenciales para la implementación  y el control del sistema de gestión ambiental …..”, lo cual se verifica que no se ha cumplido, según lo inform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11280" y="857160"/>
            <a:ext cx="82818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6600"/>
                </a:solidFill>
                <a:latin typeface="Arial"/>
              </a:rPr>
              <a:t>¿Cómo se puede resolver esta No Conformidad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a Alta Gerencia emite un documento oficial, en que se explicita el compromiso de asignar los recursos  que fal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Nota: Todos los compromisos deben ser oficiales, de la Alta Gerencia, posibles de verificar en las auditorías sigu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476280"/>
            <a:ext cx="808344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JEMPLO DE HALLAZGOS Y NO CONFORM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e produjo un error en la implementación de un proyecto ambiental, debido a que se utilizó una versión antigua de las Especificaciones Técnicas para la compra de los equipos de descontamin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videncia objetiva del documento, hecho, dicho u otro encontrado que se objeta.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versión antigua de las Especificaciones Técnic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: 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4.4.5, 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párrafo se refiere al Control de documentos, específicamente, al retiro de los documentos obsol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4360" y="333360"/>
            <a:ext cx="748800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Arial"/>
              </a:rPr>
              <a:t>¿Cómo se puede resolver esta No Conformida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a Alta Gerencia emite un documento oficial, en que se compromete a capacitar al personal en el procedimiento de control de documentos. (Además de cambiar el documento obsoleto, lo cual es verificable) =&gt; </a:t>
            </a:r>
            <a:r>
              <a:rPr b="0" lang="es-CL" sz="2400" spc="-1" strike="noStrike">
                <a:solidFill>
                  <a:srgbClr val="006600"/>
                </a:solidFill>
                <a:latin typeface="Arial"/>
              </a:rPr>
              <a:t>asegurarse que no se volverá a producir el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Se debe indicar el Nº de personas, duración del curso, materia, etc. y registrar su realización con asistencia y evalu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Dicho registro constituye la evidencia para levantar la no conform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228600"/>
            <a:ext cx="84740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Algunas consideraciones sobre ISO 14.001: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Para certificar, la empresa se prepara realizando capacitación a todo el personal y preparando los procedimientos y registros de la operación según los procedimi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La certificación es un proceso posterior a una Auditoría de certificación, realizado por una expresa acreditada por el I.N.N., que verifica que el sistema está implementado y hay evidencia que está operando según los procedimientos defin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8360" y="5675400"/>
            <a:ext cx="44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ncipio de Participación del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143000" y="1752120"/>
            <a:ext cx="685800" cy="4038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46680" y="4989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360" y="5029200"/>
            <a:ext cx="54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ncipio Toma de decisiones basada en hech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4647960" y="2209680"/>
            <a:ext cx="15228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676520" y="4419360"/>
            <a:ext cx="31240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0880" y="685800"/>
            <a:ext cx="83822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lgunas consideraciones sobre ISO 14.001: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 certificación comprende a toda la organización, pero su ámbito de procesos son solamente los que se declara y aparecen en el certific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a empresa puede certificar en forma gradual sus procesos, pero todos son parte del mismo sistema de gestión de calidad ambi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 Una empresa puede certificarse con varias normas, como: ISO 9001:2000 (Gestión de Calidad), ISO 14.001:2004 (Gestión de Calidad Ambiental) y OSHAS 18.000 (Seguridad e Higie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981000"/>
            <a:ext cx="81565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rtículo 18.-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Los titulares de los proyectos o actividades que deban someterse al sistema de evaluación de impacto ambiental y que no requieran elaborar un Estudio de Impacto Ambiental, presentarán un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claración de Impacto Ambiental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bajo la forma de una declaración jurada, en la cual expresarán que éstos cumplen con la legislación ambiental vig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o obstante lo anterior, la Declaración de Impacto Ambiental podrá contemplar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mpromisos ambientales voluntario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no exigidos por la ley. En tal caso, el titular estará obligado a cumplir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a Comisión Regional o Nacional del Medio Ambiente, en su caso, tendrá un plazo d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esenta día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para pronunciarse sobre la Declaración de Impacto Ambien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i transcurrido el plazo a que se refiere el inciso anterior, los organismos del Estado competentes no hubieren otorgado los permisos o pronunciamientos ambientales sectoriales requeridos para el respectivo proyecto o actividad, la Comisión Regional o Nacional del Medio Ambiente, en su caso, a petición del interesado, requerirá al organismo del Estado responsable para que, en el plazo de treinta días, emita el permiso o pronunciamiento correspondiente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encido este plazo, el permiso o pronunciamiento faltante se entenderá otorgado favorable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564000" y="2997000"/>
            <a:ext cx="1079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1268280"/>
            <a:ext cx="7366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. 23º del reglamento (E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 ser necesario,  se solicitarán fundadamente las aclaraciones, rectificaciones o ampliaciones que se estimen pertinentes para la adecuada comprensión de dicho Estu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n el Art. 29º del Reglamento (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 ser necesario, se solicitarán fundadamente, las aclaraciones, rectificaciones o ampliaciones que se estimen pertinentes para la adecuada comprensión de dicha Decla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uando la CONAMA o COREMA solicita aclaraciones o informes, se detiene el tiempo transcurrido de revi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92200" y="857160"/>
            <a:ext cx="7940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 34º  De la Resolución de Calificación Ambiental del Proyecto o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 42º  De las Reclam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rt 49º  - DE LA PARTICIPACIÓN DE LA COMUNIDAD EN EL PROC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 EVALUACIÓN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ublicación de un extracto visado por la COR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Artículo 53.-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organizaciones y personas a que se refiere el artículo anterior podrán formular observaciones al Estudio de Impacto Ambiental, ante el organismo competente.  Para ello dispondrán de un plazo de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sesenta días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, contado desde la respectiva publicación del extra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9080" y="333360"/>
            <a:ext cx="73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CEDIMIENTO DE LA EVALUACIÓN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692280"/>
            <a:ext cx="82296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7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l Plan de Medidas de Mitigación, Reparación y Compensación de un proyecto o actividad deberá contener, cuando proceda, uno o más de los siguientes pla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Mitig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Reparación y/o Resta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)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Compens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1280" y="404640"/>
            <a:ext cx="7796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8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mitig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evitar o disminuir  los efectos adversos del proyecto o actividad, cualquiera sea su fase de ejecución. Se expresarán en un Plan de Medidas de Mitigación que deberá considerar , a lo menos, una de las siguientes medi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que impidan o eviten completamente el efecto adverso significativo, mediante la no ejecución de una obra o acción, o de alguna de sus pa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b)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que minimizan o disminuyen el efecto adverso significativo, mediante una adecuada limitación o reducción de la magnitud o duración de la obra o acción, o de alguna de sus partes, o a través de la implementación de medidas específ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8:41:14Z</dcterms:created>
  <dc:creator>Enrique K</dc:creator>
  <dc:description/>
  <dc:language>en-US</dc:language>
  <cp:lastModifiedBy>Mario</cp:lastModifiedBy>
  <dcterms:modified xsi:type="dcterms:W3CDTF">2008-11-18T19:26:49Z</dcterms:modified>
  <cp:revision>50</cp:revision>
  <dc:subject/>
  <dc:title>Diapositiva 1</dc:title>
</cp:coreProperties>
</file>