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6B8-DD7F-4E0F-A44D-F86FB6D9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E64-4523-4A5F-8CCB-99245390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B67-8C3C-4B7F-B03A-3E99974B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DC5-5239-44E1-A244-32804A57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4DD-6A26-4D32-8CC9-1B293C78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866-51FC-44F2-B68C-0A710DAF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947-EFE8-4525-B3EB-5CF118B7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B63-C460-4942-870E-4A5AF864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3E7-7898-4A8D-BC22-52225F62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219-E35A-4079-A3B1-A73B746D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904-CB3C-427C-B896-30A4891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991-BAE9-42C2-A776-9E192185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E92B-56C9-4A5B-AFBB-5DB83A0B0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914400"/>
            <a:ext cx="729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  &lt; ---- &gt;  Prove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&gt; Todas las personas de la organización deben conocer e involucrarse en la implementación de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mejorar las operaciones, encontrando que cosas se están haciendo incorrectamente y determinando ideas para solventar esos problemas. 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Nivel Oper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que los pequeños cambios están consiguiendo los resultados deseados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Estratég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 Evidencia basada en documentos, registros, hechos, dic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stitución rectora a nivel paí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s Acreditada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 certificada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228600"/>
            <a:ext cx="8474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ara certificar, la empresa se prepara realizando capacitación a todo el personal y preparando los procedimientos y registros de la operación según los proced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La certificación es un proceso posterior a una Auditoría de certificación, realizado por una expresa acreditada por el I.N.N., que verifica que el sistema está implementado y hay evidencia que está operando según los procedimientos defi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8360" y="567540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de Participación del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43000" y="1752120"/>
            <a:ext cx="685800" cy="4038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4668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360" y="502920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Toma de decisiones basada en h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647960" y="2209680"/>
            <a:ext cx="15228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76520" y="4419360"/>
            <a:ext cx="31240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685800"/>
            <a:ext cx="8382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 certificación comprende a toda la organización, pero su ámbito de procesos son solamente los que se declara y aparecen en el certific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 empresa puede certificar en forma gradual sus procesos, pero todos son parte del mismo sistema de gestión de calidad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Una empresa puede certificarse con varias normas, como: ISO 9001:2000 (Gestión de Calidad), ISO 14.001:2004 (Gestión de Calidad Ambiental) y OSHAS 18.000 (Seguridad e Higie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18T19:26:49Z</dcterms:modified>
  <cp:revision>50</cp:revision>
  <dc:subject/>
  <dc:title>Diapositiva 1</dc:title>
</cp:coreProperties>
</file>