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0D9-04AD-4581-ADF6-CD698EC0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495B-A054-45C3-A85A-CFF2E0B3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C5D-E9C0-406F-A7E3-44C179CF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B8EF-AF28-44F6-ACAA-60E91FF5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E80-E0F9-4A38-82E7-06222922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2658-8900-49CA-A442-A86F7172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EC75-95EE-4EBF-A92C-2578EDBE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5A67-404A-47D3-B5F6-E8A9BB2D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40D7-F672-49B1-84D7-26AA9CFC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DE3-CB6B-4CE1-8E5C-B49E132F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65AE-C5B4-4069-B174-56166A8B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BCD-4941-4D06-A0E8-6387C287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8EF7-85C1-4B48-8A1F-A01635272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20640"/>
            <a:ext cx="80121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FACULTAD DE CIENCIAS FÍSICAS Y MATEMÁTICAS  -  ESCUELA DE INGENIE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99"/>
                </a:solidFill>
                <a:uFillTx/>
                <a:latin typeface="Arial"/>
              </a:rPr>
              <a:t>DEPARTAMENTO DE INGENIERÍ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"EVALUACIÓN DE IMPACTO AMBIENTAL (EIA)"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ESTRE PRIMAVER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OFESOR : ENRIQUE KALISKI KRIG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Sesión Nº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404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reparación y/o restaur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reponer uno o más de los componentes o elementos del medio ambiente a una calidad similar a la que tenían con anterioridad al daño causado o, en caso de no ser ello posible, restablecer sus propiedades bás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60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ompens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producir o generar un efecto positivo alternativo y equivalente a un efecto adverso identif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Compensación, el que incluirá el reemplazo o sustitución de los recursos naturales o elementos del medio ambiente afectados, por otros de similares características, clase, naturaleza y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24600" y="547560"/>
            <a:ext cx="75934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NSTRUMENTO DE GESTION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 ORGANIZACION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STEMA DE GESTION  AMBIENTAL DE  C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NORMA ISO 14.001: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Arial"/>
              </a:rPr>
              <a:t>¿Qué es Cal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9000"/>
            <a:ext cx="10012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STRUMENTO DE GESTION AMBIENTAL - ORGANIZACIONE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A GESTION  AMBIENTAL DE 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413000"/>
            <a:ext cx="8280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Conjunto de elementos mutuamente relacionados o que interactú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Actividades coordinadas para dirigir y controlar un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Grado en que el conjunto de características inherentes cumple con los requisi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Un sistema de calidad es un método planificado y sistemático de medios y acciones, encaminados a asegurar suficiente confianza en que los productos o servicios, se ajusten a las especific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para establecer política y los objetivos y para lograr dichos obje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stema de gestión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de gestión para dirigir y controlar una organización con respecto a la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3640" y="65160"/>
            <a:ext cx="79578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LA GESTION  DE 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rin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1: Enfoque en el client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2: Liderazg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3: Participación del person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4: Enfoque en los proceso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5: Gestión basada en los sistema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6: Mejora continu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7: Toma de decisiones basada en hecho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8: Relación mutuamente beneficiosa con los suministr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50760" y="1289160"/>
            <a:ext cx="7293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1. Enfoque en el client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organizaciones dependen de sus clientes y, por lo tanto, deberían comprender las demandas actuales y futuras de sus clientes, satisfacer los requisitos de los clientes y esforzarse en rebasar las expectativas de los cliente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o de Clientes Externos e in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08200" y="857160"/>
            <a:ext cx="758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2  Liderazgo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líderes son los que establecen la unidad en cuento a los fines y el rumbo de la organización. Es conveniente que éstos desarrollen y mantengan un entorno interno que permita que las personas puedan participar de forma plena en la consecución de los objetivos de la organización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79480" y="857160"/>
            <a:ext cx="693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3. Participación del perso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ersonas que intervienen en todos los niveles de la organización constituyen la esencia de ésta y su plena participación es lo que permite que sus capacidades sean aprovechadas en beneficio de la organiz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66760" y="712800"/>
            <a:ext cx="758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4. Enfoque de proceso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resultado esperado se consigue de forma más eficiente cuando las actividades y los recursos relacionados se gestionan como un proces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58360" y="38815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40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378936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4076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5240" y="386064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2160" y="38606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9000" y="4869000"/>
            <a:ext cx="69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lida de un proceso puede ser la entrada del proceso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66760" y="1073160"/>
            <a:ext cx="743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5  Gestión basada en los sistema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dentificación, comprensión y gestión a modo de sistema de los procesos interrelacionados contribuye a la eficacia y la eficiencia de la organización a la hora de conseguir sus objetivo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692280"/>
            <a:ext cx="80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io 6. Mejora continua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ejora continua del funcionamiento global de la organización debería constituir un objetivo permanente de ésta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205000"/>
            <a:ext cx="772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333399"/>
                </a:solidFill>
                <a:latin typeface="Arial"/>
              </a:rPr>
              <a:t>El Ciclo de Deming. (Edward De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ta basado en un ciclo infinito de 4 pasos: Planifique (Plan), Haga (Do), Verifique (Check) y Actúe  (Do) y se conocen ampliamente por sus siglas como ciclos PHVA (en español) o ciclo PDCA (Ingl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32400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3333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istema de Evaluación de Impacto Ambiental  (SE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10520" y="14842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2205000"/>
            <a:ext cx="1655640" cy="10080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2421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 en el Art. 3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364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2708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58000" y="22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7640" y="236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1640" y="24400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resa a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22050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ede ingresar al SEIA en forma volu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484280"/>
            <a:ext cx="14396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2133720"/>
            <a:ext cx="17272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2349360"/>
            <a:ext cx="1800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36450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mple algún requisito Art. 5º al 11º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3357720"/>
            <a:ext cx="2951280" cy="15825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72360" y="49417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427640" y="4149720"/>
            <a:ext cx="574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544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288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51240" y="5516640"/>
            <a:ext cx="27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Debe hacer un E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2º y 13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7600" y="3860640"/>
            <a:ext cx="285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Hace una D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4º al 16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6420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4450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Agregar Contenidos de Permisos Sectoriales Art. 65º al 106º, según el tipo de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71640" y="4797360"/>
            <a:ext cx="432000" cy="719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492000" y="6021360"/>
            <a:ext cx="1584360" cy="216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79480" y="639720"/>
            <a:ext cx="7724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Cada paso del ciclo se describe como sig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Planifique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para mejorar las operaciones, encontrando que cosas se están haciendo incorrectamente y determinando ideas para solventar esos problem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Haga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cambios diseñados para resolver los problemas primero en una escala pequeña o experimental. Esto minimiza el entorpecimiento de las actividades diarias mientras se prueban si los cambios funcionan o 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Verifique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que los pequeños cambios están consiguiendo los resultados dese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Actúe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para implementar el cambio a gran escala si el experimento es exitoso. Actuar también involucra a otras personas (otros departamentos, suplidores o clientes) afectado por el cambio y cuya cooperación se necesita para implementar el cambio a gran esca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79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620640"/>
            <a:ext cx="7704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333399"/>
                </a:solidFill>
                <a:latin typeface="Arial"/>
              </a:rPr>
              <a:t>Ejemplo del Ciclo de Dem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333399"/>
                </a:solidFill>
                <a:latin typeface="Arial"/>
              </a:rPr>
              <a:t>Proceso de estudio de una asignatura  de un alumno en un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Planifique: Cómo estudiará en el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Haga: estudie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Verifique: Registra las notas obtenidas de las evaluaciones y analiza el rendimiento,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Actúe: Aplique modificaciones a lo planificado para mejorar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08200" y="568440"/>
            <a:ext cx="7508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7. Toma de decisiones basada en hecho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decisiones eficaces se basan en el análisis de los datos y la inform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08200" y="1000080"/>
            <a:ext cx="808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8. Relación mutuamente beneficiosa con los suministradores o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organización y sus suministradores mantienen interdependencias y una relación mutuamente beneficiosa sirve para aumentar la capacidad de ambas partes a la hora de aportar un valor añadi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8880" y="52293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5445000"/>
            <a:ext cx="208764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8880" y="53006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92200" y="1000080"/>
            <a:ext cx="8156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Cuando se hace un informe y/o un plano, que puede tener muchas versiones hasta su versión definiti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se aseguran que la versión que acceden es la vig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lo debería hacer una organización que maneja muchos documentos a la ve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333360"/>
            <a:ext cx="820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nceptos importantes en un Sistema de gestión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ocedimiento documentad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 Los pasos a seguir en un procedimiento están explícitos en un documento formal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En la U. de Chile, hay un procedimiento para las evaluaciones docentes (Regl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Documento  Controlado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cumento que tiene un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dimiento documentado, para controlar que la versión que está disponible sea la última o la vig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Cada vez que se emita una nueva versión del informe o plano, se debe identificar con la fecha de emisión y asegurarse que todas las copias de la versión no vigente queden fuera de circulación en la organización.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a persona que recibe un documento, firma en un registro de documentos entregados, de modo de conocer donde está cada c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OS DOCUMENTOS CONTROLADOS ASEGURAN QUE LA VERSIÓN DISPONIBLE ES LA VIGENTE Y EVITAN ERRORES DE 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549360"/>
            <a:ext cx="81565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¿Qué son las normas ISO?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 normas ISO son normas o estándares desarrollados por la International Organization for Standarization (ISO), organismo internacional no gubernamental con sede en Ginebra, con más de 100 agrupaciones o países miembros, y que no está afiliada a las Naciones Unidas ni a ninguna organización europea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836640"/>
            <a:ext cx="73641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as Normas ISO 14000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 Normas ISO-14000 son una familia de normas que persiguen establecer herramientas y sistemas para la administración de numerosas obligaciones ambientales de una organización sin prescribir que metas debe alcanz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a serie, como un todo, busca la estandarización de algunas herramientas de análisis clave, tales como l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ditoría ambiental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y el avalúo del ciclo de vida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 norma base o núcleo de esta familia de normas, es la ISO 14001, la cual entrega los requisitos que debe tener un sistema de gestión ambiental (SGA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6920" y="620640"/>
            <a:ext cx="7221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sta norma busca conducir a la organización dentro de un Sistema de Gestión Ambiental (SGA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rtificabl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 estructurado e integrado a la actividad general de gestión, especificando lo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quisito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que debe poseer y que sea aplicable a cualquier tipo y tamaño de organización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260280"/>
            <a:ext cx="786924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6600"/>
                </a:solidFill>
                <a:uFillTx/>
                <a:latin typeface="Arial"/>
              </a:rPr>
              <a:t>Niveles de cer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1.  Institución rectora a nivel país:  I.N.N. (Otorga acreditación a empresas especializadas, para que puedan certificar a otras organizaciones según ISO 14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2.  Empresas Acreditadas: Efectúan auditorías a organizaciones para certificación (</a:t>
            </a:r>
            <a:r>
              <a:rPr b="1" i="1" lang="es-CL" sz="2400" spc="-1" strike="noStrike">
                <a:solidFill>
                  <a:srgbClr val="006600"/>
                </a:solidFill>
                <a:latin typeface="Arial"/>
              </a:rPr>
              <a:t>Verifican que la organización cumple todos los requisitos de la Norma ISO 14001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Empresa certificada: Tiene un sistema de gestión de calidad ambiental, según ISO 14.001 y cuenta con una auditoría que lo certi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3120" y="496800"/>
            <a:ext cx="84456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o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Estudio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3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l Estudio de Impacto Ambiental, deberán informar dentro del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treinta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a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Declaracione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 la Declaración de Impacto Ambiental, dispondrán de un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quince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, para informar a la Comisión Regional del Medio Ambiente respectiva o a la Dirección Ejecutiva de la Comisión Nacional del Medio Ambiente, a través de su Secretario o Director Ejecutivo, respectivamente, si el impacto ambiental que genere o presente el proyecto o actividad se ajusta a las normas ambientales vig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12193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jemplo de Certificado Norma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4573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35120" y="281160"/>
            <a:ext cx="80848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umeral 4.2 de la N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laración de una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olítica Ambien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finida por la alta gerencia, con compromiso por un mejoramiento continuo y prevención de la contaminación, cumplimiento de la reglamentación ambiental, debidamente documentada y comunicada tanto a los empleados y se encuentre a disposición del público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6202440" cy="659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720" y="1413000"/>
            <a:ext cx="173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Ejemp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55640" y="189000"/>
            <a:ext cx="779616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3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lanificación</a:t>
            </a:r>
            <a:r>
              <a:rPr b="0" lang="es-E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procedimientos para: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specto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sus actividades y determinar aquellos que tienen Impactos significativos sobre el medio ambient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Requisitos Legales y ot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que se apliquen a sus aspectos ambientales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r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bjetivos y Meta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cada función y nivel de la organización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través de estos últimos, generar u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ograma de Gestión Ambient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19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18900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4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Implementación y Oper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ructu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defina las funciones, responsabilidades y autoridades para llevar a cabo una gestión ambiental efec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ograma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apacitación Ambient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los miembros de la organizació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terna y externa con respecto a sus aspectos ambientales y a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sistema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ocument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document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opera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reparación y respuesta ante situaciones de emerg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5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Verificación y acción correctiv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, considerando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procedimientos para 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onitoreo y Medi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gular, de las características ambientales claves de sus actividades y el cumplimiento de la legislación ambiental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para manejar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o conform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cciones Correctivas y Preventiv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omar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ción y disposi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gistr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mbiental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gramas y 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uditoría del SG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omo principal herramienta de control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0"/>
            <a:ext cx="77961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6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Revisión de la Ger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lta gerencia de la organización debe revisar en forma periódica la efectividad del SGA, considerando la necesidad de cambios a la política, objetivos y otros elementos, de acuerdo a los resultados de las auditorias, de los cambios de circunstancia y del compromiso por el mejoramiento continuo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4076640"/>
            <a:ext cx="5040360" cy="2567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2400" y="189000"/>
            <a:ext cx="82641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En resumen, los requisitos de la Norma ISO 14.001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2 Política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3 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4 Implementación y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5 Verificación y acción cor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6 Revisión por la G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08200" y="784080"/>
            <a:ext cx="78674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or qué ISO 14001?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ntre las principales razones para implementar ISO14001, se tienen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ándar internacionalmente reconocido y aceptado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 experiencia internacional en su implementación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ncia de organizaciones auditoras y certificadoras de aceptación internacional. 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lexibilidad de adaptación a la realidad de la empresa y su gestión general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ecanismo eficaz para lograr los compromisos legales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sistente con la política de Desarrollo Sustentabl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4360" y="444600"/>
            <a:ext cx="81356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Ventajas de contar con un SGA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regulaciones.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exigencias de los consumid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a compañía será más vendible (mejor imagen de Marketing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utilización de recurso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Reducción del costo de explotación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Niveles de seguridad superi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a la imagen ante la comunidad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Acceso creciente al capital (Ventajas Financieras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imitación del riesgo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acceso a seguros, permisos y otras autoriz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8200" y="1576440"/>
            <a:ext cx="7724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Según la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Ley 19.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Para los 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5º: fija plazo de revisión de 120 días como máx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6º: El plazo se puede ampliar hasta en 60 días adi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rtículo 17.-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Si transcurridos los plazos a que se refieren los artículos 15 y 16, la Comisión Regional o Nacional del Medio Ambiente, en su caso, no se ha pronunciado sobre el Estudio de Impacto Ambiental, éste se entenderá calificado favorable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260280"/>
            <a:ext cx="78692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empresa contrata a una consultora ACREDIT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consultora ACREDITADA acuerda con la empresa un programa para revisar el cumplimiento de todos los requisitos de la Nor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Si se encuentra una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 Conformidad =  Incumplimiento de un requisito </a:t>
            </a: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y se indica como un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Hallaz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Hallazgo debe explicitarse con tres anteced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1. Evidencia objetiva del documento, hecho, dicho u otro encontrado que se obj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2200" y="639720"/>
            <a:ext cx="801216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solver o corregir o comprometerse a cumplir con los hallazgos encontrados, dentro de un plazo no superior a 90 dí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vez que se verifican todos los requisitos, la empresa se puede cer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ertificación dura 3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alizar auditorías de mantención de la certificación, una vez al 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476280"/>
            <a:ext cx="808344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Dice el encargado de implementar el Sistema de gestión Ambiental bajo la Norma ISO 14001 “He tenido problemas para implementar esta norma por falta de recurs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os dichos del encar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1, segundo párra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dice”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gerencia debe proporcionar los recursos esenciales para la implementación  y el control del sistema de gestión ambiental …..”, lo cual se verifica que no se ha cumplido, según lo infor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857160"/>
            <a:ext cx="82818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explicita el compromiso de asignar los recursos  que f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Nota: Todos los compromisos deben ser oficiales, de la Alta Gerencia, posibles de verificar en las auditorí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476280"/>
            <a:ext cx="808344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 produjo un error en la implementación de un proyecto ambiental, debido a que se utilizó una versión antigua de las Especificaciones Técnicas para la compra de los equipos de descontamin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versión antigua de las Especificaciones Técn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5,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se refiere al Control de documentos, específicamente, al retiro de los documentos obsol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333360"/>
            <a:ext cx="7488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compromete a capacitar al personal en el procedimiento de control de documentos. (Además de cambiar el documento obsoleto, lo cual es verificable) =&gt; </a:t>
            </a:r>
            <a:r>
              <a:rPr b="0" lang="es-CL" sz="2400" spc="-1" strike="noStrike">
                <a:solidFill>
                  <a:srgbClr val="006600"/>
                </a:solidFill>
                <a:latin typeface="Arial"/>
              </a:rPr>
              <a:t>asegurarse que no se volverá a producir el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Se debe indicar el Nº de personas, duración del curso, materia, etc. y registrar su realización con asistencia y eval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Dicho registro constituye la evidencia para levantar la no conform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981000"/>
            <a:ext cx="81565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rtículo 18.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Los titulares de los proyectos o actividades que deban someterse al sistema de evaluación de impacto ambiental y que no requieran elaborar un Estudio de Impacto Ambiental, presentarán un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claración de Impacto Ambienta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bajo la forma de una declaración jurada, en la cual expresarán que éstos cumplen con la legislación ambiental vig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o obstante lo anterior, la Declaración de Impacto Ambiental podrá contemplar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romisos ambientales voluntario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no exigidos por la ley. En tal caso, el titular estará obligado a cumplir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a Comisión Regional o Nacional del Medio Ambiente, en su caso, tendrá un plazo d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para pronunciarse sobre la Declaración de Impacto Ambi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 transcurrido el plazo a que se refiere el inciso anterior, los organismos del Estado competentes no hubieren otorgado los permisos o pronunciamientos ambientales sectoriales requeridos para el respectivo proyecto o actividad, la Comisión Regional o Nacional del Medio Ambiente, en su caso, a petición del interesado, requerirá al organismo del Estado responsable para que, en el plazo de treinta días, emita el permiso o pronunciamiento correspondiente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encido este plazo, el permiso o pronunciamiento faltante se entenderá otorgado favorable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564000" y="2997000"/>
            <a:ext cx="1079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268280"/>
            <a:ext cx="7366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. 23º del reglamento (E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 se solicitarán fundadamente las aclaraciones, rectificaciones o ampliaciones que se estimen pertinentes para la adecuada comprensión de dicho Estu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 el Art. 29º del Reglamento (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se solicitarán fundadamente, las aclaraciones, rectificaciones o ampliaciones que se estimen pertinentes para la adecuada comprensión de dicha Decla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uando la CONAMA o COREMA solicita aclaraciones o informes, se detiene el tiempo transcurrido de rev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92200" y="857160"/>
            <a:ext cx="7940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34º  De la Resolución de Calificación Ambiental del Proyecto o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42º  De las Recla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rt 49º  - DE LA PARTICIPACIÓN DE LA COMUNIDAD EN EL PRO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ublicación de un extracto visado por la COR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Artículo 53.-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organizaciones y personas a que se refiere el artículo anterior podrán formular observaciones al Estudio de Impacto Ambiental, ante el organismo competente.  Para ello dispondrán de un plazo de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, contado desde la respectiva publicación del extr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9080" y="333360"/>
            <a:ext cx="73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692280"/>
            <a:ext cx="82296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7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l Plan de Medidas de Mitigación, Reparación y Compensación de un proyecto o actividad deberá contener, cuando proceda, uno o más de los siguientes pla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Mi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Compens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404640"/>
            <a:ext cx="7796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8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mitig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evitar o disminuir  los efectos adversos del proyecto o actividad, cualquiera sea su fase de ejecución. Se expresarán en un Plan de Medidas de Mitigación que deberá considerar , a lo menos, una de las siguientes med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impidan o eviten completamente el efecto adverso significativo, mediante la no ejecución de una obra o acción, o de alguna de sus p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b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minimizan o disminuyen el efecto adverso significativo, mediante una adecuada limitación o reducción de la magnitud o duración de la obra o acción, o de alguna de sus partes, o a través de la implementación de medidas especí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41:14Z</dcterms:created>
  <dc:creator>Enrique K</dc:creator>
  <dc:description/>
  <dc:language>en-US</dc:language>
  <cp:lastModifiedBy>Mario</cp:lastModifiedBy>
  <dcterms:modified xsi:type="dcterms:W3CDTF">2008-11-04T20:08:02Z</dcterms:modified>
  <cp:revision>43</cp:revision>
  <dc:subject/>
  <dc:title>Diapositiva 1</dc:title>
</cp:coreProperties>
</file>