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0318E-7BF6-4373-908D-8AB5F536E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4320C-EA29-4E3C-929E-BC0A76207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28DDB-8DF7-43E3-8BFD-50DDD7292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619EC-4924-4925-9443-353B609EF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73B5D-D210-4D64-98A7-7BB8CA649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8D309-19B7-4890-A238-5DB3DAB48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9D846-6E13-4A00-A3A0-926E0D501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FFF42-35D7-44EE-9C35-6977B4B1D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B4233-A6E8-4B9E-BB17-DF0BFC5A8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264B1-200F-4FEE-A311-BA80D0FBA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F4BB7-BCED-42E3-900F-C67D2D7C1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1A05F-5D51-4A19-AFE4-B94F3F873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72D7-440E-4720-8FD6-0B158D54E5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280" y="620640"/>
            <a:ext cx="8012160" cy="521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UNIVERSIDAD DE 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ACULTAD DE CIENCIAS FÍSICAS Y MATEMÁTICAS  -  ESCUELA DE INGENIER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Arial"/>
              </a:rPr>
              <a:t>DEPARTAMENTO DE INGENIERÍA CIV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INAR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1" lang="es-ES_tradnl" sz="2400" spc="-1" strike="noStrike">
                <a:solidFill>
                  <a:srgbClr val="333399"/>
                </a:solidFill>
                <a:latin typeface="Arial"/>
              </a:rPr>
              <a:t>"EVALUACIÓN DE IMPACTO AMBIENTAL (E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ESTRE PRIMAVERA 200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FESOR : ENRIQUE KALISKI KRIGU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Sesión Nº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800280" y="687240"/>
            <a:ext cx="7310160" cy="25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n el caso de una v.a. paisaje, la Calidad ambiental podría s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Sin proyecto: 0,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lt.1:              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lt 2:              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611280" y="3284640"/>
            <a:ext cx="7292880" cy="27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álculo de la </a:t>
            </a:r>
            <a:r>
              <a:rPr b="0" i="1" lang="es-ES" sz="2000" spc="-1" strike="noStrike">
                <a:solidFill>
                  <a:srgbClr val="000099"/>
                </a:solidFill>
                <a:latin typeface="Arial"/>
              </a:rPr>
              <a:t>Calidad Ambiental Integrada</a:t>
            </a:r>
            <a:r>
              <a:rPr b="0" lang="es-ES" sz="2000" spc="-1" strike="noStrike">
                <a:solidFill>
                  <a:srgbClr val="000099"/>
                </a:solidFill>
                <a:latin typeface="Arial"/>
              </a:rPr>
              <a:t> (CAI),  mediante las expresiones siguien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AI = S Pj  * Cj   en la situación sin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AI’ = S Pj  * C’j  para la situación con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39640" y="765000"/>
            <a:ext cx="8209080" cy="4826160"/>
          </a:xfrm>
          <a:prstGeom prst="rect">
            <a:avLst/>
          </a:prstGeom>
          <a:ln w="0">
            <a:noFill/>
          </a:ln>
        </p:spPr>
      </p:pic>
      <p:sp>
        <p:nvSpPr>
          <p:cNvPr id="85" name=""/>
          <p:cNvSpPr/>
          <p:nvPr/>
        </p:nvSpPr>
        <p:spPr>
          <a:xfrm>
            <a:off x="4427640" y="1125360"/>
            <a:ext cx="32605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lternativa Nº 1</a:t>
            </a:r>
            <a:r>
              <a:rPr b="0" lang="es-ES_tradnl" sz="1800" spc="-1" strike="noStrike">
                <a:solidFill>
                  <a:srgbClr val="000099"/>
                </a:solidFill>
                <a:latin typeface="Arial"/>
              </a:rPr>
              <a:t> consiste en un canal que toma las aguas en la ribera derecha del río y en su trayecto atraviesa un pueblo, y posteriormente llega a la zona de ri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lternativa Nº 2</a:t>
            </a:r>
            <a:r>
              <a:rPr b="0" lang="es-ES_tradnl" sz="1800" spc="-1" strike="noStrike">
                <a:solidFill>
                  <a:srgbClr val="000099"/>
                </a:solidFill>
                <a:latin typeface="Arial"/>
              </a:rPr>
              <a:t> toma las aguas en la ribera izquierda y en su trayecto atraviesa una zona industrial y llega a la zona de riego cruzando el río mediante un sif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lternativa Nº 3</a:t>
            </a:r>
            <a:r>
              <a:rPr b="0" lang="es-ES_tradnl" sz="1800" spc="-1" strike="noStrike">
                <a:solidFill>
                  <a:srgbClr val="000099"/>
                </a:solidFill>
                <a:latin typeface="Arial"/>
              </a:rPr>
              <a:t> consiste en un bombeo y conducción desde la ribera izquierda del río, frente a la zona de riego.</a:t>
            </a:r>
            <a:endParaRPr b="0" lang="en-US" sz="1800" spc="-1" strike="noStrike">
              <a:solidFill>
                <a:srgbClr val="000000"/>
              </a:solidFill>
              <a:latin typeface="Arial"/>
            </a:endParaRPr>
          </a:p>
        </p:txBody>
      </p:sp>
      <p:sp>
        <p:nvSpPr>
          <p:cNvPr id="86" name=""/>
          <p:cNvSpPr/>
          <p:nvPr/>
        </p:nvSpPr>
        <p:spPr>
          <a:xfrm>
            <a:off x="663480" y="208080"/>
            <a:ext cx="801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99"/>
                </a:solidFill>
                <a:uFillTx/>
                <a:latin typeface="Arial"/>
              </a:rPr>
              <a:t>Ejemplo de Aplicación T</a:t>
            </a:r>
            <a:r>
              <a:rPr b="0" lang="es-ES_tradnl" sz="1800" spc="-1" strike="noStrike">
                <a:solidFill>
                  <a:srgbClr val="000099"/>
                </a:solidFill>
                <a:latin typeface="Arial"/>
              </a:rPr>
              <a:t>res alternativas siguientes para abastecer agua de riego a una zo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24000" y="2421000"/>
            <a:ext cx="8424720" cy="3038400"/>
          </a:xfrm>
          <a:prstGeom prst="rect">
            <a:avLst/>
          </a:prstGeom>
          <a:ln w="0">
            <a:noFill/>
          </a:ln>
        </p:spPr>
      </p:pic>
      <p:sp>
        <p:nvSpPr>
          <p:cNvPr id="88" name=""/>
          <p:cNvSpPr/>
          <p:nvPr/>
        </p:nvSpPr>
        <p:spPr>
          <a:xfrm>
            <a:off x="757440" y="1125360"/>
            <a:ext cx="769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CALCULO DE LA CALIDAD AMBIENTAL INTEGRADA DEL 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ARA LA SITUACIÓN SIN PROYECTO Y PARA CADA  ALTERN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624680" y="260280"/>
            <a:ext cx="63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ALIFICACIÓN AMBIENTAL PONDERADO</a:t>
            </a:r>
            <a:endParaRPr b="0" lang="en-US" sz="2400" spc="-1" strike="noStrike">
              <a:solidFill>
                <a:srgbClr val="000000"/>
              </a:solidFill>
              <a:latin typeface="Arial"/>
            </a:endParaRPr>
          </a:p>
        </p:txBody>
      </p:sp>
      <p:sp>
        <p:nvSpPr>
          <p:cNvPr id="90" name=""/>
          <p:cNvSpPr/>
          <p:nvPr/>
        </p:nvSpPr>
        <p:spPr>
          <a:xfrm>
            <a:off x="447840" y="1144440"/>
            <a:ext cx="8011800" cy="3753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Los </a:t>
            </a:r>
            <a:r>
              <a:rPr b="0" i="1" lang="es-ES_tradnl" sz="2000" spc="-1" strike="noStrike">
                <a:solidFill>
                  <a:srgbClr val="333399"/>
                </a:solidFill>
                <a:latin typeface="Arial"/>
              </a:rPr>
              <a:t>Métodos de</a:t>
            </a:r>
            <a:r>
              <a:rPr b="0" lang="es-ES_tradnl" sz="2000" spc="-1" strike="noStrike">
                <a:solidFill>
                  <a:srgbClr val="333399"/>
                </a:solidFill>
                <a:latin typeface="Arial"/>
              </a:rPr>
              <a:t> </a:t>
            </a:r>
            <a:r>
              <a:rPr b="0" i="1" lang="es-ES_tradnl" sz="2000" spc="-1" strike="noStrike">
                <a:solidFill>
                  <a:srgbClr val="333399"/>
                </a:solidFill>
                <a:latin typeface="Arial"/>
              </a:rPr>
              <a:t>Calificación Ambiental Ponderados </a:t>
            </a:r>
            <a:r>
              <a:rPr b="0" lang="es-ES_tradnl" sz="2000" spc="-1" strike="noStrike">
                <a:solidFill>
                  <a:srgbClr val="333399"/>
                </a:solidFill>
                <a:latin typeface="Arial"/>
              </a:rPr>
              <a:t>se utilizan para el análisis y selección de alternativas de un </a:t>
            </a:r>
            <a:r>
              <a:rPr b="0" lang="es-ES_tradnl" sz="2000" spc="-1" strike="noStrike" u="sng">
                <a:solidFill>
                  <a:srgbClr val="333399"/>
                </a:solidFill>
                <a:uFillTx/>
                <a:latin typeface="Arial"/>
              </a:rPr>
              <a:t>mismo proyecto</a:t>
            </a:r>
            <a:r>
              <a:rPr b="0" lang="es-ES_tradnl" sz="2000" spc="-1" strike="noStrike">
                <a:solidFill>
                  <a:srgbClr val="333399"/>
                </a:solidFill>
                <a:latin typeface="Arial"/>
              </a:rPr>
              <a:t>, desde el punto de vista ambiental, en los estudios a nivel de preinversión.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Consisten básicamente en la determinación o estimación de índices que dan un valor relativo y que representan los efectos del proyecto sobre el medio, en las etapas de construcción,  operación o abandono, de acuerdo  a la percepción ambiental de la comunidad potencialmente afectada y/o beneficiada por el proyecto.</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63480" y="928800"/>
            <a:ext cx="8085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términos generales, un </a:t>
            </a:r>
            <a:r>
              <a:rPr b="0" lang="es-ES_tradnl" sz="2000" spc="-1" strike="noStrike">
                <a:solidFill>
                  <a:srgbClr val="ff0000"/>
                </a:solidFill>
                <a:latin typeface="Arial"/>
              </a:rPr>
              <a:t>Índice de Calificación Ambiental</a:t>
            </a:r>
            <a:r>
              <a:rPr b="0" lang="es-ES_tradnl" sz="2000" spc="-1" strike="noStrike">
                <a:solidFill>
                  <a:srgbClr val="333399"/>
                </a:solidFill>
                <a:latin typeface="Arial"/>
              </a:rPr>
              <a:t> se puede expresar como una función o fórmula en la que intervienen dos tipos de variables a sa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Variables </a:t>
            </a:r>
            <a:r>
              <a:rPr b="0" lang="es-ES_tradnl" sz="2000" spc="-1" strike="noStrike">
                <a:solidFill>
                  <a:srgbClr val="333399"/>
                </a:solidFill>
                <a:latin typeface="Arial"/>
              </a:rPr>
              <a:t>según las características del proyecto y del medio afectado, tales como:  carácter (positivo o negativo), magnitud e intensidad (según escala de referencia), extensión (según utilización espacial), duración (según tiempo que duren los impactos), reversibilidad (reversible o no o si es tratable), presencia o probabilidad de ocurrencia del impacto, entre otr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Ponderadores</a:t>
            </a:r>
            <a:r>
              <a:rPr b="0" lang="es-ES_tradnl" sz="2000" spc="-1" strike="noStrike">
                <a:solidFill>
                  <a:srgbClr val="333399"/>
                </a:solidFill>
                <a:latin typeface="Arial"/>
              </a:rPr>
              <a:t> de las variables anteriores, que dependen de la percepción ambiental,  de las prioridades o directrices del proyecto, o bien del criterio y experiencia de los evalua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Veremos </a:t>
            </a:r>
            <a:r>
              <a:rPr b="1" lang="es-ES_tradnl" sz="2000" spc="-1" strike="noStrike" u="sng">
                <a:solidFill>
                  <a:srgbClr val="ff0000"/>
                </a:solidFill>
                <a:uFillTx/>
                <a:latin typeface="Arial"/>
              </a:rPr>
              <a:t>La Calificación Ambiental por Impacto (CAI)</a:t>
            </a:r>
            <a:endParaRPr b="0" lang="en-US" sz="2000" spc="-1" strike="noStrike">
              <a:solidFill>
                <a:srgbClr val="000000"/>
              </a:solidFill>
              <a:latin typeface="Arial"/>
            </a:endParaRPr>
          </a:p>
        </p:txBody>
      </p:sp>
      <p:sp>
        <p:nvSpPr>
          <p:cNvPr id="92" name=""/>
          <p:cNvSpPr/>
          <p:nvPr/>
        </p:nvSpPr>
        <p:spPr>
          <a:xfrm>
            <a:off x="1624680" y="260280"/>
            <a:ext cx="63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ALIFICACIÓN AMBIENTAL PONDER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116000" y="404640"/>
            <a:ext cx="6091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alificación Ambiental por Impacto (CAI)</a:t>
            </a:r>
            <a:endParaRPr b="0" lang="en-US" sz="2400" spc="-1" strike="noStrike">
              <a:solidFill>
                <a:srgbClr val="000000"/>
              </a:solidFill>
              <a:latin typeface="Arial"/>
            </a:endParaRPr>
          </a:p>
        </p:txBody>
      </p:sp>
      <p:sp>
        <p:nvSpPr>
          <p:cNvPr id="94" name=""/>
          <p:cNvSpPr/>
          <p:nvPr/>
        </p:nvSpPr>
        <p:spPr>
          <a:xfrm>
            <a:off x="468360" y="1773360"/>
            <a:ext cx="82296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Arial"/>
              </a:rPr>
              <a:t>CAI = (VAE) *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Arial"/>
              </a:rPr>
              <a:t>M  =  (Ca)(Ro)(I + E + Du + De + Re)</a:t>
            </a:r>
            <a:r>
              <a:rPr b="1"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on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AI </a:t>
            </a:r>
            <a:r>
              <a:rPr b="0" lang="es-ES_tradnl" sz="2400" spc="-1" strike="noStrike">
                <a:solidFill>
                  <a:srgbClr val="000099"/>
                </a:solidFill>
                <a:latin typeface="Arial"/>
              </a:rPr>
              <a:t>:</a:t>
            </a:r>
            <a:r>
              <a:rPr b="0" lang="es-ES_tradnl" sz="2400" spc="-1" strike="noStrike">
                <a:solidFill>
                  <a:srgbClr val="000099"/>
                </a:solidFill>
                <a:latin typeface="Arial"/>
              </a:rPr>
              <a:t>	</a:t>
            </a:r>
            <a:r>
              <a:rPr b="0" lang="es-ES_tradnl" sz="2400" spc="-1" strike="noStrike">
                <a:solidFill>
                  <a:srgbClr val="000099"/>
                </a:solidFill>
                <a:latin typeface="Arial"/>
              </a:rPr>
              <a:t>Calificación Ambiental por Impactos (-150 a +1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VAE</a:t>
            </a:r>
            <a:r>
              <a:rPr b="0" lang="es-ES_tradnl" sz="2400" spc="-1" strike="noStrike">
                <a:solidFill>
                  <a:srgbClr val="000099"/>
                </a:solidFill>
                <a:latin typeface="Arial"/>
              </a:rPr>
              <a:t> :</a:t>
            </a:r>
            <a:r>
              <a:rPr b="0" lang="es-ES_tradnl" sz="2400" spc="-1" strike="noStrike">
                <a:solidFill>
                  <a:srgbClr val="000099"/>
                </a:solidFill>
                <a:latin typeface="Arial"/>
              </a:rPr>
              <a:t>	</a:t>
            </a:r>
            <a:r>
              <a:rPr b="0" lang="es-ES_tradnl" sz="2400" spc="-1" strike="noStrike">
                <a:solidFill>
                  <a:srgbClr val="000099"/>
                </a:solidFill>
                <a:latin typeface="Arial"/>
              </a:rPr>
              <a:t>Valor Ambiental por Elemento (1 a 10), que se detalla en tabla Nº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M :</a:t>
            </a:r>
            <a:r>
              <a:rPr b="0" lang="es-ES_tradnl" sz="2400" spc="-1" strike="noStrike">
                <a:solidFill>
                  <a:srgbClr val="000099"/>
                </a:solidFill>
                <a:latin typeface="Arial"/>
              </a:rPr>
              <a:t> Factor que pondera el valor ambiental por elemento, según detalle en tabla Nº 2</a:t>
            </a:r>
            <a:endParaRPr b="0" lang="en-US" sz="2400" spc="-1" strike="noStrike">
              <a:solidFill>
                <a:srgbClr val="000000"/>
              </a:solidFill>
              <a:latin typeface="Arial"/>
            </a:endParaRPr>
          </a:p>
        </p:txBody>
      </p:sp>
      <p:sp>
        <p:nvSpPr>
          <p:cNvPr id="95" name=""/>
          <p:cNvSpPr/>
          <p:nvPr/>
        </p:nvSpPr>
        <p:spPr>
          <a:xfrm>
            <a:off x="671040" y="92880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un índice que califica los impactos de diferentes alternativas de un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11280" y="260280"/>
            <a:ext cx="809784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Arial"/>
              </a:rPr>
              <a:t>Valor Ambiental por Elemento (VAE</a:t>
            </a:r>
            <a:r>
              <a:rPr b="0" lang="es-ES_tradnl" sz="2400" spc="-1" strike="noStrike" u="sng">
                <a:solidFill>
                  <a:srgbClr val="000099"/>
                </a:solidFill>
                <a:uFillTx/>
                <a:latin typeface="Arial"/>
              </a:rPr>
              <a:t>)</a:t>
            </a:r>
            <a:r>
              <a:rPr b="0" lang="es-ES_tradnl" sz="2400" spc="-1" strike="noStrike">
                <a:solidFill>
                  <a:srgbClr val="000099"/>
                </a:solidFill>
                <a:latin typeface="Arial"/>
              </a:rPr>
              <a:t> </a:t>
            </a:r>
            <a:r>
              <a:rPr b="1" lang="es-ES_tradnl" sz="2400" spc="-1" strike="noStrike">
                <a:solidFill>
                  <a:srgbClr val="0000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revio al cálculo del CAI, se establece para cada zona de riesgo el Valor Ambiental por Elemento, considerando en cada caso una ponderación particular para: Estado de Conservación, Abundancia o Escasez e Importancia para el Ecosistema o entorno. Los Atributos del VAE son los que se indican en la Tabla Nº 1.</a:t>
            </a:r>
            <a:endParaRPr b="0" lang="en-US" sz="1800" spc="-1" strike="noStrike">
              <a:solidFill>
                <a:srgbClr val="000000"/>
              </a:solidFill>
              <a:latin typeface="Arial"/>
            </a:endParaRPr>
          </a:p>
        </p:txBody>
      </p:sp>
      <p:pic>
        <p:nvPicPr>
          <p:cNvPr id="97" name="" descr=""/>
          <p:cNvPicPr/>
          <p:nvPr/>
        </p:nvPicPr>
        <p:blipFill>
          <a:blip r:embed="rId1"/>
          <a:stretch/>
        </p:blipFill>
        <p:spPr>
          <a:xfrm>
            <a:off x="1619280" y="3429000"/>
            <a:ext cx="6551640" cy="2860560"/>
          </a:xfrm>
          <a:prstGeom prst="rect">
            <a:avLst/>
          </a:prstGeom>
          <a:ln w="0">
            <a:noFill/>
          </a:ln>
        </p:spPr>
      </p:pic>
      <p:sp>
        <p:nvSpPr>
          <p:cNvPr id="98" name=""/>
          <p:cNvSpPr/>
          <p:nvPr/>
        </p:nvSpPr>
        <p:spPr>
          <a:xfrm>
            <a:off x="1260360" y="2997360"/>
            <a:ext cx="73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TABLA Nº 1: CALIFICACIÓN DE ATRIBUTOS PARA DEFINIR VAE</a:t>
            </a:r>
            <a:r>
              <a:rPr b="1" lang="es-ES_tradn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68360" y="907920"/>
            <a:ext cx="8136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e esta forma, el valor final del VAE se determina aplicando el siguiente algorit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VAE = Es(p1)+Ab(p2)+Ec(p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o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VAE  = Valor Ambiental por Ele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 Estado de conservación del ele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b = Abundancia o escasez del ele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c = Importancia para el ecosistema o entor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i, p2, p3    = Factores de ponderación de cada atributo en cada zona de riesgo (0 a 1), (Spi =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115000" y="331920"/>
            <a:ext cx="4460040" cy="1038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ÁLCULO DEL FACTOR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  =  (Ca)(Ro)(I + E + Du + De + Re) </a:t>
            </a:r>
            <a:endParaRPr b="0" lang="en-US" sz="2000" spc="-1" strike="noStrike">
              <a:solidFill>
                <a:srgbClr val="000000"/>
              </a:solidFill>
              <a:latin typeface="Arial"/>
            </a:endParaRPr>
          </a:p>
        </p:txBody>
      </p:sp>
      <p:pic>
        <p:nvPicPr>
          <p:cNvPr id="101" name="" descr=""/>
          <p:cNvPicPr/>
          <p:nvPr/>
        </p:nvPicPr>
        <p:blipFill>
          <a:blip r:embed="rId1"/>
          <a:stretch/>
        </p:blipFill>
        <p:spPr>
          <a:xfrm>
            <a:off x="1116000" y="2152800"/>
            <a:ext cx="7416720" cy="4617720"/>
          </a:xfrm>
          <a:prstGeom prst="rect">
            <a:avLst/>
          </a:prstGeom>
          <a:ln w="0">
            <a:noFill/>
          </a:ln>
        </p:spPr>
      </p:pic>
      <p:sp>
        <p:nvSpPr>
          <p:cNvPr id="102" name=""/>
          <p:cNvSpPr/>
          <p:nvPr/>
        </p:nvSpPr>
        <p:spPr>
          <a:xfrm>
            <a:off x="684360" y="1413000"/>
            <a:ext cx="806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TABLA Nº 2: DESCRIPCIÓN DE LOS FACTORES DE PONDE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DEL VALOR AMBIENTAL POR ELEMENTO (VAE)</a:t>
            </a:r>
            <a:r>
              <a:rPr b="0" lang="es-ES_tradnl" sz="1800" spc="-1" strike="noStrike">
                <a:solidFill>
                  <a:srgbClr val="00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35120" y="423720"/>
            <a:ext cx="8013600" cy="631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0000"/>
                </a:solidFill>
                <a:uFillTx/>
                <a:latin typeface="Arial"/>
              </a:rPr>
              <a:t>Ejemplo de apl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Se tiene dos alternativas para conducir agua a una zona de rieg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Arial"/>
              </a:rPr>
              <a:t>Alternativa Nº 1</a:t>
            </a:r>
            <a:r>
              <a:rPr b="0" lang="es-ES_tradnl" sz="2000" spc="-1" strike="noStrike">
                <a:solidFill>
                  <a:srgbClr val="000099"/>
                </a:solidFill>
                <a:latin typeface="Arial"/>
              </a:rPr>
              <a:t>: Se capta en el río y se conduce el agua por un canal de 10 Km. que atraviesa un pueblo, para llegar luego hasta la zona de riego. Es posible que las aguas sean contaminadas por basuras y elementos arrojados por personas del pueblo que atraviesa el ca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Arial"/>
              </a:rPr>
              <a:t>Alternativa Nº 2</a:t>
            </a:r>
            <a:r>
              <a:rPr b="0" lang="es-ES_tradnl" sz="2000" spc="-1" strike="noStrike">
                <a:solidFill>
                  <a:srgbClr val="000099"/>
                </a:solidFill>
                <a:latin typeface="Arial"/>
              </a:rPr>
              <a:t>: Se capta en el río mediante bombeo, aguas abajo de la bocatoma de la alternativa Nº 1, para luego conducir las aguas por un canal de 2 Km. y llegar a la zona de riego. Dado que la captación está aguas abajo de la descarga de aguas servidas del pueblo, es muy probable que  las aguas captadas tengan un grado de contamin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Se determinará, para cada alternativa, la Calificación Ambiental para el impacto en el factor ambiental físico de “Calidad del agua que llega  a la zona de rie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44"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47"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51"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y sus actividades</a:t>
            </a:r>
            <a:endParaRPr b="0" lang="en-US" sz="1600" spc="-1" strike="noStrike">
              <a:solidFill>
                <a:srgbClr val="000000"/>
              </a:solidFill>
              <a:latin typeface="Arial"/>
            </a:endParaRPr>
          </a:p>
        </p:txBody>
      </p:sp>
      <p:sp>
        <p:nvSpPr>
          <p:cNvPr id="53"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ETAPA 2: Línea de Base</a:t>
            </a:r>
            <a:r>
              <a:rPr b="1" lang="es-ES_tradnl"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ETAPA 3: Identificación de Impactos Ambientales</a:t>
            </a:r>
            <a:r>
              <a:rPr b="1" lang="es-ES_tradnl" sz="1600" spc="-1" strike="noStrike">
                <a:solidFill>
                  <a:srgbClr val="009999"/>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5: Valorización de los impactos.</a:t>
            </a:r>
            <a:endParaRPr b="0" lang="en-US" sz="1600" spc="-1" strike="noStrike">
              <a:solidFill>
                <a:srgbClr val="000000"/>
              </a:solidFill>
              <a:latin typeface="Arial"/>
            </a:endParaRPr>
          </a:p>
        </p:txBody>
      </p:sp>
      <p:sp>
        <p:nvSpPr>
          <p:cNvPr id="54"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3120" y="568440"/>
            <a:ext cx="808524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Primeramente, se debe definir una zona de riesgo por alternativa para cada elemento susceptible de ser impactado, definiendo así las Áreas de Influencia Directa, siendo cada cual valorizada ambientalmente a través del VA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stas áreas no son iguales para las alternativas mencionadas, por lo cual cada VAE podría presentar valores distintos. Sin embargo por simplicidad tomaremos un mismo val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Para determinar el VAE de cada área se ha considerado que el estado de conservación es bueno (Es = 8), los recursos naturales de la zona son relativamente abundantes (Ab = 5) y es relativamente importante para el ecosistema o entorno (Ec = 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n este caso, los factores de ponderación p1, p2 y p3 se consideran todos iguales a 1/3. Con estos valores, resulta : VAE  = (1/3)*(8) + (1/3)*(5) + (1/3)*(5)  =  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95280" y="907920"/>
            <a:ext cx="8353440" cy="1079640"/>
          </a:xfrm>
          <a:prstGeom prst="rect">
            <a:avLst/>
          </a:prstGeom>
          <a:ln w="0">
            <a:noFill/>
          </a:ln>
        </p:spPr>
      </p:pic>
      <p:sp>
        <p:nvSpPr>
          <p:cNvPr id="106" name=""/>
          <p:cNvSpPr/>
          <p:nvPr/>
        </p:nvSpPr>
        <p:spPr>
          <a:xfrm>
            <a:off x="611280" y="549360"/>
            <a:ext cx="784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ES DE PONDERACIÓN DEL VAE PARA EL CASO EJEMPLO</a:t>
            </a:r>
            <a:endParaRPr b="0" lang="en-US" sz="1800" spc="-1" strike="noStrike">
              <a:solidFill>
                <a:srgbClr val="000000"/>
              </a:solidFill>
              <a:latin typeface="Arial"/>
            </a:endParaRPr>
          </a:p>
        </p:txBody>
      </p:sp>
      <p:sp>
        <p:nvSpPr>
          <p:cNvPr id="107" name=""/>
          <p:cNvSpPr/>
          <p:nvPr/>
        </p:nvSpPr>
        <p:spPr>
          <a:xfrm>
            <a:off x="395280" y="2276640"/>
            <a:ext cx="7940520" cy="43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Finalmente, la </a:t>
            </a:r>
            <a:r>
              <a:rPr b="0" i="1" lang="es-ES_tradnl" sz="1800" spc="-1" strike="noStrike">
                <a:solidFill>
                  <a:srgbClr val="000099"/>
                </a:solidFill>
                <a:latin typeface="Arial"/>
              </a:rPr>
              <a:t>Calificación Ambiental por Impacto</a:t>
            </a:r>
            <a:r>
              <a:rPr b="0" lang="es-ES_tradnl" sz="1800" spc="-1" strike="noStrike">
                <a:solidFill>
                  <a:srgbClr val="000099"/>
                </a:solidFill>
                <a:latin typeface="Arial"/>
              </a:rPr>
              <a:t> (CAI), de cada alternativa resul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lternativa Nº 1 : CAI = (6,0)(-4,0) = -2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lternativa Nº 2 : CAI = (6,0)(-8,1) = -48,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ún estos resultados, el impacto ambiental en el factor calidad de agua que llega a la zona de riego tiene una calificación ponderada menor en el caso de la alternativa Nº 2, con respecto a la alternativa Nº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to representa, como síntesis, que la alternativa Nº 2 se percibe como menos conveniente  que la Nº 1, básicamente por la forma en que se puede realizar la contaminación en cada caso (riego de ocurrencia, Ro) y por la intensidad respectiva (factor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26920" y="549360"/>
            <a:ext cx="8066160" cy="2936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Recuerden:</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EL MÉTODO DE LA </a:t>
            </a:r>
            <a:r>
              <a:rPr b="1" lang="es-ES_tradnl" sz="2800" spc="-1" strike="noStrike">
                <a:solidFill>
                  <a:srgbClr val="cc0000"/>
                </a:solidFill>
                <a:latin typeface="Arial"/>
              </a:rPr>
              <a:t>CALIDAD AMBIENTAL INTEGRADA</a:t>
            </a:r>
            <a:r>
              <a:rPr b="1" lang="es-ES_tradnl" sz="2800" spc="-1" strike="noStrike">
                <a:solidFill>
                  <a:srgbClr val="000099"/>
                </a:solidFill>
                <a:latin typeface="Arial"/>
              </a:rPr>
              <a:t>, DEFINE UN ÍNDICE DE CALIDAD DEL MEDIO AMBIENTE, PARA COMPARAR LA SITUACIÓN SIN PROYECTO, CON ALTERNATIVAS DEL PROYECTO.</a:t>
            </a:r>
            <a:endParaRPr b="0" lang="en-US" sz="2800" spc="-1" strike="noStrike">
              <a:solidFill>
                <a:srgbClr val="000000"/>
              </a:solidFill>
              <a:latin typeface="Arial"/>
            </a:endParaRPr>
          </a:p>
        </p:txBody>
      </p:sp>
      <p:sp>
        <p:nvSpPr>
          <p:cNvPr id="109" name=""/>
          <p:cNvSpPr/>
          <p:nvPr/>
        </p:nvSpPr>
        <p:spPr>
          <a:xfrm>
            <a:off x="900000" y="4076640"/>
            <a:ext cx="7704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La </a:t>
            </a:r>
            <a:r>
              <a:rPr b="1" lang="es-ES_tradnl" sz="2800" spc="-1" strike="noStrike">
                <a:solidFill>
                  <a:srgbClr val="cc0000"/>
                </a:solidFill>
                <a:latin typeface="Arial"/>
              </a:rPr>
              <a:t>Calificación Ambiental por Impacto</a:t>
            </a:r>
            <a:r>
              <a:rPr b="1" lang="es-ES_tradnl" sz="2800" spc="-1" strike="noStrike">
                <a:solidFill>
                  <a:srgbClr val="000099"/>
                </a:solidFill>
                <a:latin typeface="Arial"/>
              </a:rPr>
              <a:t> (CAI), representa el impacto debido a una alternativa del proyecto, para compararlo con otra alternativa del proyecto.</a:t>
            </a:r>
            <a:r>
              <a:rPr b="1" lang="es-ES_tradnl"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112"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115"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119"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y sus actividades</a:t>
            </a:r>
            <a:endParaRPr b="0" lang="en-US" sz="1600" spc="-1" strike="noStrike">
              <a:solidFill>
                <a:srgbClr val="000000"/>
              </a:solidFill>
              <a:latin typeface="Arial"/>
            </a:endParaRPr>
          </a:p>
        </p:txBody>
      </p:sp>
      <p:sp>
        <p:nvSpPr>
          <p:cNvPr id="121"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ETAPA 2: Línea de B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ETAPA 3: Ide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6600"/>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ETAPA 5: Valorización de los impactos.</a:t>
            </a:r>
            <a:endParaRPr b="0" lang="en-US" sz="1600" spc="-1" strike="noStrike">
              <a:solidFill>
                <a:srgbClr val="000000"/>
              </a:solidFill>
              <a:latin typeface="Arial"/>
            </a:endParaRPr>
          </a:p>
        </p:txBody>
      </p:sp>
      <p:sp>
        <p:nvSpPr>
          <p:cNvPr id="122"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519120" y="639720"/>
            <a:ext cx="8085240" cy="53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5 : Valorización de impac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sta etapa consiste en determinar la importancia de los impactos identificados y cuantificados, con respecto a la percepción ambiental de los afectados en forma directa o indirect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La valoración tiene relación con decidir de acuerdo a principios o políticas del dueño del proyecto, si asume el riesgo y/o los costos de los impactos ambientales identificad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Se considera los impactos evaluados de acuerdo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r>
              <a:rPr b="0" lang="es-ES_tradnl" sz="2000" spc="-1" strike="noStrike">
                <a:solidFill>
                  <a:srgbClr val="000099"/>
                </a:solidFill>
                <a:latin typeface="Arial"/>
              </a:rPr>
              <a:t>- Percepción ambiental de la comunid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r>
              <a:rPr b="0" lang="es-ES_tradnl" sz="2000" spc="-1" strike="noStrike">
                <a:solidFill>
                  <a:srgbClr val="000099"/>
                </a:solidFill>
                <a:latin typeface="Arial"/>
              </a:rPr>
              <a:t>- Leyes, reglamentos y disposiciones legales a cumpl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r>
              <a:rPr b="0" lang="es-ES_tradnl" sz="2000" spc="-1" strike="noStrike">
                <a:solidFill>
                  <a:srgbClr val="000099"/>
                </a:solidFill>
                <a:latin typeface="Arial"/>
              </a:rPr>
              <a:t>- Imagen del proyecto o de la empresa inversionis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r>
              <a:rPr b="0" lang="es-ES_tradnl" sz="2000" spc="-1" strike="noStrike">
                <a:solidFill>
                  <a:srgbClr val="000099"/>
                </a:solidFill>
                <a:latin typeface="Arial"/>
              </a:rPr>
              <a:t>- Otros fact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592200" y="496800"/>
            <a:ext cx="801216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ara esto, una forma de tener algún elemento de decisión es plantears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Qué pasaría si no tomo en cuenta un cierto impacto ?.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Al dar la respuesta, se evalúa si la consecuencia es lo suficientemente relevante como para asumir el costo que implique reconocer el impacto atribuible al proyec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De esta forma, los impactos determinados anteriormente, después de esta etapa, pueden redefinirse con alguna de las siguientes alternativ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Mantener los impactos, lo cual implica que se reconocen como válidos y se asume plenamente los costos de las mitigaciones, compensaciones y en general todo lo que implique.</a:t>
            </a:r>
            <a:endParaRPr b="0" lang="en-US" sz="1800" spc="-1" strike="noStrike">
              <a:solidFill>
                <a:srgbClr val="000000"/>
              </a:solidFill>
              <a:latin typeface="Arial"/>
            </a:endParaRPr>
          </a:p>
          <a:p>
            <a:pPr marL="343080" indent="-34308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b) Se disminuye el perfil de los impactos, de modo que se asume un riesgo de tener conflictos, a cambio de una disminución en los costos de las mitigaciones. En este caso, el dueño o responsable del proyecto es quien determina el riesgo a asumi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 Revisar los estudios realizados y/o realizar otros análisis para tener mayor información para la deci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92200" y="423720"/>
            <a:ext cx="8012160" cy="5671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6 : Selección de alternativ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99"/>
                </a:solidFill>
                <a:latin typeface="Arial"/>
              </a:rPr>
              <a:t>En esta etapa corresponde efectuar la decisión de la mejor alternativa del proyecto, desde el punto de vista ambiental. Las alternativas pueden ser de diversa importancia, a sabe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99"/>
                </a:solidFill>
                <a:uFillTx/>
                <a:latin typeface="Arial"/>
              </a:rPr>
              <a:t>Alternativas no estructurales</a:t>
            </a:r>
            <a:endParaRPr b="0" lang="en-US" sz="1800" spc="-1" strike="noStrike">
              <a:solidFill>
                <a:srgbClr val="000000"/>
              </a:solidFill>
              <a:latin typeface="Arial"/>
            </a:endParaRPr>
          </a:p>
          <a:p>
            <a:pPr marL="343080" indent="-34308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Corresponde a alternativas que no implican cambios en las obras, sino en los métodos o procedimientos de construcción o de operación, sin modificar en forma relevante las características del proyecto. Ej. Seleccionar un horario de trabajo de menor interferencia con la comunidad, seleccionar una secuencia de actividades para una mejor coordinación con los intereses de la comunidad, etc.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b)  </a:t>
            </a:r>
            <a:r>
              <a:rPr b="0" lang="es-ES_tradnl" sz="1800" spc="-1" strike="noStrike" u="sng">
                <a:solidFill>
                  <a:srgbClr val="000099"/>
                </a:solidFill>
                <a:uFillTx/>
                <a:latin typeface="Arial"/>
              </a:rPr>
              <a:t>Alternativas estructurales</a:t>
            </a:r>
            <a:r>
              <a:rPr b="0" lang="es-ES_tradnl" sz="1800" spc="-1" strike="noStrike">
                <a:solidFill>
                  <a:srgbClr val="000099"/>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Corresponde a alternativas que modifican obras, sin cambiar en forma sustancial el objetivo del proyecto. Ej. Cambio de trazado de un camino, para evitar conflictos, cambio de ubicación de una fáb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47840" y="639720"/>
            <a:ext cx="84452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7 : Mitigación, atenuación, compensación ambiental y preven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a:t>
            </a:r>
            <a:r>
              <a:rPr b="0" lang="es-ES_tradnl" sz="1800" spc="-1" strike="noStrike">
                <a:solidFill>
                  <a:srgbClr val="ff0000"/>
                </a:solidFill>
                <a:latin typeface="Arial"/>
              </a:rPr>
              <a:t>mitigación o atenuación</a:t>
            </a:r>
            <a:r>
              <a:rPr b="0" lang="es-ES_tradnl" sz="1800" spc="-1" strike="noStrike">
                <a:solidFill>
                  <a:srgbClr val="333399"/>
                </a:solidFill>
                <a:latin typeface="Arial"/>
              </a:rPr>
              <a:t> se refiere a las medidas estructurales o no estructurales tendientes a disminuir el impacto ambiental del proyec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anto los costos como las especificaciones técnicas relacionadas con estas medidas y todo otro antecedente que sea parte de su definición, deben ser incorporadas al proyecto que se construir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s medidas de mitigación deben expresarse con los siguientes anteced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Descrip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Planos y/o especificaciones técnicas que requi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Especificaciones para la operación, si requi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Presupue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Debe tenerse presente que las medidas de mitigación son un costo más del proyecto y por lo tanto, deben considerarse en la evaluación económ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08200" y="784080"/>
            <a:ext cx="7651440" cy="548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Compensación Ambi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a Compensación Ambiental corresponde a devolver al medio ambiente lo que ha perdido debido al proyecto, en la forma más similar po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jempl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n un proyecto de un canal de riego, se debe cortar 2 hectáreas de bosque en el tra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a compensación ambiental posible es plantar 2 hectáreas de bosque, lo más parecido al que se cortó, en otro lugar.</a:t>
            </a:r>
            <a:r>
              <a:rPr b="0"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a Compensación Ambiental NO es una negociación con los afectados por el proyec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Ej. Los afectados solicitan que se les mejore el camino, debido a los árboles que se corta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79480" y="568440"/>
            <a:ext cx="7580160" cy="494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Medidas de Preven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mo su nombre lo indica, son medidas tendientes a disminuir la probabilidad de ocurrencia de un </a:t>
            </a:r>
            <a:r>
              <a:rPr b="0" lang="es-CL" sz="1800" spc="-1" strike="noStrike" u="sng">
                <a:solidFill>
                  <a:srgbClr val="000099"/>
                </a:solidFill>
                <a:uFillTx/>
                <a:latin typeface="Arial"/>
              </a:rPr>
              <a:t>impacto previsto en el proyecto</a:t>
            </a:r>
            <a:r>
              <a:rPr b="0" lang="es-CL" sz="1800" spc="-1" strike="noStrike">
                <a:solidFill>
                  <a:srgbClr val="00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jemp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tiene provisto un aumento de ruido debido a faenas de construcción, cerca de un coleg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a medida de prevención es coordinar con el colegio de modo que el día de los mayores ruidos los estudiantes y profesores afectados por el ruido vayan a otro lugar a hacer actividades académi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se refiere a medidas de prevención de accidentes o medidas de seguridad en las faen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692360" y="3645000"/>
            <a:ext cx="5729040" cy="29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Ecuación conceptual de 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V.A}</a:t>
            </a:r>
            <a:r>
              <a:rPr b="0" lang="es-ES" sz="2000" spc="-1" strike="noStrike">
                <a:solidFill>
                  <a:srgbClr val="333399"/>
                </a:solidFill>
                <a:latin typeface="Arial"/>
              </a:rPr>
              <a:t>	</a:t>
            </a:r>
            <a:r>
              <a:rPr b="0" lang="es-ES" sz="2000" spc="-1" strike="noStrike">
                <a:solidFill>
                  <a:srgbClr val="333399"/>
                </a:solidFill>
                <a:latin typeface="Arial"/>
              </a:rPr>
              <a:t>+</a:t>
            </a:r>
            <a:r>
              <a:rPr b="0" lang="es-ES" sz="2000" spc="-1" strike="noStrike">
                <a:solidFill>
                  <a:srgbClr val="333399"/>
                </a:solidFill>
                <a:latin typeface="Arial"/>
              </a:rPr>
              <a:t>	</a:t>
            </a:r>
            <a:r>
              <a:rPr b="0" lang="es-ES" sz="2000" spc="-1" strike="noStrike">
                <a:solidFill>
                  <a:srgbClr val="333399"/>
                </a:solidFill>
                <a:latin typeface="Arial"/>
              </a:rPr>
              <a:t>      {delta}</a:t>
            </a:r>
            <a:r>
              <a:rPr b="0" lang="es-ES" sz="2000" spc="-1" strike="noStrike">
                <a:solidFill>
                  <a:srgbClr val="333399"/>
                </a:solidFill>
                <a:latin typeface="Arial"/>
              </a:rPr>
              <a:t>	</a:t>
            </a:r>
            <a:r>
              <a:rPr b="0" lang="es-ES" sz="2000" spc="-1" strike="noStrike">
                <a:solidFill>
                  <a:srgbClr val="333399"/>
                </a:solidFill>
                <a:latin typeface="Arial"/>
              </a:rPr>
              <a:t>=</a:t>
            </a:r>
            <a:r>
              <a:rPr b="0" lang="es-ES" sz="2000" spc="-1" strike="noStrike">
                <a:solidFill>
                  <a:srgbClr val="333399"/>
                </a:solidFill>
                <a:latin typeface="Arial"/>
              </a:rPr>
              <a:t>	</a:t>
            </a:r>
            <a:r>
              <a:rPr b="1" lang="es-ES" sz="2000" spc="-1" strike="noStrike">
                <a:solidFill>
                  <a:srgbClr val="cc0000"/>
                </a:solidFill>
                <a:latin typeface="Arial"/>
              </a:rPr>
              <a:t>{V.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in</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efectos</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cc0000"/>
                </a:solidFill>
                <a:latin typeface="Arial"/>
              </a:rPr>
              <a:t>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royecto</a:t>
            </a:r>
            <a:r>
              <a:rPr b="0" lang="es-ES" sz="2000" spc="-1" strike="noStrike">
                <a:solidFill>
                  <a:srgbClr val="333399"/>
                </a:solidFill>
                <a:latin typeface="Arial"/>
              </a:rPr>
              <a:t>	</a:t>
            </a:r>
            <a:r>
              <a:rPr b="0" lang="es-ES" sz="2000" spc="-1" strike="noStrike">
                <a:solidFill>
                  <a:srgbClr val="333399"/>
                </a:solidFill>
                <a:latin typeface="Arial"/>
              </a:rPr>
              <a:t>         del</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cc0000"/>
                </a:solidFill>
                <a:latin typeface="Arial"/>
              </a:rPr>
              <a:t>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ínea de Base)</a:t>
            </a:r>
            <a:endParaRPr b="0" lang="en-US" sz="2000" spc="-1" strike="noStrike">
              <a:solidFill>
                <a:srgbClr val="000000"/>
              </a:solidFill>
              <a:latin typeface="Arial"/>
            </a:endParaRPr>
          </a:p>
        </p:txBody>
      </p:sp>
      <p:sp>
        <p:nvSpPr>
          <p:cNvPr id="57" name=""/>
          <p:cNvSpPr/>
          <p:nvPr/>
        </p:nvSpPr>
        <p:spPr>
          <a:xfrm>
            <a:off x="950760" y="784080"/>
            <a:ext cx="759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ETAPA 4: Cuantificación de Impactos Ambientales.</a:t>
            </a:r>
            <a:endParaRPr b="0" lang="en-US" sz="2400" spc="-1" strike="noStrike">
              <a:solidFill>
                <a:srgbClr val="000000"/>
              </a:solidFill>
              <a:latin typeface="Arial"/>
            </a:endParaRPr>
          </a:p>
        </p:txBody>
      </p:sp>
      <p:sp>
        <p:nvSpPr>
          <p:cNvPr id="58" name=""/>
          <p:cNvSpPr/>
          <p:nvPr/>
        </p:nvSpPr>
        <p:spPr>
          <a:xfrm>
            <a:off x="600120" y="1628640"/>
            <a:ext cx="72583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99"/>
                </a:solidFill>
                <a:uFillTx/>
                <a:latin typeface="Arial"/>
              </a:rPr>
              <a:t>Objetivo de la Etap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Determinar los valores de las v.a. en la situación con proyec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69960" y="1025640"/>
            <a:ext cx="748332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Times New Roman"/>
              </a:rPr>
              <a:t>Ejemplo de medidas de mitigación</a:t>
            </a:r>
            <a:r>
              <a:rPr b="0" lang="es-ES_tradnl" sz="2400" spc="-1" strike="noStrike">
                <a:solidFill>
                  <a:srgbClr val="cc0000"/>
                </a:solidFill>
                <a:latin typeface="Symbol"/>
                <a:ea typeface="Symbo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Times New Roman"/>
              </a:rPr>
              <a:t>Proyecto Colector Alameda – Rancagua – Fase de Constru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Times New Roman"/>
              </a:rPr>
              <a:t> </a:t>
            </a:r>
            <a:r>
              <a:rPr b="1" lang="es-ES_tradnl" sz="2000" spc="-1" strike="noStrike">
                <a:solidFill>
                  <a:srgbClr val="000066"/>
                </a:solidFill>
                <a:latin typeface="Arial"/>
                <a:ea typeface="Times New Roman"/>
              </a:rPr>
              <a:t>Impacto 6: Incremento de gases y material particula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Times New Roman"/>
              </a:rPr>
              <a:t>La emisión de contaminantes a la atmósfera constituye un problema de tipo temporal, de alta probabilidad de ocurrencia, para la cual se prevé su desarrollo dentro del corto plazo, una vez que se inicien las faenas de construcc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Times New Roman"/>
              </a:rPr>
              <a:t>Es una acción que se expresará en el entorno inmediato a la emisión y es de carácter reversible. De acuerdo a todo lo anterior, este hecho se puede catalogar como </a:t>
            </a:r>
            <a:r>
              <a:rPr b="1" lang="es-ES_tradnl" sz="2000" spc="-1" strike="noStrike">
                <a:solidFill>
                  <a:srgbClr val="000066"/>
                </a:solidFill>
                <a:latin typeface="Arial"/>
                <a:ea typeface="Times New Roman"/>
              </a:rPr>
              <a:t>Impacto Medio Negativo</a:t>
            </a:r>
            <a:r>
              <a:rPr b="0" lang="es-ES_tradnl" sz="2000" spc="-1" strike="noStrike">
                <a:solidFill>
                  <a:srgbClr val="000066"/>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143000" y="189000"/>
            <a:ext cx="5877000" cy="6669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079640" y="900000"/>
            <a:ext cx="7302240" cy="563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914400" y="2133720"/>
            <a:ext cx="6781680" cy="4130640"/>
          </a:xfrm>
          <a:prstGeom prst="rect">
            <a:avLst/>
          </a:prstGeom>
          <a:ln w="0">
            <a:noFill/>
          </a:ln>
        </p:spPr>
      </p:pic>
      <p:sp>
        <p:nvSpPr>
          <p:cNvPr id="134" name=""/>
          <p:cNvSpPr/>
          <p:nvPr/>
        </p:nvSpPr>
        <p:spPr>
          <a:xfrm>
            <a:off x="846000" y="762120"/>
            <a:ext cx="630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s del proyec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alse Puntilla del Viento – Río Aconcagu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079640" y="900000"/>
            <a:ext cx="7530840" cy="4302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914400" y="914400"/>
            <a:ext cx="7696080" cy="2409840"/>
          </a:xfrm>
          <a:prstGeom prst="rect">
            <a:avLst/>
          </a:prstGeom>
          <a:ln w="0">
            <a:noFill/>
          </a:ln>
        </p:spPr>
      </p:pic>
      <p:pic>
        <p:nvPicPr>
          <p:cNvPr id="137" name="" descr=""/>
          <p:cNvPicPr/>
          <p:nvPr/>
        </p:nvPicPr>
        <p:blipFill>
          <a:blip r:embed="rId2"/>
          <a:stretch/>
        </p:blipFill>
        <p:spPr>
          <a:xfrm>
            <a:off x="685800" y="3809880"/>
            <a:ext cx="8153280" cy="2581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89080" y="569880"/>
            <a:ext cx="8397720" cy="262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Etapa Nº 8 : Monitoreo y plan de seguimiento ambi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El monitoreo consiste en la definición de un plan o programa de seguimiento durante la etapa de operación, de algunas variables ambientales relevantes, con el propósito de controlar la mantención en el tiempo de las condiciones ambientales estipuladas en el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04920" y="228600"/>
            <a:ext cx="832140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Etapa Nº 8 : Monitoreo y plan de seguimiento ambi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El monitoreo  debe hacerse siguiendo un </a:t>
            </a:r>
            <a:r>
              <a:rPr b="1" lang="es-ES_tradnl" sz="1800" spc="-1" strike="noStrike">
                <a:solidFill>
                  <a:srgbClr val="ff0000"/>
                </a:solidFill>
                <a:latin typeface="Arial"/>
                <a:ea typeface="Arial"/>
              </a:rPr>
              <a:t>plan de seguimiento o vigilancia</a:t>
            </a:r>
            <a:r>
              <a:rPr b="0" lang="es-ES_tradnl" sz="1800" spc="-1" strike="noStrike">
                <a:solidFill>
                  <a:srgbClr val="000066"/>
                </a:solidFill>
                <a:latin typeface="Arial"/>
                <a:ea typeface="Arial"/>
              </a:rPr>
              <a:t> ambiental previo, el cual debe contener los siguientes anteced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Definición de las v.a. a medir : Cuáles v.a., lugar exacto, periodicidad, método de medición y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Método de elaboración o cálculo de resultados y la forma en que se captarán y almacenarán los d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Forma cómo se hará el Análisis de resultados, normas o estándares de comparación, niveles críticos y peligrosos de las 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Plan de gestión y acción según los resultados de las v.a. medidas. Se define las acciones a seguir, en caso que las v.a. medidas sobrepasen límites establec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ea typeface="Arial"/>
              </a:rPr>
              <a:t>Finalmente, el plan de monitoreo debe tener un presupuesto anual, con desglose mensual si lo requiere para los flujos de caja. Las inversiones correspondientes deben incluirse en la evaluación económ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09480" y="2286000"/>
            <a:ext cx="8153640" cy="2198520"/>
          </a:xfrm>
          <a:prstGeom prst="rect">
            <a:avLst/>
          </a:prstGeom>
          <a:ln w="0">
            <a:noFill/>
          </a:ln>
        </p:spPr>
      </p:pic>
      <p:sp>
        <p:nvSpPr>
          <p:cNvPr id="141" name=""/>
          <p:cNvSpPr/>
          <p:nvPr/>
        </p:nvSpPr>
        <p:spPr>
          <a:xfrm>
            <a:off x="846000" y="762120"/>
            <a:ext cx="630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s del proyec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alse Puntilla del Viento – Río Aconcagu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5440"/>
            <a:ext cx="7697520" cy="668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92200" y="639720"/>
            <a:ext cx="8012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Dos tipos de métodos para cuantificar impac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Arial"/>
              </a:rPr>
              <a:t> </a:t>
            </a:r>
            <a:r>
              <a:rPr b="0" lang="es-CL" sz="2400" spc="-1" strike="noStrike">
                <a:solidFill>
                  <a:srgbClr val="000099"/>
                </a:solidFill>
                <a:latin typeface="Arial"/>
              </a:rPr>
              <a:t>Métodos para determinar el valor futuro de una 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Arial"/>
              </a:rPr>
              <a:t> </a:t>
            </a:r>
            <a:r>
              <a:rPr b="0" lang="es-CL" sz="2400" spc="-1" strike="noStrike">
                <a:solidFill>
                  <a:srgbClr val="000099"/>
                </a:solidFill>
                <a:latin typeface="Arial"/>
              </a:rPr>
              <a:t>Métodos para determinar valores de indicadores globales de 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244440"/>
            <a:ext cx="8207280" cy="631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Etapa Nº 9 : Factibilidad ambi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Con los antecedentes anteriores, en esta etapa se responde a las siguientes cuestion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El proyecto, ¿ puede cumplir con las exigencias legales, normas y exigencias externas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Los costos de las mitigaciones y/o monitoreo ¿ permiten que el proyecto sea rentable y sustentable en el tiempo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La percepción ambiental en el área de influencia del proyecto, ¿ es la adecuada para garantizar que no se producirán conflictos durante la construcción y la operación ?</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Los impactos ambientales negativos que genera el proyecto, ¿pueden representar una amenaza para el normal desarrollo de éste, en cualquier aspecto y etapa ? ¿ Pueden estos impactos influir negativamente, en forma sustancial en la imagen del proyecto y/o del inversionis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68360" y="1052640"/>
            <a:ext cx="8424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00"/>
                </a:solidFill>
                <a:latin typeface="Arial"/>
              </a:rPr>
              <a:t>LA FACTIBILIDAD AMBIENTAL CONSTITUYE LA PRINCIPAL CONCLUSIÓN DE UN EIA, PERO DEBE FUNDAMENTARSE EN ESTUDIOS CIENTÍFICOS, CON LAS ETAPAS DE DESARROLLO PRESENTADAS</a:t>
            </a:r>
            <a:endParaRPr b="0" lang="en-US" sz="2000" spc="-1" strike="noStrike">
              <a:solidFill>
                <a:srgbClr val="000000"/>
              </a:solidFill>
              <a:latin typeface="Arial"/>
            </a:endParaRPr>
          </a:p>
        </p:txBody>
      </p:sp>
      <p:sp>
        <p:nvSpPr>
          <p:cNvPr id="145" name=""/>
          <p:cNvSpPr/>
          <p:nvPr/>
        </p:nvSpPr>
        <p:spPr>
          <a:xfrm>
            <a:off x="1689840" y="549360"/>
            <a:ext cx="515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9 : Factibilidad ambiental</a:t>
            </a:r>
            <a:endParaRPr b="0" lang="en-US" sz="2400" spc="-1" strike="noStrike">
              <a:solidFill>
                <a:srgbClr val="000000"/>
              </a:solidFill>
              <a:latin typeface="Arial"/>
            </a:endParaRPr>
          </a:p>
        </p:txBody>
      </p:sp>
      <p:pic>
        <p:nvPicPr>
          <p:cNvPr id="146" name="" descr=""/>
          <p:cNvPicPr/>
          <p:nvPr/>
        </p:nvPicPr>
        <p:blipFill>
          <a:blip r:embed="rId1"/>
          <a:stretch/>
        </p:blipFill>
        <p:spPr>
          <a:xfrm>
            <a:off x="1692360" y="2676600"/>
            <a:ext cx="5759280" cy="41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76200" y="281160"/>
            <a:ext cx="8516880" cy="613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0000"/>
                </a:solidFill>
                <a:latin typeface="Arial"/>
              </a:rPr>
              <a:t>Métodos para determin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0000"/>
                </a:solidFill>
                <a:latin typeface="Arial"/>
              </a:rPr>
              <a:t>el valor futuro de una 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Arial"/>
              </a:rPr>
              <a:t>a) </a:t>
            </a:r>
            <a:r>
              <a:rPr b="1" lang="es-ES_tradnl" sz="2000" spc="-1" strike="noStrike" u="sng">
                <a:solidFill>
                  <a:srgbClr val="000099"/>
                </a:solidFill>
                <a:uFillTx/>
                <a:latin typeface="Arial"/>
              </a:rPr>
              <a:t>Aplicación de un modelo</a:t>
            </a:r>
            <a:r>
              <a:rPr b="0" lang="es-ES_tradnl" sz="2000" spc="-1" strike="noStrike">
                <a:solidFill>
                  <a:srgbClr val="0000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l modelo debe representar el  comportamiento del sistema, con una confiabilidad aceptab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jemp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La calidad de agua futura en un tramo de río, expresada como conductividad eléctrica, es función del caudal de la descarga de contaminantes del proyecto, aplicando un modelo de calidad de agu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El nivel de ruido futuro en un punto determinado, debido a una fuente fija, se puede calcular con las ecuaciones y tablas según el tipo de fuente, distancia a la fuente, tipo de interferencia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55640" y="765000"/>
            <a:ext cx="7704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Arial"/>
              </a:rPr>
              <a:t>b) </a:t>
            </a:r>
            <a:r>
              <a:rPr b="1" lang="es-ES_tradnl" sz="2000" spc="-1" strike="noStrike" u="sng">
                <a:solidFill>
                  <a:srgbClr val="000099"/>
                </a:solidFill>
                <a:uFillTx/>
                <a:latin typeface="Arial"/>
              </a:rPr>
              <a:t>Inferencia o estimaciones sobre la base de casos simila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sto consiste en suponer que el comportamiento de las v.a. será igual que en algún otro proyecto que esté operando, dadas las similitudes que existen, o bien, se aplican valores recomendados por la literatura especializada, asumiendo que las condiciones son simila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Ej. : El nivel de ruido futuro de una carretera se supone, en forma conservadora, igual al que tiene actualmente una carretera cercana, ya que tienen un flujo vehicular simi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620640"/>
            <a:ext cx="7991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00"/>
                </a:solidFill>
                <a:latin typeface="Arial"/>
              </a:rPr>
              <a:t>Métodos para determinar valores de indicadores globales de i.a.</a:t>
            </a:r>
            <a:endParaRPr b="0" lang="en-US" sz="2400" spc="-1" strike="noStrike">
              <a:solidFill>
                <a:srgbClr val="000000"/>
              </a:solidFill>
              <a:latin typeface="Arial"/>
            </a:endParaRPr>
          </a:p>
        </p:txBody>
      </p:sp>
      <p:sp>
        <p:nvSpPr>
          <p:cNvPr id="63" name=""/>
          <p:cNvSpPr/>
          <p:nvPr/>
        </p:nvSpPr>
        <p:spPr>
          <a:xfrm>
            <a:off x="1208520" y="1916280"/>
            <a:ext cx="7449120" cy="19227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a)  CALIDAD AMBIENTAL INTEGRADA</a:t>
            </a:r>
            <a:r>
              <a:rPr b="0" lang="es-ES_tradnl" sz="2400" spc="-1" strike="noStrike">
                <a:solidFill>
                  <a:srgbClr val="000099"/>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b) CALIFICACIÓN AMBIENTAL PONDERADO</a:t>
            </a:r>
            <a:r>
              <a:rPr b="0" lang="es-ES" sz="2400" spc="-1" strike="noStrike">
                <a:solidFill>
                  <a:srgbClr val="000099"/>
                </a:solidFill>
                <a:latin typeface="Arial"/>
              </a:rPr>
              <a:t> </a:t>
            </a:r>
            <a:endParaRPr b="0" lang="en-US" sz="2400" spc="-1" strike="noStrike">
              <a:solidFill>
                <a:srgbClr val="000000"/>
              </a:solidFill>
              <a:latin typeface="Arial"/>
            </a:endParaRPr>
          </a:p>
        </p:txBody>
      </p:sp>
      <p:sp>
        <p:nvSpPr>
          <p:cNvPr id="64" name=""/>
          <p:cNvSpPr/>
          <p:nvPr/>
        </p:nvSpPr>
        <p:spPr>
          <a:xfrm>
            <a:off x="900000" y="4313160"/>
            <a:ext cx="7632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l propósito de estos métodos (y de otros similares) es definir un </a:t>
            </a:r>
            <a:r>
              <a:rPr b="0" lang="es-CL" sz="2000" spc="-1" strike="noStrike">
                <a:solidFill>
                  <a:srgbClr val="cc0000"/>
                </a:solidFill>
                <a:latin typeface="Arial"/>
              </a:rPr>
              <a:t>indicador</a:t>
            </a:r>
            <a:r>
              <a:rPr b="0" lang="es-CL" sz="2000" spc="-1" strike="noStrike">
                <a:solidFill>
                  <a:srgbClr val="000099"/>
                </a:solidFill>
                <a:latin typeface="Arial"/>
              </a:rPr>
              <a:t> que pueda representar el impacto o situación en el medio ambiente, de  diferentes alternativas de un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Lo que interesa es la variación o valores relativos del indicador para cada alternativa, para decidir acerca de las alternativ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755640" y="404640"/>
            <a:ext cx="7869240" cy="5671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ÉTODO DE LA CALIDAD AMBIENTAL INTEGRAD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Se basa en el método diseñado por el Battelle Memorial Institute denominado “Método de Batelle”, para evaluar el impacto de proyectos de recursos hídrico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El propósito es definir un indicador que represente el efecto de todas las v.a. en la situación sin proyecto y para cada alternativa de proyecto futur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333399"/>
                </a:solidFill>
                <a:uFillTx/>
                <a:latin typeface="Arial"/>
              </a:rPr>
              <a:t>Procedimien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 1:</a:t>
            </a:r>
            <a:r>
              <a:rPr b="0" lang="es-CL" sz="1800" spc="-1" strike="noStrike">
                <a:solidFill>
                  <a:srgbClr val="333399"/>
                </a:solidFill>
                <a:latin typeface="Arial"/>
              </a:rPr>
              <a:t> </a:t>
            </a:r>
            <a:r>
              <a:rPr b="0" lang="es-ES" sz="1800" spc="-1" strike="noStrike">
                <a:solidFill>
                  <a:srgbClr val="000099"/>
                </a:solidFill>
                <a:latin typeface="Arial"/>
              </a:rPr>
              <a:t>Definición de las variables ambientales relevantes del proyecto a analizar (va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 2:</a:t>
            </a:r>
            <a:r>
              <a:rPr b="0" lang="es-CL" sz="1800" spc="-1" strike="noStrike">
                <a:solidFill>
                  <a:srgbClr val="000099"/>
                </a:solidFill>
                <a:latin typeface="Arial"/>
              </a:rPr>
              <a:t>  </a:t>
            </a:r>
            <a:r>
              <a:rPr b="0" lang="es-ES_tradnl" sz="1800" spc="-1" strike="noStrike">
                <a:solidFill>
                  <a:srgbClr val="000099"/>
                </a:solidFill>
                <a:latin typeface="Arial"/>
              </a:rPr>
              <a:t>Determinación de la importancia relativa de cada vaj (Pj), entre 0 y 1, de modo que la suma de los Pj sea igual a 1. Para la determinación de los Pj, se puede utilizar metodologías del tipo “Juicio de Expertos”, como la Técnica Delphi o del conocimiento de la Percepción Ambiental de la comunidad involucr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5280" y="1268280"/>
            <a:ext cx="7704000" cy="2014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 3:  </a:t>
            </a:r>
            <a:r>
              <a:rPr b="0" lang="es-ES" sz="1800" spc="-1" strike="noStrike">
                <a:solidFill>
                  <a:srgbClr val="000099"/>
                </a:solidFill>
                <a:latin typeface="Arial"/>
              </a:rPr>
              <a:t>Determinación de los valores de la calidad ambiental (Cj) de cada variable ambiental vaj, en escala normalizada entre 0 y 1, con un decimal, en que 0 representa la peor calidad ambiental del sistema y 1 la mejo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Estos valores se determinan para la situación sin proyecto (Cj) y con proyecto (C’j), para lo cual también se puede aplicar la técnica Delphi.</a:t>
            </a:r>
            <a:endParaRPr b="0" lang="en-US" sz="1800" spc="-1" strike="noStrike">
              <a:solidFill>
                <a:srgbClr val="000000"/>
              </a:solidFill>
              <a:latin typeface="Arial"/>
            </a:endParaRPr>
          </a:p>
        </p:txBody>
      </p:sp>
      <p:sp>
        <p:nvSpPr>
          <p:cNvPr id="67" name=""/>
          <p:cNvSpPr/>
          <p:nvPr/>
        </p:nvSpPr>
        <p:spPr>
          <a:xfrm>
            <a:off x="826920" y="549360"/>
            <a:ext cx="8066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ÉTODO DE LA CALIDAD AMBIENTAL INTEGRAD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flipV="1">
            <a:off x="1116000" y="4076640"/>
            <a:ext cx="0" cy="17287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116000" y="5805360"/>
            <a:ext cx="25923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116000" y="4581360"/>
            <a:ext cx="93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50920" y="4581360"/>
            <a:ext cx="1297080" cy="122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978720" y="560880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ivel de ruido (dB)</a:t>
            </a:r>
            <a:endParaRPr b="0" lang="en-US" sz="1800" spc="-1" strike="noStrike">
              <a:solidFill>
                <a:srgbClr val="000000"/>
              </a:solidFill>
              <a:latin typeface="Arial"/>
            </a:endParaRPr>
          </a:p>
        </p:txBody>
      </p:sp>
      <p:sp>
        <p:nvSpPr>
          <p:cNvPr id="73" name=""/>
          <p:cNvSpPr/>
          <p:nvPr/>
        </p:nvSpPr>
        <p:spPr>
          <a:xfrm>
            <a:off x="895320" y="5877000"/>
            <a:ext cx="27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0             30               80</a:t>
            </a:r>
            <a:endParaRPr b="0" lang="en-US" sz="1800" spc="-1" strike="noStrike">
              <a:solidFill>
                <a:srgbClr val="000000"/>
              </a:solidFill>
              <a:latin typeface="Arial"/>
            </a:endParaRPr>
          </a:p>
        </p:txBody>
      </p:sp>
      <p:sp>
        <p:nvSpPr>
          <p:cNvPr id="74" name=""/>
          <p:cNvSpPr/>
          <p:nvPr/>
        </p:nvSpPr>
        <p:spPr>
          <a:xfrm>
            <a:off x="520920" y="4456080"/>
            <a:ext cx="4978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0,0</a:t>
            </a:r>
            <a:endParaRPr b="0" lang="en-US" sz="1800" spc="-1" strike="noStrike">
              <a:solidFill>
                <a:srgbClr val="000000"/>
              </a:solidFill>
              <a:latin typeface="Arial"/>
            </a:endParaRPr>
          </a:p>
        </p:txBody>
      </p:sp>
      <p:sp>
        <p:nvSpPr>
          <p:cNvPr id="75" name=""/>
          <p:cNvSpPr/>
          <p:nvPr/>
        </p:nvSpPr>
        <p:spPr>
          <a:xfrm>
            <a:off x="1389600" y="3881520"/>
            <a:ext cx="31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j Valor de calidad ambiental</a:t>
            </a:r>
            <a:endParaRPr b="0" lang="en-US" sz="1800" spc="-1" strike="noStrike">
              <a:solidFill>
                <a:srgbClr val="000000"/>
              </a:solidFill>
              <a:latin typeface="Arial"/>
            </a:endParaRPr>
          </a:p>
        </p:txBody>
      </p:sp>
      <p:sp>
        <p:nvSpPr>
          <p:cNvPr id="76" name=""/>
          <p:cNvSpPr/>
          <p:nvPr/>
        </p:nvSpPr>
        <p:spPr>
          <a:xfrm>
            <a:off x="1548000" y="6216480"/>
            <a:ext cx="141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n       Alt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    </a:t>
            </a:r>
            <a:endParaRPr b="0" lang="en-US" sz="1800" spc="-1" strike="noStrike">
              <a:solidFill>
                <a:srgbClr val="000000"/>
              </a:solidFill>
              <a:latin typeface="Arial"/>
            </a:endParaRPr>
          </a:p>
        </p:txBody>
      </p:sp>
      <p:sp>
        <p:nvSpPr>
          <p:cNvPr id="77" name=""/>
          <p:cNvSpPr/>
          <p:nvPr/>
        </p:nvSpPr>
        <p:spPr>
          <a:xfrm flipV="1">
            <a:off x="1835280" y="458136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2627280" y="5084640"/>
            <a:ext cx="0" cy="72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042560" y="5084640"/>
            <a:ext cx="1584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41440" y="4941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0,5</a:t>
            </a:r>
            <a:endParaRPr b="0" lang="en-US" sz="1800" spc="-1" strike="noStrike">
              <a:solidFill>
                <a:srgbClr val="000000"/>
              </a:solidFill>
              <a:latin typeface="Arial"/>
            </a:endParaRPr>
          </a:p>
        </p:txBody>
      </p:sp>
      <p:sp>
        <p:nvSpPr>
          <p:cNvPr id="81" name=""/>
          <p:cNvSpPr/>
          <p:nvPr/>
        </p:nvSpPr>
        <p:spPr>
          <a:xfrm>
            <a:off x="450720" y="33051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18:16:18Z</dcterms:created>
  <dc:creator>Enrique K</dc:creator>
  <dc:description/>
  <dc:language>en-US</dc:language>
  <cp:lastModifiedBy>Enrique K</cp:lastModifiedBy>
  <dcterms:modified xsi:type="dcterms:W3CDTF">2008-10-07T02:59:55Z</dcterms:modified>
  <cp:revision>28</cp:revision>
  <dc:subject/>
  <dc:title>Diapositiva 1</dc:title>
</cp:coreProperties>
</file>