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8D0AF-F49B-4883-A49D-4D812E066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CE310-6118-415E-A46F-5ABD091F2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61624-05CA-40BB-BCEF-B9A59E3F5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7B0D4-7913-4C5E-AA13-44F7B17C2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EF7B5-42BC-4D65-886D-B6BE46284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557C4-0A99-4A85-A6E0-80802EDAD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84371-718B-43EC-8440-D1CD203BB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CC035-4DE8-4564-8662-DD916B72E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87BCF-8DEB-4E0F-BF6C-76AD5180A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1BA8E-6DD5-488D-9F99-783E02188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322F4-7359-4847-8CC6-3BBA6EC2F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97A1A-1DA0-4F6B-ACA1-38ACA26FF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2FB1C-AB6D-4AF2-B69F-B3900835D0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seia.cl/"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280" y="620640"/>
            <a:ext cx="8012160" cy="521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UNIVERSIDAD DE CH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ACULTAD DE CIENCIAS FÍSICAS Y MATEMÁTICAS  -  ESCUELA DE INGENIERÍ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333399"/>
                </a:solidFill>
                <a:uFillTx/>
                <a:latin typeface="Arial"/>
              </a:rPr>
              <a:t>DEPARTAMENTO DE INGENIERÍA CIV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INARI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 </a:t>
            </a:r>
            <a:r>
              <a:rPr b="1" lang="es-ES_tradnl" sz="2400" spc="-1" strike="noStrike">
                <a:solidFill>
                  <a:srgbClr val="333399"/>
                </a:solidFill>
                <a:latin typeface="Arial"/>
              </a:rPr>
              <a:t>"EVALUACIÓN DE IMPACTO AMBIENTAL (E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ESTRE PRIMAVERA 2008</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FESOR : ENRIQUE KALISKI KRIGU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Sesión Nº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19120" y="568440"/>
            <a:ext cx="8085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Acla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Línea Base NO es un estudio científico acerca del ambiente o de algún aspecto de éste, sino sólo la determinación del valor de las v.a. sin proyec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rresponde a la determinación de las características de los medios físicos, bióticos, socio-. Cultural y construido, etc., cada uno de los cuales es analizado en forma científica, pero con los alcances y en el contexto de obtener los valores de las variables ambientales relevantes en el área de influencia del proyecto, en la situación sin proyec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95280" y="836640"/>
            <a:ext cx="8209080" cy="451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étodos para realizar una Línea de Ba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ara realizar una Línea Base, se pueden utilizar las siguientes métodos, según sea el ca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Uso de bibliografía y estudios disponibles (Valores históricos o de refere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Medición direc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Inferencia, a partir de situaciones, lugares y proyectos similares, datos de la literatura,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Estimaciones con modelos u otros procedimien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5120" y="568440"/>
            <a:ext cx="794052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Línea de base</a:t>
            </a:r>
            <a:r>
              <a:rPr b="1" lang="es-ES_tradnl" sz="2000" spc="-1" strike="noStrike">
                <a:solidFill>
                  <a:srgbClr val="ff0000"/>
                </a:solidFill>
                <a:latin typeface="Arial"/>
              </a:rPr>
              <a:t>, según el REGLAMENTO DEL SISTEMA </a:t>
            </a:r>
            <a:r>
              <a:rPr b="1" lang="es-ES" sz="2000" spc="-1" strike="noStrike">
                <a:solidFill>
                  <a:srgbClr val="ff0000"/>
                </a:solidFill>
                <a:latin typeface="Arial"/>
              </a:rPr>
              <a:t>DE EVALUACIÓN DE IMPACTO AMBIENTAL</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 </a:t>
            </a:r>
            <a:r>
              <a:rPr b="1" lang="es-CL" sz="1800" spc="-1" strike="noStrike">
                <a:solidFill>
                  <a:srgbClr val="333399"/>
                </a:solidFill>
                <a:latin typeface="Arial"/>
              </a:rPr>
              <a:t>Artículo 12.- </a:t>
            </a:r>
            <a:r>
              <a:rPr b="1" lang="es-CL" sz="1800" spc="-1" strike="noStrike">
                <a:solidFill>
                  <a:srgbClr val="333399"/>
                </a:solidFill>
                <a:latin typeface="Arial"/>
              </a:rPr>
              <a:t>	</a:t>
            </a:r>
            <a:r>
              <a:rPr b="1" lang="es-CL" sz="1800" spc="-1" strike="noStrike">
                <a:solidFill>
                  <a:srgbClr val="333399"/>
                </a:solidFill>
                <a:latin typeface="Arial"/>
              </a:rPr>
              <a:t>Los contenidos mínimos detallados para la elabora­ción de los Estudios de Impacto Ambiental considerarán las siguientes mater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f)</a:t>
            </a:r>
            <a:r>
              <a:rPr b="1" lang="es-ES" sz="1800" spc="-1" strike="noStrike">
                <a:solidFill>
                  <a:srgbClr val="333399"/>
                </a:solidFill>
                <a:latin typeface="Arial"/>
              </a:rPr>
              <a:t>	</a:t>
            </a:r>
            <a:r>
              <a:rPr b="1" lang="es-ES" sz="1800" spc="-1" strike="noStrike">
                <a:solidFill>
                  <a:srgbClr val="333399"/>
                </a:solidFill>
                <a:latin typeface="Arial"/>
              </a:rPr>
              <a:t>La línea de base, que deberá describir el área de influencia del proyecto o actividad, a objeto de evaluar posteriormente los impactos que, pudieren generarse o presentarse sobre los elementos del medio amb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47840" y="423720"/>
            <a:ext cx="8011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l </a:t>
            </a:r>
            <a:r>
              <a:rPr b="0" lang="es-ES" sz="1800" spc="-1" strike="noStrike">
                <a:solidFill>
                  <a:srgbClr val="ff0000"/>
                </a:solidFill>
                <a:latin typeface="Arial"/>
              </a:rPr>
              <a:t>área de influencia</a:t>
            </a:r>
            <a:r>
              <a:rPr b="0" lang="es-ES" sz="1800" spc="-1" strike="noStrike">
                <a:solidFill>
                  <a:srgbClr val="333399"/>
                </a:solidFill>
                <a:latin typeface="Arial"/>
              </a:rPr>
              <a:t> del proyecto o actividad se definirá y justificará, para cada elemento afectado del medio ambiente, tomando en consideración los impactos ambientales potenciales relevantes sobre ell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eberán describirse aquellos elementos del medio ambiente que se encuentren en el área de influencia del proyecto o actividad, </a:t>
            </a:r>
            <a:r>
              <a:rPr b="0" lang="es-ES" sz="1800" spc="-1" strike="noStrike">
                <a:solidFill>
                  <a:srgbClr val="ff0000"/>
                </a:solidFill>
                <a:latin typeface="Arial"/>
              </a:rPr>
              <a:t>y que dan origen a la necesidad de presentar un Estudio de Impacto Ambiental</a:t>
            </a:r>
            <a:r>
              <a:rPr b="0" lang="es-E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Arial"/>
              </a:rPr>
              <a:t>(Ejemplo: si se debe presentar un EIA debido a la erradicación de gente, la línea de base deberá contener antecedentes sociales, culturales, antropológicos, etc. de la comunidad afect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Se caracterizará el estado de los elementos del medio ambiente, considerando los atributos  relevantes del área de influencia, su situación actual y, si es procedente, su posible evolución sin considerar la ejecución o modificación del proyecto o activ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755640" y="260280"/>
            <a:ext cx="80136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CONTENIDO  DE  LA  LÍNEA  DE  BA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SEGÚN EL REGLAMENTO DEL SISTEMA </a:t>
            </a:r>
            <a:r>
              <a:rPr b="1" lang="es-ES" sz="1800" spc="-1" strike="noStrike">
                <a:solidFill>
                  <a:srgbClr val="ff0000"/>
                </a:solidFill>
                <a:latin typeface="Arial"/>
              </a:rPr>
              <a:t>DE EVALUACIÓN DE IMPACTO AMBIENTAL, ART. 12º LETRA F)</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a descripción considerará, cuando corresponda, los siguientes conten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1.</a:t>
            </a:r>
            <a:r>
              <a:rPr b="0" lang="es-ES" sz="1800" spc="-1" strike="noStrike">
                <a:solidFill>
                  <a:srgbClr val="333399"/>
                </a:solidFill>
                <a:latin typeface="Arial"/>
              </a:rPr>
              <a:t>	</a:t>
            </a:r>
            <a:r>
              <a:rPr b="0" lang="es-ES" sz="1800" spc="-1" strike="noStrike">
                <a:solidFill>
                  <a:srgbClr val="333399"/>
                </a:solidFill>
                <a:latin typeface="Arial"/>
              </a:rPr>
              <a:t>El medio físico, que incluirá, entre otros, la caracterización y análisis del clima, la geología, la geomorfología, la hidrogeología, la oceanografía, la limnología, la hidrología y la edafologí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Asimismo, considerará niveles de ruido, presencia y niveles de vibraciones y luminosidad, de campos electromagnéticos y de radiación, calidad del aire y de los recursos hídr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2.</a:t>
            </a:r>
            <a:r>
              <a:rPr b="0" lang="es-ES" sz="1800" spc="-1" strike="noStrike">
                <a:solidFill>
                  <a:srgbClr val="333399"/>
                </a:solidFill>
                <a:latin typeface="Arial"/>
              </a:rPr>
              <a:t>	</a:t>
            </a:r>
            <a:r>
              <a:rPr b="0" lang="es-ES" sz="1800" spc="-1" strike="noStrike">
                <a:solidFill>
                  <a:srgbClr val="333399"/>
                </a:solidFill>
                <a:latin typeface="Arial"/>
              </a:rPr>
              <a:t>El medio biótico, que incluirá una descripción y análisis de la biota, pormenorizando, entre otros, la identificación, ubicación, distribución, diver­sidad y abundancia de las especies de flora y fauna que componen los ecosistemas existentes, enfatizando en aquellas especies que se encuentren en alguna categoría de conserv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19120" y="568440"/>
            <a:ext cx="81565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3.</a:t>
            </a:r>
            <a:r>
              <a:rPr b="0" lang="es-ES" sz="1800" spc="-1" strike="noStrike">
                <a:solidFill>
                  <a:srgbClr val="333399"/>
                </a:solidFill>
                <a:latin typeface="Arial"/>
              </a:rPr>
              <a:t>	</a:t>
            </a:r>
            <a:r>
              <a:rPr b="0" lang="es-ES" sz="1800" spc="-1" strike="noStrike">
                <a:solidFill>
                  <a:srgbClr val="333399"/>
                </a:solidFill>
                <a:latin typeface="Arial"/>
              </a:rPr>
              <a:t>El medio humano, que incluirá información y análisis de la dimensión geográfica, demográfica, antropológica, socioeconómica y de bienestar social y otros similares que aporten información relevante sobre la calidad de vida de las comunidades afecta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Asimismo, se describirán los sistemas de vida y las costumbres de los grupos humanos, poniendo especial énfasis en las comunidades protegidas por leyes especi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4.</a:t>
            </a:r>
            <a:r>
              <a:rPr b="0" lang="es-ES" sz="1800" spc="-1" strike="noStrike">
                <a:solidFill>
                  <a:srgbClr val="333399"/>
                </a:solidFill>
                <a:latin typeface="Arial"/>
              </a:rPr>
              <a:t>	</a:t>
            </a:r>
            <a:r>
              <a:rPr b="0" lang="es-ES" sz="1800" spc="-1" strike="noStrike">
                <a:solidFill>
                  <a:srgbClr val="333399"/>
                </a:solidFill>
                <a:latin typeface="Arial"/>
              </a:rPr>
              <a:t>El medio construido, describiendo su equipamiento, obras de infraestructura, y cualquier otra obra relevan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Asimismo, se describirán las actividades económicas, tales como industriales, turísticas, de transporte, de servicios y cualquier otra  actividad relevante existente o planific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47840" y="352440"/>
            <a:ext cx="822780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5.</a:t>
            </a:r>
            <a:r>
              <a:rPr b="0" lang="es-ES" sz="1800" spc="-1" strike="noStrike">
                <a:solidFill>
                  <a:srgbClr val="333399"/>
                </a:solidFill>
                <a:latin typeface="Arial"/>
              </a:rPr>
              <a:t>	</a:t>
            </a:r>
            <a:r>
              <a:rPr b="0" lang="es-ES" sz="1800" spc="-1" strike="noStrike">
                <a:solidFill>
                  <a:srgbClr val="333399"/>
                </a:solidFill>
                <a:latin typeface="Arial"/>
              </a:rPr>
              <a:t>El uso de los elementos del medio ambiente comprendidos en el área de influencia del proyecto o actividad, que incluirá, entre otros, una descripción del uso del suelo, de su capacidad de uso y clasificación  según aptitud, si se encuentra regulado por algún instrumento de planificación territorial o si forma parte de un área bajo protección ofic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6.</a:t>
            </a:r>
            <a:r>
              <a:rPr b="0" lang="es-ES" sz="1800" spc="-1" strike="noStrike">
                <a:solidFill>
                  <a:srgbClr val="333399"/>
                </a:solidFill>
                <a:latin typeface="Arial"/>
              </a:rPr>
              <a:t>	</a:t>
            </a:r>
            <a:r>
              <a:rPr b="0" lang="es-ES" sz="1800" spc="-1" strike="noStrike">
                <a:solidFill>
                  <a:srgbClr val="333399"/>
                </a:solidFill>
                <a:latin typeface="Arial"/>
              </a:rPr>
              <a:t>Los elementos naturales y artificiales que componen el patrimonio histórico, arqueológico, antropo arqueológico, paleontológico, religioso y, en general, los que componen el patrimonio cultural, incluyendo la caracteri­zación de los Monumentos Naciona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7.</a:t>
            </a:r>
            <a:r>
              <a:rPr b="0" lang="es-ES" sz="1800" spc="-1" strike="noStrike">
                <a:solidFill>
                  <a:srgbClr val="333399"/>
                </a:solidFill>
                <a:latin typeface="Arial"/>
              </a:rPr>
              <a:t>	</a:t>
            </a:r>
            <a:r>
              <a:rPr b="0" lang="es-ES" sz="1800" spc="-1" strike="noStrike">
                <a:solidFill>
                  <a:srgbClr val="333399"/>
                </a:solidFill>
                <a:latin typeface="Arial"/>
              </a:rPr>
              <a:t>El paisaje, que incluirá, entre otros, la caracterización de su </a:t>
            </a:r>
            <a:r>
              <a:rPr b="1" lang="es-ES" sz="2400" spc="-1" strike="noStrike">
                <a:solidFill>
                  <a:srgbClr val="ff0000"/>
                </a:solidFill>
                <a:latin typeface="Arial"/>
              </a:rPr>
              <a:t>visibilidad, fragilidad y calidad</a:t>
            </a:r>
            <a:r>
              <a:rPr b="0" lang="es-ES" sz="1800" spc="-1" strike="noStrike">
                <a:solidFill>
                  <a:srgbClr val="3333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76200" y="496800"/>
            <a:ext cx="8156520" cy="554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Visibil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globa todos los posibles puntos de observación, desde donde las actividades del proyecto son visibl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De acuerdo con el punto de observación, corresponde a la visual  del área de influencia sin proyecto, según diferentes formas de observació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jemp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Antes del proyecto, la visibilidad para un observador es un paisaje de playa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Con el proyecto (Edificio), para el mismo observador,  la visual es el edificio constru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55640" y="404640"/>
            <a:ext cx="7221600" cy="557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Fragilidad del paisaj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Características del territorio relacionadas con su respuesta al cambio de las propiedades del paisa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Susceptibilidad de un paisaje al cambio, cuando se desarrolla un uso o actuación sobre él, debido a factores  biológicos y físicos (suelo, vegetación), morfológicos (Cuenca visual, alturas) y la intervención huma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jemp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8000"/>
                </a:solidFill>
                <a:latin typeface="Arial"/>
              </a:rPr>
              <a:t>Paisaje Nº 1: Vista aérea de una cuenca, con mucha vegetación y río muy ancho,  donde se construirá un embal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8000"/>
                </a:solidFill>
                <a:latin typeface="Arial"/>
              </a:rPr>
              <a:t>Paisaje Nº 2: Igual al anterior, pero ubicado en una zona desértica, río angosto, sin vegetació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n el segundo caso hay mayor fragilidad del paisaje, por el cambio introduc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68360" y="404640"/>
            <a:ext cx="8013600" cy="6037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alidad del paisaj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Formas de evaluarl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Subjetividad acept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Categorías de calidad visual: excelente, buena, regular, mal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Subjetividad Control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Se utiliza una escala universal estandarizada, para cada sitio a evaluar (Escala en puntajes de 1 a 100)</a:t>
            </a: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Subjetividad Compartida: </a:t>
            </a:r>
            <a:r>
              <a:rPr b="0" lang="es-CL" sz="1800" spc="-1" strike="noStrike">
                <a:solidFill>
                  <a:srgbClr val="333399"/>
                </a:solidFill>
                <a:latin typeface="Arial"/>
              </a:rPr>
              <a:t>Se somete a discusión de un grupo de expertos la estética de un paisaje y el resultado es el consenso, con valores en una escala similar a la Subjetividad aceptada</a:t>
            </a: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Subjetividad Representativa: </a:t>
            </a:r>
            <a:r>
              <a:rPr b="0" lang="es-CL" sz="1800" spc="-1" strike="noStrike">
                <a:solidFill>
                  <a:srgbClr val="333399"/>
                </a:solidFill>
                <a:latin typeface="Arial"/>
              </a:rPr>
              <a:t>La evaluación la realiza un grupo de personas representativas de la sociedad o de la comunidad relacionada con el proyecto, a través de encuestas</a:t>
            </a: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55640" y="3357720"/>
            <a:ext cx="7199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resultados de una EIA son los siguien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Factibilidad ambie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lección de alternativas de un proyecto, desde el punto de vista ambie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Medidas de mitigación y compensación ambie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Medidas de monitoreo o de seguimiento y control ambiental</a:t>
            </a:r>
            <a:endParaRPr b="0" lang="en-US" sz="1800" spc="-1" strike="noStrike">
              <a:solidFill>
                <a:srgbClr val="000000"/>
              </a:solidFill>
              <a:latin typeface="Arial"/>
            </a:endParaRPr>
          </a:p>
        </p:txBody>
      </p:sp>
      <p:sp>
        <p:nvSpPr>
          <p:cNvPr id="43" name=""/>
          <p:cNvSpPr/>
          <p:nvPr/>
        </p:nvSpPr>
        <p:spPr>
          <a:xfrm>
            <a:off x="539640" y="1484280"/>
            <a:ext cx="324036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536760" y="167472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45" name=""/>
          <p:cNvSpPr/>
          <p:nvPr/>
        </p:nvSpPr>
        <p:spPr>
          <a:xfrm>
            <a:off x="3780000" y="2060640"/>
            <a:ext cx="43308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4356000" y="1484280"/>
            <a:ext cx="1728720" cy="129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572000" y="17715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48" name=""/>
          <p:cNvSpPr/>
          <p:nvPr/>
        </p:nvSpPr>
        <p:spPr>
          <a:xfrm>
            <a:off x="6643080" y="179064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6661080" y="141300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156360" y="206064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34520" y="404640"/>
            <a:ext cx="659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RECORDEMOS EL ESQUEMA DE UNA E.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92200" y="352440"/>
            <a:ext cx="8012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Verificación de existencia de Áreas con Protección Ambiental en la zona de influencia del proyec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a:t>
            </a:r>
            <a:r>
              <a:rPr b="0" lang="es-ES_tradnl" sz="1800" spc="-1" strike="noStrike" u="sng">
                <a:solidFill>
                  <a:srgbClr val="333399"/>
                </a:solidFill>
                <a:uFillTx/>
                <a:latin typeface="Arial"/>
              </a:rPr>
              <a:t>Monumentos Nacio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Monumentos Históricos", "Monumentos Públicos", "Monumentos Arqueológicos de Propiedad del Estado", "Zonas Típicas" y "Santuarios de la Naturalez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 </a:t>
            </a:r>
            <a:r>
              <a:rPr b="0" lang="es-ES_tradnl" sz="1800" spc="-1" strike="noStrike" u="sng">
                <a:solidFill>
                  <a:srgbClr val="333399"/>
                </a:solidFill>
                <a:uFillTx/>
                <a:latin typeface="Arial"/>
              </a:rPr>
              <a:t>Sitios arqueológ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sitios arqueológicos están protegidos por la legislación vigente, de modo que no se puede construir ninguna obra en estos sitios, sin un informe especializado y siempre que se apruebe un proyecto de traslado o de mitig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 </a:t>
            </a:r>
            <a:r>
              <a:rPr b="0" lang="es-ES_tradnl" sz="1800" spc="-1" strike="noStrike" u="sng">
                <a:solidFill>
                  <a:srgbClr val="333399"/>
                </a:solidFill>
                <a:uFillTx/>
                <a:latin typeface="Arial"/>
              </a:rPr>
              <a:t>Parques Nacionales, Monumentos Naturales y Reservas Nacio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 Áreas con protección especial, tales como humedales, sitios protegidos por la Convención RAMSAR,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47840" y="423720"/>
            <a:ext cx="8300880" cy="5764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RESUMEN DEL CONTENIDO DE LA LINEA DE BA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1.  Descripción del estado de cada componente ambiental, en el área de influencia del proyect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Arial"/>
              </a:rPr>
              <a:t>Físicas (aire, agua, suelo)</a:t>
            </a:r>
            <a:endParaRPr b="0" lang="en-US" sz="1800" spc="-1" strike="noStrike">
              <a:solidFill>
                <a:srgbClr val="000000"/>
              </a:solidFill>
              <a:latin typeface="Arial"/>
            </a:endParaRPr>
          </a:p>
          <a:p>
            <a:pPr marL="343080" indent="-3430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Arial"/>
              </a:rPr>
              <a:t>Bióticas (Flora, fauna)</a:t>
            </a:r>
            <a:endParaRPr b="0" lang="en-US" sz="1800" spc="-1" strike="noStrike">
              <a:solidFill>
                <a:srgbClr val="000000"/>
              </a:solidFill>
              <a:latin typeface="Arial"/>
            </a:endParaRPr>
          </a:p>
          <a:p>
            <a:pPr marL="343080" indent="-3430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Arial"/>
              </a:rPr>
              <a:t>Perceptuales: (paisaje, sociales, históricas, cultura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O bien agrupando según lo siguient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Arial"/>
              </a:rPr>
              <a:t>- Medio físico,  medio biótico,  medio humano y  medio construid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Definición, medición o estimación de los valores de las variables ambientales relevantes, para la situación sin proyecto, en el área de influenci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3. </a:t>
            </a:r>
            <a:r>
              <a:rPr b="1" lang="es-ES" sz="1800" spc="-1" strike="noStrike">
                <a:solidFill>
                  <a:srgbClr val="333399"/>
                </a:solidFill>
                <a:latin typeface="Arial"/>
              </a:rPr>
              <a:t>Verificación de existencia de Áreas con Protección Ambiental en la zona de influencia del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195640" y="981000"/>
            <a:ext cx="4733640" cy="5688000"/>
          </a:xfrm>
          <a:prstGeom prst="rect">
            <a:avLst/>
          </a:prstGeom>
          <a:ln w="0">
            <a:noFill/>
          </a:ln>
        </p:spPr>
      </p:pic>
      <p:sp>
        <p:nvSpPr>
          <p:cNvPr id="85" name=""/>
          <p:cNvSpPr/>
          <p:nvPr/>
        </p:nvSpPr>
        <p:spPr>
          <a:xfrm>
            <a:off x="901800" y="281160"/>
            <a:ext cx="7035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Ejemplo de contenido de un EIA (Embalse Ancoa – VII Reg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Ver en </a:t>
            </a:r>
            <a:r>
              <a:rPr b="0" lang="es-CL" sz="1800" spc="-1" strike="noStrike" u="sng">
                <a:solidFill>
                  <a:srgbClr val="009999"/>
                </a:solidFill>
                <a:uFillTx/>
                <a:latin typeface="Arial"/>
                <a:hlinkClick r:id="rId2"/>
              </a:rPr>
              <a:t>www.seia.cl</a:t>
            </a:r>
            <a:r>
              <a:rPr b="1" lang="es-CL" sz="1800" spc="-1" strike="noStrike">
                <a:solidFill>
                  <a:srgbClr val="ff0000"/>
                </a:solidFill>
                <a:latin typeface="Arial"/>
              </a:rPr>
              <a:t> </a:t>
            </a:r>
            <a:r>
              <a:rPr b="1" lang="es-CL" sz="1800" spc="-1" strike="noStrike">
                <a:solidFill>
                  <a:srgbClr val="333399"/>
                </a:solidFill>
                <a:latin typeface="Arial"/>
              </a:rPr>
              <a:t>– proyectos de embalses aprob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31840" y="208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 name=""/>
          <p:cNvSpPr/>
          <p:nvPr/>
        </p:nvSpPr>
        <p:spPr>
          <a:xfrm>
            <a:off x="228600" y="304920"/>
            <a:ext cx="8763120" cy="61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333399"/>
                </a:solidFill>
                <a:uFillTx/>
                <a:latin typeface="Arial"/>
                <a:ea typeface="Times New Roman"/>
              </a:rPr>
              <a:t>(Para el próximo informe de avance del proyecto)    Línea de 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Presentar una breve descripción del estado de los factores ambientales en la zona de influencia  directa del proyecto, </a:t>
            </a:r>
            <a:r>
              <a:rPr b="0" lang="es-ES" sz="1200" spc="-1" strike="noStrike" u="sng">
                <a:solidFill>
                  <a:srgbClr val="333399"/>
                </a:solidFill>
                <a:uFillTx/>
                <a:latin typeface="Arial"/>
                <a:ea typeface="Times New Roman"/>
              </a:rPr>
              <a:t>en el tramo del grupo</a:t>
            </a:r>
            <a:r>
              <a:rPr b="0" lang="es-ES" sz="1200" spc="-1" strike="noStrike">
                <a:solidFill>
                  <a:srgbClr val="333399"/>
                </a:solidFill>
                <a:latin typeface="Arial"/>
                <a:ea typeface="Times New Roman"/>
              </a:rPr>
              <a:t>, con mayor énfasis en aquellas que estarán más relacionadas con impactos ambientales relevantes. Considerar una breve descripción de cada una de las variables ambientales siguien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ea typeface="Times New Roman"/>
              </a:rPr>
              <a:t>a) Medio Ambiente  físico:</a:t>
            </a: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r>
              <a:rPr b="0" lang="es-ES" sz="1200" spc="-1" strike="noStrike">
                <a:solidFill>
                  <a:srgbClr val="333399"/>
                </a:solidFill>
                <a:latin typeface="Arial"/>
                <a:ea typeface="Times New Roman"/>
              </a:rPr>
              <a:t>- Aire (Mediciones de calidad del aire o antecedentes disponibles del sector o zo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Suelo  (Uso del suelo actual, detallar en cada cuadra: residencial, parques, jardines, plazas, otr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ea typeface="Times New Roman"/>
              </a:rPr>
              <a:t>b) Medio Ambiente  bióti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r>
              <a:rPr b="0" lang="es-ES" sz="1200" spc="-1" strike="noStrike">
                <a:solidFill>
                  <a:srgbClr val="333399"/>
                </a:solidFill>
                <a:latin typeface="Arial"/>
                <a:ea typeface="Times New Roman"/>
              </a:rPr>
              <a:t>- Flora: existencia de lugares con vegetación relevante, describir cada u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ea typeface="Times New Roman"/>
              </a:rPr>
              <a:t>c) Medio Ambiente  Social o Hum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Variables Socio-Económicos: Nivel socio económico y nivel de empleo, datos a nivel comunal. (Podrían definir escalas cualitativas: bajo, medio, al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333399"/>
                </a:solidFill>
                <a:uFillTx/>
                <a:latin typeface="Arial"/>
                <a:ea typeface="Times New Roman"/>
              </a:rPr>
              <a:t>Histórico - Culturales</a:t>
            </a:r>
            <a:r>
              <a:rPr b="0" lang="es-ES" sz="1200" spc="-1" strike="noStrike">
                <a:solidFill>
                  <a:srgbClr val="333399"/>
                </a:solidFill>
                <a:latin typeface="Arial"/>
                <a:ea typeface="Times New Roman"/>
              </a:rPr>
              <a:t> (Existencia de Monumentos Nacionales, Zonas Protegidas, característica cultural específica). Verificar lo que existe en el tramo del grup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333399"/>
                </a:solidFill>
                <a:uFillTx/>
                <a:latin typeface="Arial"/>
                <a:ea typeface="Times New Roman"/>
              </a:rPr>
              <a:t>Paisaje:</a:t>
            </a:r>
            <a:r>
              <a:rPr b="0" lang="es-ES" sz="1200" spc="-1" strike="noStrike">
                <a:solidFill>
                  <a:srgbClr val="333399"/>
                </a:solidFill>
                <a:latin typeface="Arial"/>
                <a:ea typeface="Times New Roman"/>
              </a:rPr>
              <a:t> Tomar tres lugares que sean representativos de un cambio relevante en el paisaje al operar el proyecto. En cada caso, evaluar los componentes de calidad, visibilidad y fragilidad. Apoyar la descripción con fotografí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ea typeface="Times New Roman"/>
              </a:rPr>
              <a:t>d) Medio Ambiente  Construi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Indicar y justificar cuáles serán las v.a. a utilizar en la línea de b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Indicar el estado (valor) de las variables seleccionadas, para la situación actual.  Tener en cuenta que para que una v.a. quede completamente definida, se debe explicitar lo siguiente: Valor,  Ubicación, Período de tiempo o fecha,  Cómo se obtuvo (medición, estimación, modelo u ot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11280" y="404640"/>
            <a:ext cx="3240000" cy="12956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08400" y="59544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54" name=""/>
          <p:cNvSpPr/>
          <p:nvPr/>
        </p:nvSpPr>
        <p:spPr>
          <a:xfrm>
            <a:off x="385128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427640" y="404640"/>
            <a:ext cx="172872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643280" y="692280"/>
            <a:ext cx="13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57" name=""/>
          <p:cNvSpPr/>
          <p:nvPr/>
        </p:nvSpPr>
        <p:spPr>
          <a:xfrm>
            <a:off x="6714360" y="71136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6732720" y="33336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22764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227640" y="2060640"/>
            <a:ext cx="2665440" cy="426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6: Selección de alternativas de un proyecto, desde el punto de vista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7: Medidas de mitigación y compensación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8:</a:t>
            </a:r>
            <a:r>
              <a:rPr b="1" lang="es-ES_tradnl" sz="1600" spc="-1" strike="noStrike">
                <a:solidFill>
                  <a:srgbClr val="000000"/>
                </a:solidFill>
                <a:latin typeface="Arial"/>
              </a:rPr>
              <a:t> </a:t>
            </a:r>
            <a:r>
              <a:rPr b="1" lang="es-ES_tradnl" sz="1600" spc="-1" strike="noStrike">
                <a:solidFill>
                  <a:srgbClr val="333399"/>
                </a:solidFill>
                <a:latin typeface="Arial"/>
              </a:rPr>
              <a:t>Medidas de monitoreo o de seguimiento y control ambiental</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9:</a:t>
            </a:r>
            <a:r>
              <a:rPr b="1" lang="es-ES_tradnl" sz="1600" spc="-1" strike="noStrike">
                <a:solidFill>
                  <a:srgbClr val="000000"/>
                </a:solidFill>
                <a:latin typeface="Arial"/>
              </a:rPr>
              <a:t> </a:t>
            </a:r>
            <a:r>
              <a:rPr b="1" lang="es-ES_tradnl" sz="1600" spc="-1" strike="noStrike">
                <a:solidFill>
                  <a:srgbClr val="333399"/>
                </a:solidFill>
                <a:latin typeface="Arial"/>
              </a:rPr>
              <a:t>Factibilidad ambiental</a:t>
            </a:r>
            <a:endParaRPr b="0" lang="en-US" sz="1600" spc="-1" strike="noStrike">
              <a:solidFill>
                <a:srgbClr val="000000"/>
              </a:solidFill>
              <a:latin typeface="Arial"/>
            </a:endParaRPr>
          </a:p>
        </p:txBody>
      </p:sp>
      <p:sp>
        <p:nvSpPr>
          <p:cNvPr id="61" name=""/>
          <p:cNvSpPr/>
          <p:nvPr/>
        </p:nvSpPr>
        <p:spPr>
          <a:xfrm>
            <a:off x="7380360" y="1701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84360" y="2492280"/>
            <a:ext cx="1676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TAP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Descrip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del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y sus actividades</a:t>
            </a:r>
            <a:endParaRPr b="0" lang="en-US" sz="1600" spc="-1" strike="noStrike">
              <a:solidFill>
                <a:srgbClr val="000000"/>
              </a:solidFill>
              <a:latin typeface="Arial"/>
            </a:endParaRPr>
          </a:p>
        </p:txBody>
      </p:sp>
      <p:sp>
        <p:nvSpPr>
          <p:cNvPr id="63" name=""/>
          <p:cNvSpPr/>
          <p:nvPr/>
        </p:nvSpPr>
        <p:spPr>
          <a:xfrm>
            <a:off x="3203640" y="2421000"/>
            <a:ext cx="275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2: Línea de B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3: Ide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4: Cua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5: Valorización de los impactos.</a:t>
            </a:r>
            <a:endParaRPr b="0" lang="en-US" sz="1600" spc="-1" strike="noStrike">
              <a:solidFill>
                <a:srgbClr val="000000"/>
              </a:solidFill>
              <a:latin typeface="Arial"/>
            </a:endParaRPr>
          </a:p>
        </p:txBody>
      </p:sp>
      <p:sp>
        <p:nvSpPr>
          <p:cNvPr id="64" name=""/>
          <p:cNvSpPr/>
          <p:nvPr/>
        </p:nvSpPr>
        <p:spPr>
          <a:xfrm>
            <a:off x="485928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25892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332000" y="333360"/>
            <a:ext cx="7272360" cy="635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861840" y="765000"/>
            <a:ext cx="8282160" cy="4037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68360" y="333360"/>
            <a:ext cx="7991280" cy="59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1 : Descripción del proyec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Los aspectos a incluir en la descripción del proyecto, según lo que interesa en una EIA son los siguien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 Área de influencia ambiental del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b) Ubicación exacta de las obras y de los lugares en que impactará directam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 Métodos constructivos y tiempos estima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 Métodos y tecnología par ala operación, combustible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 Acciones y actividades relevantes durante la etapa de construcción y de oper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f) Magnitudes relevantes del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g) Situación del entorno del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h) Antecedentes sobre percepción del proyecto por parte de los involucrados o afecta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La descripción del proyecto deber ser tal que permita analizar las actividades y acciones desde el punto de vista ambiental</a:t>
            </a:r>
            <a:r>
              <a:rPr b="0" lang="es-ES_trad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47840" y="471600"/>
            <a:ext cx="8445240" cy="5943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     </a:t>
            </a:r>
            <a:r>
              <a:rPr b="1" lang="es-ES_tradnl" sz="2000" spc="-1" strike="noStrike">
                <a:solidFill>
                  <a:srgbClr val="ff3300"/>
                </a:solidFill>
                <a:latin typeface="Arial"/>
              </a:rPr>
              <a:t>Descripción de un proyecto, según el REGLAMENTO DEL SISTEMA </a:t>
            </a:r>
            <a:r>
              <a:rPr b="1" lang="es-ES" sz="2000" spc="-1" strike="noStrike">
                <a:solidFill>
                  <a:srgbClr val="ff3300"/>
                </a:solidFill>
                <a:latin typeface="Arial"/>
              </a:rPr>
              <a:t>DE EVALUACIÓN DE IMPACTO AMBIENTAL</a:t>
            </a:r>
            <a:br>
              <a:rPr sz="2000"/>
            </a:b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     </a:t>
            </a:r>
            <a:r>
              <a:rPr b="1" lang="es-CL" sz="1800" spc="-1" strike="noStrike">
                <a:solidFill>
                  <a:srgbClr val="ff3300"/>
                </a:solidFill>
                <a:latin typeface="Arial"/>
              </a:rPr>
              <a:t>Artículo 12.- </a:t>
            </a:r>
            <a:r>
              <a:rPr b="1" lang="es-CL" sz="1800" spc="-1" strike="noStrike">
                <a:solidFill>
                  <a:srgbClr val="ff3300"/>
                </a:solidFill>
                <a:latin typeface="Arial"/>
              </a:rPr>
              <a:t>	</a:t>
            </a:r>
            <a:r>
              <a:rPr b="1" lang="es-CL" sz="1800" spc="-1" strike="noStrike">
                <a:solidFill>
                  <a:srgbClr val="ff3300"/>
                </a:solidFill>
                <a:latin typeface="Arial"/>
              </a:rPr>
              <a:t>Los contenidos mínimos detallados para la elaboración de los Estudios de Impacto Ambiental considerarán las siguientes materi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3399"/>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Una descripción del proyecto o actividad que deberá contener, cuando corresponda, lo siguiente:</a:t>
            </a:r>
            <a:endParaRPr b="0" lang="en-US" sz="1800" spc="-1" strike="noStrike">
              <a:solidFill>
                <a:srgbClr val="000000"/>
              </a:solidFill>
              <a:latin typeface="Arial"/>
            </a:endParaRPr>
          </a:p>
          <a:p>
            <a:pPr marL="343080" indent="-343080">
              <a:buClr>
                <a:srgbClr val="333399"/>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1.</a:t>
            </a:r>
            <a:r>
              <a:rPr b="1" lang="es-ES" sz="1400" spc="-1" strike="noStrike">
                <a:solidFill>
                  <a:srgbClr val="333399"/>
                </a:solidFill>
                <a:latin typeface="Arial"/>
              </a:rPr>
              <a:t>	</a:t>
            </a:r>
            <a:r>
              <a:rPr b="1" lang="es-ES" sz="1400" spc="-1" strike="noStrike">
                <a:solidFill>
                  <a:srgbClr val="333399"/>
                </a:solidFill>
                <a:latin typeface="Arial"/>
              </a:rPr>
              <a:t>Los antecedentes generales, indicand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	</a:t>
            </a:r>
            <a:r>
              <a:rPr b="1" lang="es-ES" sz="1400" spc="-1" strike="noStrike">
                <a:solidFill>
                  <a:srgbClr val="333399"/>
                </a:solidFill>
                <a:latin typeface="Arial"/>
              </a:rPr>
              <a:t>su nombre; la identificación del titular y su sociedad matriz, si la hubier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      </a:t>
            </a:r>
            <a:r>
              <a:rPr b="1" lang="es-ES" sz="1400" spc="-1" strike="noStrike">
                <a:solidFill>
                  <a:srgbClr val="333399"/>
                </a:solidFill>
                <a:latin typeface="Arial"/>
              </a:rPr>
              <a:t>su objetivo;  su localización según división político-administrativa a nivel regional, provincial y comunal,  su localización representada cartográficamente, especificando la siguiente información cartográfica: escala, norte, simbología, grilla de referencia indicando coordenadas, fuente de información y datos geodésicos, cuando corresponda.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	</a:t>
            </a:r>
            <a:r>
              <a:rPr b="1" lang="es-ES" sz="1400" spc="-1" strike="noStrike">
                <a:solidFill>
                  <a:srgbClr val="333399"/>
                </a:solidFill>
                <a:latin typeface="Arial"/>
              </a:rPr>
              <a:t>Se entenderá por datos geodésicos el tipo y parámetros de la proyección, el elipsoide y el DATUM; la definición de las partes, acciones y obras físicas que lo componen; la superficie que comprenderá; el monto estimado de la inversión y la mano de obra asociada, si corresponde; la vida útil y la descripción cronológica de sus distintas fases; la justificación  de su  localización, y la fecha estimada de inicio de la ejecución o modificación del proyecto o activida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84360" y="836640"/>
            <a:ext cx="80136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2.</a:t>
            </a:r>
            <a:r>
              <a:rPr b="0" lang="es-ES" sz="2000" spc="-1" strike="noStrike">
                <a:solidFill>
                  <a:srgbClr val="333399"/>
                </a:solidFill>
                <a:latin typeface="Arial"/>
              </a:rPr>
              <a:t>	</a:t>
            </a:r>
            <a:r>
              <a:rPr b="0" lang="es-ES" sz="2000" spc="-1" strike="noStrike">
                <a:solidFill>
                  <a:srgbClr val="333399"/>
                </a:solidFill>
                <a:latin typeface="Arial"/>
              </a:rPr>
              <a:t>La descripción de la </a:t>
            </a:r>
            <a:r>
              <a:rPr b="0" lang="es-ES" sz="2000" spc="-1" strike="noStrike">
                <a:solidFill>
                  <a:srgbClr val="ff3300"/>
                </a:solidFill>
                <a:latin typeface="Arial"/>
              </a:rPr>
              <a:t>fase</a:t>
            </a:r>
            <a:r>
              <a:rPr b="0" lang="es-CL" sz="2000" spc="-1" strike="noStrike">
                <a:solidFill>
                  <a:srgbClr val="ff3300"/>
                </a:solidFill>
                <a:latin typeface="Arial"/>
              </a:rPr>
              <a:t> </a:t>
            </a:r>
            <a:r>
              <a:rPr b="0" lang="es-ES" sz="2000" spc="-1" strike="noStrike">
                <a:solidFill>
                  <a:srgbClr val="ff3300"/>
                </a:solidFill>
                <a:latin typeface="Arial"/>
              </a:rPr>
              <a:t>de construcción</a:t>
            </a:r>
            <a:r>
              <a:rPr b="0" lang="es-ES" sz="2000" spc="-1" strike="noStrike">
                <a:solidFill>
                  <a:srgbClr val="333399"/>
                </a:solidFill>
                <a:latin typeface="Arial"/>
              </a:rPr>
              <a:t>, si la hubiere, indicando las acciones y requerimientos necesarios para la materialización de las obras físicas del proyecto o activid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3. </a:t>
            </a:r>
            <a:r>
              <a:rPr b="0" lang="es-ES" sz="2000" spc="-1" strike="noStrike">
                <a:solidFill>
                  <a:srgbClr val="333399"/>
                </a:solidFill>
                <a:latin typeface="Arial"/>
              </a:rPr>
              <a:t>	</a:t>
            </a:r>
            <a:r>
              <a:rPr b="0" lang="es-ES" sz="2000" spc="-1" strike="noStrike">
                <a:solidFill>
                  <a:srgbClr val="333399"/>
                </a:solidFill>
                <a:latin typeface="Arial"/>
              </a:rPr>
              <a:t>La descripción de la </a:t>
            </a:r>
            <a:r>
              <a:rPr b="0" lang="es-ES" sz="2000" spc="-1" strike="noStrike">
                <a:solidFill>
                  <a:srgbClr val="ff3300"/>
                </a:solidFill>
                <a:latin typeface="Arial"/>
              </a:rPr>
              <a:t>fase de operación</a:t>
            </a:r>
            <a:r>
              <a:rPr b="0" lang="es-ES" sz="2000" spc="-1" strike="noStrike">
                <a:solidFill>
                  <a:srgbClr val="333399"/>
                </a:solidFill>
                <a:latin typeface="Arial"/>
              </a:rPr>
              <a:t>, si la hubiere, detallando las acciones, obras y requerimientos, los procesos unitarios y globales, y el manejo de materias primas, productos terminados e intermedios necesarios para el funcionamiento del proyecto o actividad, considerando sus  medidas de mantención y conservación, según correspond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4.</a:t>
            </a:r>
            <a:r>
              <a:rPr b="0" lang="es-ES" sz="2000" spc="-1" strike="noStrike">
                <a:solidFill>
                  <a:srgbClr val="333399"/>
                </a:solidFill>
                <a:latin typeface="Arial"/>
              </a:rPr>
              <a:t>	</a:t>
            </a:r>
            <a:r>
              <a:rPr b="0" lang="es-ES" sz="2000" spc="-1" strike="noStrike">
                <a:solidFill>
                  <a:srgbClr val="333399"/>
                </a:solidFill>
                <a:latin typeface="Arial"/>
              </a:rPr>
              <a:t>La descripción de la </a:t>
            </a:r>
            <a:r>
              <a:rPr b="0" lang="es-ES" sz="2000" spc="-1" strike="noStrike">
                <a:solidFill>
                  <a:srgbClr val="ff3300"/>
                </a:solidFill>
                <a:latin typeface="Arial"/>
              </a:rPr>
              <a:t>fase de cierre y/o abandono</a:t>
            </a:r>
            <a:r>
              <a:rPr b="0" lang="es-ES" sz="2000" spc="-1" strike="noStrike">
                <a:solidFill>
                  <a:srgbClr val="333399"/>
                </a:solidFill>
                <a:latin typeface="Arial"/>
              </a:rPr>
              <a:t>, si la hubiere, detallando las acciones, obras y medidas que implementará el titular del proyecto o activida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95280" y="260280"/>
            <a:ext cx="8012160" cy="634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2 : Línea de Base  (</a:t>
            </a:r>
            <a:r>
              <a:rPr b="1" i="1" lang="es-ES" sz="2000" spc="-1" strike="noStrike">
                <a:solidFill>
                  <a:srgbClr val="ff0000"/>
                </a:solidFill>
                <a:latin typeface="Arial"/>
              </a:rPr>
              <a:t>CARACTERIZACIÓN DEL ÁREA DE INFLUENCIA)</a:t>
            </a:r>
            <a:r>
              <a:rPr b="0" i="1" lang="es-ES" sz="2000" spc="-1" strike="noStrike">
                <a:solidFill>
                  <a:srgbClr val="ff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Línea de Base (Línea Base o Base Line) corresponde al conjunto de valores de las v.a. en la situación </a:t>
            </a:r>
            <a:r>
              <a:rPr b="0" lang="es-ES_tradnl" sz="1800" spc="-1" strike="noStrike" u="sng">
                <a:solidFill>
                  <a:srgbClr val="333399"/>
                </a:solidFill>
                <a:uFillTx/>
                <a:latin typeface="Arial"/>
              </a:rPr>
              <a:t>sin proyecto</a:t>
            </a:r>
            <a:r>
              <a:rPr b="0" lang="es-ES_tradnl" sz="1800" spc="-1" strike="noStrike">
                <a:solidFill>
                  <a:srgbClr val="333399"/>
                </a:solidFill>
                <a:latin typeface="Arial"/>
              </a:rPr>
              <a:t>. Para esto, debe definirse previamente cuáles serán las v.a. relevantes para el proyec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j. En un proyecto de un embalse, una v.a. es la cantidad y calidad del agua del río aguas abajo del la pr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 puede plantear la siguiente ecuación conceptual, para las variables ambienta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 v.a. sin proyecto }  +  {</a:t>
            </a:r>
            <a:r>
              <a:rPr b="1" lang="es-ES_tradnl" sz="2400" spc="-1" strike="noStrike">
                <a:solidFill>
                  <a:srgbClr val="008000"/>
                </a:solidFill>
                <a:latin typeface="Symbol"/>
                <a:ea typeface="Symbol"/>
              </a:rPr>
              <a:t></a:t>
            </a:r>
            <a:r>
              <a:rPr b="1" lang="es-ES_tradnl" sz="1600" spc="-1" strike="noStrike">
                <a:solidFill>
                  <a:srgbClr val="008000"/>
                </a:solidFill>
                <a:latin typeface="Arial"/>
              </a:rPr>
              <a:t> v.a. por efecto del proyecto}  =  { v.a. con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    </a:t>
            </a:r>
            <a:r>
              <a:rPr b="1" lang="es-ES_tradnl" sz="1600" spc="-1" strike="noStrike">
                <a:solidFill>
                  <a:srgbClr val="008000"/>
                </a:solidFill>
                <a:latin typeface="Arial"/>
              </a:rPr>
              <a:t>o  Línea B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da uno de los términos de esta ecuación corresponde a un conjunto de v.a. para una situación determinada. El primer término corresponde a la Línea Base, en tanto que el término del lado derecho a la situación ambiental con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7T16:42:55Z</dcterms:created>
  <dc:creator>Enrique K</dc:creator>
  <dc:description/>
  <dc:language>en-US</dc:language>
  <cp:lastModifiedBy>Mario</cp:lastModifiedBy>
  <dcterms:modified xsi:type="dcterms:W3CDTF">2008-09-10T15:04:06Z</dcterms:modified>
  <cp:revision>14</cp:revision>
  <dc:subject/>
  <dc:title>Diapositiva 1</dc:title>
</cp:coreProperties>
</file>