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6828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664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Zurich BT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444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6828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AE7B5A0-4893-4E59-AE0B-463CB811FF6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6828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6BC03F3-FD23-475F-AC95-3D467D8C6A2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6828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4560" y="4384800"/>
            <a:ext cx="514044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369360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652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1808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684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1808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684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228240"/>
            <a:ext cx="738504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652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2" marL="1143000" indent="-228600">
              <a:spcBef>
                <a:spcPts val="550"/>
              </a:spcBef>
              <a:buClr>
                <a:srgbClr val="0099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2232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Zurich BT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52280" y="152280"/>
          <a:ext cx="9352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935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58560" y="62449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500" spc="-1" strike="noStrike">
                <a:solidFill>
                  <a:srgbClr val="000099"/>
                </a:solidFill>
                <a:latin typeface="Zurich BT"/>
              </a:rPr>
              <a:t>Costos económicos de los accidentes viales</a:t>
            </a:r>
            <a:endParaRPr b="1" lang="en-US" sz="35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2872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uis Ignacio Rizzi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Departamento de Ingeniería de Transporte y Logística</a:t>
            </a:r>
            <a:endParaRPr b="0" lang="en-US" sz="1800" spc="-1" strike="noStrike">
              <a:solidFill>
                <a:srgbClr val="000000"/>
              </a:solidFill>
              <a:latin typeface="Zurich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Pontificia Universidad Católica de Chile</a:t>
            </a:r>
            <a:endParaRPr b="0" lang="en-US" sz="18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042920" y="5157720"/>
            <a:ext cx="69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Zurich BT"/>
              </a:rPr>
              <a:t>18 de Agosto de 200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Zurich BT"/>
              </a:rPr>
              <a:t>Facultad de Ciencias Físicas y Matemáticas, Universidad de Ch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¿Cómo estimar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un contexto de seguridad vial?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No existe un mercado donde se pueda observar cuánto las personas están dispuestas a pagar por disponer de una carretera más segur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se paga un peaje, no se puede discriminar cuánto corresponde a ahorros de tiempo de viaje,  a mejor seguridad, a servicios de auxilio mecánic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Debe recurrirse a técnicas econométricas con sustento microeconómico a fin de estimar los valores desead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ás técnicas pueden utilizar datos observados (preferencias reveladas) o datos de “laboratorio” (preferencias declaradas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tilizando datos de preferencias reveladas, se puede estimar cuánto más caro es un auto que brinda mayor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precios hedónic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modelos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lección discre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6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no se dispone de datos reales, se los genera de manera artificial. Así, se obtienen datos de preferencias declara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método de preferencias declaradas más directo es la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ación contingente: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regunta a una persona su disposición al pago por cierto bien (por ejemplo, mejor seguridad vial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hace una pregunta del siguiente estilo: “¿cuánto estaría usted dispuesto a pagar por transitar por una ruta en la que mueren tres personas menos al año que lo que ocurre actualmente?”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Este tipo de preguntas sitúa a las personas en contextos poco familiares y esto genera ciertas dudas sobre la bondad del métod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mo alternativa se utilizan encuestas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lecciones declara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generan situaciones hipotéticas de elección en la que las personas encuestadas deben optar por una alternativa entre vari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elen tener mayor aprobación entre economistas y psicólogos pues permiten recrear situaciones que son más familiares para las person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l elegir una alternativa, las personas revelan de manera implícita su disposición al pago por cierto bien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Veamos un ejempl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Usted debe hacer un viaje como el que se le indica a la ciudad de Viña del Mar por un compromiso social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el viaje tiene lugar durante un fin de semana normal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lo hace manejando su aut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lo paga enteramente usted, incluido el peaje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usted tiene que estar en Viña del Mar a más tardar a las 14:00 hrs. del día sábado.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Debe elegir entre dos rutas (</a:t>
            </a:r>
            <a:r>
              <a:rPr b="0" i="1" lang="es-AR" sz="2200" spc="-1" strike="noStrike">
                <a:solidFill>
                  <a:srgbClr val="000000"/>
                </a:solidFill>
                <a:latin typeface="Zurich BT"/>
              </a:rPr>
              <a:t>ambas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del tipo de la actual ruta 68 Santiago - Viña del Mar/Valparaíso), considerando estos tres factores: valor del peaje, tiempo de viaje</a:t>
            </a:r>
            <a:r>
              <a:rPr b="0" i="1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y la cantidad de accidentes fatales al año en que muere al menos una persona que viaja en automóvil. </a:t>
            </a: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(</a:t>
            </a:r>
            <a:r>
              <a:rPr b="0" i="1" lang="es-ES_tradnl" sz="2200" spc="-1" strike="noStrike">
                <a:solidFill>
                  <a:srgbClr val="000000"/>
                </a:solidFill>
                <a:latin typeface="Zurich BT"/>
              </a:rPr>
              <a:t>se indica el número de muertes anuales y el flujo de la ruta 68</a:t>
            </a: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6737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Zurich BT"/>
              </a:rPr>
              <a:t>Ejemplo de situación de elección. Suelen ser ocho o nueve</a:t>
            </a:r>
            <a:endParaRPr b="0" lang="en-US" sz="24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Zurich BT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19280" y="2219400"/>
          <a:ext cx="6589800" cy="40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19400"/>
                    <a:ext cx="65898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186000" cy="2342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52480" y="2514600"/>
            <a:ext cx="3186360" cy="2343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90920" y="289548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505320" y="3352680"/>
            <a:ext cx="3340080" cy="2457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419720" y="380988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76320" y="7632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6320" y="5724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6320" y="7632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76320" y="5724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76320" y="38160"/>
            <a:ext cx="8934480" cy="651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76320" y="58680"/>
            <a:ext cx="893268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según país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Reino Unido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1,4 millones (año 2000)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128.650 por herido grav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 9920 por herido lev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ados Unidos (Departamento de Transporte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US$3 millones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ueci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 €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1,5 millones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hile (valor estimado no oficial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S$300.000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Zurich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Pérdida de producción neta de consumo propio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á dada por la diferencia entre el ingreso que el trabajador percibe y su ingreso bruto. Dependerá de los arreglos institucionales de cada paí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Zurich BT"/>
              </a:rPr>
              <a:t>Se trata de una externalidad de consumo, puesto que la propia persona no percibe este efecto sobre el bienestar de los demás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países donde el impuesto al trabajo es alto, este monto será significativ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congestión no recurrent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6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congestión no recurrente se refiere a aquellas situaciones de congestión que no se presentan con regularidad. Dos típicos casos son los accidentes viales y los trabajos vi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gún el TRL (2005), el 25% de la congestión observada se debe a incidentes en la vía y el 10%, a trabajos viales; sumando un 35% de la congestión total observ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e rubro es ignorado en el cálculo de costos económicos de accidentes, sin embargo su impacto puede ser significativ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ún más, una vez ocurrido el accidente y mientras duran los trabajos de despeje, se tiene el riesgo de accidentes secundari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673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económicos de los accidentes vial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os accidentes viales generan los siguientes costo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pérdida de bienestar de las víctimas de los accidentes y familiares de las víctimas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pérdida de producción neta de consumo propi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tratamiento de lesionados: costos hospitalarios, de rehabilitación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a vehículos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materiales a la propiedad pública y privad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administrativos incurridos por la policía, bomberos, juzgados y compañías de segur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ngestión no recurrente ocasionada por los accidentes de viales. Este costo suele ser ignorad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congestión no recurrent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congestión que causarán los accidentes viales dependerá de los siguientes elemento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Nivel de bloqueo de la vía, que depende del tipo de accidente, la severidad del mismo y el tipo de rut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Volumen vehicular según hora del día y tipo de rut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Tiempo total de despeje, dependiente del tipo de accidente, la severidad del mismo y el tiempo de respuesta de los servicios de auxilio y emergencia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Ferguson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t al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(1999) encontraron que el ocho por ciento de los accidentes fatales y graves, en el Estado de Victoria, Australia, generan importantes pérdidas de tiempos de viaje al año, valoradas en US$ 1.314 millon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Otros costo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restante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tratamiento de lesionados: costos hospitalarios, de rehabilitación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a vehículos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materiales a la propiedad pública y privad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administrativos incurridos por la policía, bomberos, juzgados y compañías de segur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tratamiento conceptual de estos costos es sencillo, aunque su cómputo puede ser una ardua tarea, especialmente si se quiere diferenciar por tipo de accidente y consecuencias sobre los daños a la salud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4540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fatal. Suecia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907920"/>
          <a:ext cx="756288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07920"/>
                    <a:ext cx="75628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258920" y="5950080"/>
            <a:ext cx="6626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€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1.630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Fuente: Lindberg </a:t>
            </a:r>
            <a:r>
              <a:rPr b="0" i="1" lang="es-ES" sz="1800" spc="-1" strike="noStrike">
                <a:solidFill>
                  <a:srgbClr val="000000"/>
                </a:solidFill>
                <a:latin typeface="Zurich BT"/>
              </a:rPr>
              <a:t>et al</a:t>
            </a: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4540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grave. Suecia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20760" y="906480"/>
          <a:ext cx="748188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906480"/>
                    <a:ext cx="74818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258920" y="5950080"/>
            <a:ext cx="6626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€293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Fuente: Lindberg </a:t>
            </a:r>
            <a:r>
              <a:rPr b="0" i="1" lang="es-ES" sz="1800" spc="-1" strike="noStrike">
                <a:solidFill>
                  <a:srgbClr val="000000"/>
                </a:solidFill>
                <a:latin typeface="Zurich BT"/>
              </a:rPr>
              <a:t>et al</a:t>
            </a: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0104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grave. Chil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950080"/>
            <a:ext cx="72007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UF1.1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Elaboración propia a partir de CITRA (1996) y Rizzi &amp; Ortúzar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905040"/>
          <a:ext cx="767376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05040"/>
                    <a:ext cx="76737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nclusion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ocurren accidentes que generan víctimas fatales o graves, el principal componente de costo está dado por la pérdida de bienestar de las víctim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xisten dos maneras de medir este valor: capital humano o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segundo concepto es más apropiado desde un punto de vista de bienestar soc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suele ser varias veces mayor que el valor de capital human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asar a usar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produce un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notable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aumento en la rentabilidad social de proyectos de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nclusion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56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n costo relevante e ignorado a la vez es el incremento en los tiempos de viaje que ocasionan los accident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e costo debe ser medido y considerado explícitament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Desde el punto de vista metodológico, no es una tarea que no pueda ser abord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inclusión de este costo incrementará más los beneficios de una mejor la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cuanto a los otros rubros de costos, estos resultan ser una muy pequeña proporción de los costos totales cuando hay víctimas fatales y/o graves. A medida que disminuye la gravedad de los accidentes su incidencia en el costo total aumen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fin</a:t>
            </a:r>
            <a:endParaRPr b="0" lang="en-US" sz="26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58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 el costo más relevante cuando un accidente vial provoca víctimas fatales y/o grav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ele ser estimado como la pérdida de valor agregado que la sociedad sufre por la incapacidad laboral de una víctima de un accidente de tránsito: valor del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 capital human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lo calcula como el valor actual de los ingresos que deja de percibir una víctima como consecuencia del accident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el caso de las víctimas fatales, es igual al valor actual de los ingresos futuros (incluyendo todos los impuestos al trabajo) que deja de percibir un víctima de edad promedi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puede agregar un monto extra por el dolor, pena y sufrimiento que padecen los familiares, dependientes y amistades de la víctim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jemplo: supongamos una persona cuyo ingreso anual promedio fuese US$12.000 y falleciese a los 35 años. Su valor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capital human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asciende a US$185.000 (tasa de descuento anual 5%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Chile, el valor de una víctima fatal, según este método, es US$50.000 (2004). En el Reino unido, asciende a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415.000 (2002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valor del capital humano responde al criterio de las cuentas nacion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contrapone con la noción de valor que utilizan los economistas basada en la preferencias individu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alternativa es considerar el beneficio que la mejor seguridad vial otorga a los conductores. Ejemplo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na ruta une un par O-D. Su flujo anual es de cinco millones de vehículos y fallecen 15 persona en accidentes vi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pongamos que cada vez que transita esta ruta, un conductor está dispuesto a pagar US$2 por reducir el número de fatalidades en cinc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mando sobre todos los conductores, se tienen US$10 millones; es decir, US$2 millones por muerte evit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la literatura, este monto se llama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 vida estadística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o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 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disposición al pago refleja cuánto se valora un mayor nivel de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a valoración está influida no sólo por el ingreso del conductor, sino también por sus percepciones del riesgo de sufrir un accidente y por la pérdida de bienestar que el accidente pueda acarrear a ellos y a sus dependientes y personas queri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o es similar a lo que sucede con la compra de un bien o servicio que brinda mayor seguridad contra la ocurrencia de cualquier tipo de siniestr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uesto que el riesgo de accidente afecta a todos los conductores, se debe sumar la disposición al pago de todos los usuarios de la ru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términos económicos, el riesgo de sufrir un accidente es un bien público: no hay rivalidad en el consum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ntes de la ocurrencia de un siniestro vial, cualquier conductor podría ser la víctim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or otro lado, cuando una mejora vial logra evitar una muerte, nunca sabremos el nombre de la persona cuya deceso se evitó  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800100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uesto que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depende de la percepción del riesgo, este valor no será el mismo para todos los riesg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percepción del riesgo depende de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es aceptado de manera voluntari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se halla bajo control del individu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es inmediato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xiste un beneficio asociado a la acción de riesg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No será lo mismo la disposición al pago por reducir un riesgo de muerte en accidentes viales que en accidentes ferroviarios o aéreos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87280" y="1066680"/>
          <a:ext cx="7632720" cy="4395960"/>
        </p:xfrm>
        <a:graphic>
          <a:graphicData uri="http://schemas.openxmlformats.org/drawingml/2006/table">
            <a:tbl>
              <a:tblPr/>
              <a:tblGrid>
                <a:gridCol w="2313000"/>
                <a:gridCol w="1563840"/>
                <a:gridCol w="1687680"/>
                <a:gridCol w="2068200"/>
              </a:tblGrid>
              <a:tr h="81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Riesg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aracterística del contex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Accidente de tráns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Accide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labo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ontaminación atmosfér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Volunt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Inmedia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Benefic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20:22:39Z</dcterms:created>
  <dc:creator>lirizzi</dc:creator>
  <dc:description/>
  <dc:language>en-US</dc:language>
  <cp:lastModifiedBy>Marcela Munizaga</cp:lastModifiedBy>
  <dcterms:modified xsi:type="dcterms:W3CDTF">2008-08-18T18:22:55Z</dcterms:modified>
  <cp:revision>296</cp:revision>
  <dc:subject/>
  <dc:title>Road Safety Valuation under a Stated Choice Framework </dc:title>
</cp:coreProperties>
</file>