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008813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092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40200" cy="461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968280" y="-360"/>
            <a:ext cx="3040200" cy="461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9664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Zurich BT"/>
              </a:rPr>
              <a:t>Click to move the slide</a:t>
            </a:r>
            <a:endParaRPr b="1" lang="en-US" sz="24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1280" y="4384440"/>
            <a:ext cx="5607000" cy="415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-360" y="8770680"/>
            <a:ext cx="3040200" cy="461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968280" y="8770680"/>
            <a:ext cx="3040200" cy="461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6562651E-EC60-4C60-9030-BFCBEB4191C5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968280" y="8770680"/>
            <a:ext cx="3040200" cy="461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604410ED-5585-41BE-9A59-B2B376A75324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-360" y="8770680"/>
            <a:ext cx="3040200" cy="461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-360" y="-360"/>
            <a:ext cx="3040200" cy="461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968280" y="-360"/>
            <a:ext cx="3040200" cy="461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98440" y="693720"/>
            <a:ext cx="4614840" cy="34606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34560" y="4384800"/>
            <a:ext cx="5140440" cy="41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385040" cy="46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8960" y="1066680"/>
            <a:ext cx="739116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8960" y="3693600"/>
            <a:ext cx="739116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385040" cy="46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8960" y="1066680"/>
            <a:ext cx="360684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6520" y="1066680"/>
            <a:ext cx="360684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8960" y="3693600"/>
            <a:ext cx="360684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6520" y="3693600"/>
            <a:ext cx="360684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385040" cy="46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8960" y="1066680"/>
            <a:ext cx="2379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18080" y="1066680"/>
            <a:ext cx="2379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6840" y="1066680"/>
            <a:ext cx="2379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8960" y="3693600"/>
            <a:ext cx="2379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18080" y="3693600"/>
            <a:ext cx="2379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6840" y="3693600"/>
            <a:ext cx="2379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385040" cy="46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8960" y="1066680"/>
            <a:ext cx="73911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385040" cy="46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8960" y="1066680"/>
            <a:ext cx="739116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385040" cy="46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8960" y="1066680"/>
            <a:ext cx="360684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6520" y="1066680"/>
            <a:ext cx="360684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385040" cy="46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19320" y="228240"/>
            <a:ext cx="7385040" cy="214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385040" cy="46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8960" y="1066680"/>
            <a:ext cx="360684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6520" y="1066680"/>
            <a:ext cx="360684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8960" y="3693600"/>
            <a:ext cx="360684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385040" cy="46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8960" y="1066680"/>
            <a:ext cx="360684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6520" y="1066680"/>
            <a:ext cx="360684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6520" y="3693600"/>
            <a:ext cx="360684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385040" cy="46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8960" y="1066680"/>
            <a:ext cx="360684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6520" y="1066680"/>
            <a:ext cx="360684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8960" y="3693600"/>
            <a:ext cx="739116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18960" y="1066680"/>
            <a:ext cx="739116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Zurich B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Zurich B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2" marL="1143000" indent="-228600">
              <a:spcBef>
                <a:spcPts val="550"/>
              </a:spcBef>
              <a:buClr>
                <a:srgbClr val="009900"/>
              </a:buClr>
              <a:buFont typeface="Marlett" charset="2"/>
              <a:buChar char="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Zurich B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Zurich B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Zurich B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Zurich B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Zurich B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1" name=""/>
          <p:cNvSpPr/>
          <p:nvPr/>
        </p:nvSpPr>
        <p:spPr>
          <a:xfrm>
            <a:off x="914400" y="685800"/>
            <a:ext cx="7696080" cy="0"/>
          </a:xfrm>
          <a:prstGeom prst="line">
            <a:avLst/>
          </a:prstGeom>
          <a:ln w="22320">
            <a:solidFill>
              <a:srgbClr val="790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385040" cy="46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Zurich BT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Zurich BT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152280" y="152280"/>
          <a:ext cx="93528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93528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1258560" y="6244920"/>
            <a:ext cx="47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4.png"/><Relationship Id="rId10" Type="http://schemas.openxmlformats.org/officeDocument/2006/relationships/image" Target="../media/image3.png"/><Relationship Id="rId11" Type="http://schemas.openxmlformats.org/officeDocument/2006/relationships/image" Target="../media/image8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3.xml"/><Relationship Id="rId1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500" spc="-1" strike="noStrike">
                <a:solidFill>
                  <a:srgbClr val="000099"/>
                </a:solidFill>
                <a:latin typeface="Zurich BT"/>
              </a:rPr>
              <a:t>Costos económicos de los accidentes viales</a:t>
            </a:r>
            <a:endParaRPr b="1" lang="en-US" sz="35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528720"/>
            <a:ext cx="6400800" cy="119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Luis Ignacio Rizzi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Zurich BT"/>
              </a:rPr>
              <a:t>Departamento de Ingeniería de Transporte y Logística</a:t>
            </a:r>
            <a:endParaRPr b="0" lang="en-US" sz="1800" spc="-1" strike="noStrike">
              <a:solidFill>
                <a:srgbClr val="000000"/>
              </a:solidFill>
              <a:latin typeface="Zurich BT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Zurich BT"/>
              </a:rPr>
              <a:t>Pontificia Universidad Católica de Chile</a:t>
            </a:r>
            <a:endParaRPr b="0" lang="en-US" sz="1800" spc="-1" strike="noStrike">
              <a:solidFill>
                <a:srgbClr val="000000"/>
              </a:solidFill>
              <a:latin typeface="Zurich BT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1042920" y="5157720"/>
            <a:ext cx="6913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Zurich BT"/>
              </a:rPr>
              <a:t>18 de Agosto de 200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Zurich BT"/>
              </a:rPr>
              <a:t>Facultad de Ciencias Físicas y Matemáticas, Universidad de Chi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6240" y="306000"/>
            <a:ext cx="7889760" cy="38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Costos por pérdida de bienestar de las víctimas</a:t>
            </a:r>
            <a:endParaRPr b="1" lang="en-US" sz="26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2640" y="1052280"/>
            <a:ext cx="7924680" cy="51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¿Cómo estimar el </a:t>
            </a:r>
            <a:r>
              <a:rPr b="0" i="1" lang="es-ES" sz="2200" spc="-1" strike="noStrike">
                <a:solidFill>
                  <a:srgbClr val="000000"/>
                </a:solidFill>
                <a:latin typeface="Zurich BT"/>
              </a:rPr>
              <a:t>valor de las reducciones de riesgo </a:t>
            </a: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en un contexto de seguridad vial?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No existe un mercado donde se pueda observar cuánto las personas están dispuestas a pagar por disponer de una carretera más segura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Cuando se paga un peaje, no se puede discriminar cuánto corresponde a ahorros de tiempo de viaje,  a mejor seguridad, a servicios de auxilio mecánico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Debe recurrirse a técnicas econométricas con sustento microeconómico a fin de estimar los valores deseados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6240" y="306000"/>
            <a:ext cx="7889760" cy="38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Costos por pérdida de bienestar de las víctimas</a:t>
            </a:r>
            <a:endParaRPr b="1" lang="en-US" sz="26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2640" y="1052280"/>
            <a:ext cx="7924680" cy="51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Estás técnicas pueden utilizar datos observados (preferencias reveladas) o datos de “laboratorio” (preferencias declaradas)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Utilizando datos de preferencias reveladas, se puede estimar cuánto más caro es un auto que brinda mayor seguridad vial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Zurich BT"/>
              </a:rPr>
              <a:t>precios hedónicos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modelos de </a:t>
            </a:r>
            <a:r>
              <a:rPr b="0" i="1" lang="es-ES" sz="2200" spc="-1" strike="noStrike">
                <a:solidFill>
                  <a:srgbClr val="000000"/>
                </a:solidFill>
                <a:latin typeface="Zurich BT"/>
              </a:rPr>
              <a:t>elección discreta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6240" y="306000"/>
            <a:ext cx="7889760" cy="38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Costos por pérdida de bienestar de las víctimas</a:t>
            </a:r>
            <a:endParaRPr b="1" lang="en-US" sz="26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052280"/>
            <a:ext cx="7924680" cy="561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Cuando no se dispone de datos reales, se los genera de manera artificial. Así, se obtienen datos de preferencias declaradas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El método de preferencias declaradas más directo es la </a:t>
            </a:r>
            <a:r>
              <a:rPr b="0" i="1" lang="es-ES" sz="2200" spc="-1" strike="noStrike">
                <a:solidFill>
                  <a:srgbClr val="000000"/>
                </a:solidFill>
                <a:latin typeface="Zurich BT"/>
              </a:rPr>
              <a:t>valoración contingente: </a:t>
            </a: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pregunta a una persona su disposición al pago por cierto bien (por ejemplo, mejor seguridad vial)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Se hace una pregunta del siguiente estilo: “¿cuánto estaría usted dispuesto a pagar por transitar por una ruta en la que mueren tres personas menos al año que lo que ocurre actualmente?”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Zurich BT"/>
              </a:rPr>
              <a:t>Este tipo de preguntas sitúa a las personas en contextos poco familiares y esto genera ciertas dudas sobre la bondad del método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6240" y="306000"/>
            <a:ext cx="7889760" cy="38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Costos por pérdida de bienestar de las víctimas</a:t>
            </a:r>
            <a:endParaRPr b="1" lang="en-US" sz="26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2640" y="1052280"/>
            <a:ext cx="7924680" cy="51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Como alternativa se utilizan encuestas de </a:t>
            </a:r>
            <a:r>
              <a:rPr b="0" i="1" lang="es-ES" sz="2200" spc="-1" strike="noStrike">
                <a:solidFill>
                  <a:srgbClr val="000000"/>
                </a:solidFill>
                <a:latin typeface="Zurich BT"/>
              </a:rPr>
              <a:t>elecciones declaradas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Se generan situaciones hipotéticas de elección en la que las personas encuestadas deben optar por una alternativa entre varias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Suelen tener mayor aprobación entre economistas y psicólogos pues permiten recrear situaciones que son más familiares para las personas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Al elegir una alternativa, las personas revelan de manera implícita su disposición al pago por cierto bien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Veamos un ejemplo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6240" y="306000"/>
            <a:ext cx="7889760" cy="38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Costos por pérdida de bienestar de las víctimas</a:t>
            </a:r>
            <a:endParaRPr b="1" lang="en-US" sz="26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42640" y="1052280"/>
            <a:ext cx="7924680" cy="51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Zurich BT"/>
              </a:rPr>
              <a:t>Usted debe hacer un viaje como el que se le indica a la ciudad de Viña del Mar por un compromiso social: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35480" indent="-282960">
              <a:lnSpc>
                <a:spcPct val="110000"/>
              </a:lnSpc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0" lang="es-AR" sz="2200" spc="-1" strike="noStrike">
                <a:solidFill>
                  <a:srgbClr val="000000"/>
                </a:solidFill>
                <a:latin typeface="Zurich BT"/>
              </a:rPr>
              <a:t>el viaje tiene lugar durante un fin de semana normal;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35480" indent="-282960">
              <a:lnSpc>
                <a:spcPct val="110000"/>
              </a:lnSpc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0" lang="es-AR" sz="2200" spc="-1" strike="noStrike">
                <a:solidFill>
                  <a:srgbClr val="000000"/>
                </a:solidFill>
                <a:latin typeface="Zurich BT"/>
              </a:rPr>
              <a:t>lo hace manejando su auto;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35480" indent="-282960">
              <a:lnSpc>
                <a:spcPct val="110000"/>
              </a:lnSpc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0" lang="es-AR" sz="2200" spc="-1" strike="noStrike">
                <a:solidFill>
                  <a:srgbClr val="000000"/>
                </a:solidFill>
                <a:latin typeface="Zurich BT"/>
              </a:rPr>
              <a:t>lo paga enteramente usted, incluido el peaje;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35480" indent="-282960">
              <a:lnSpc>
                <a:spcPct val="110000"/>
              </a:lnSpc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0" lang="es-AR" sz="2200" spc="-1" strike="noStrike">
                <a:solidFill>
                  <a:srgbClr val="000000"/>
                </a:solidFill>
                <a:latin typeface="Zurich BT"/>
              </a:rPr>
              <a:t>usted tiene que estar en Viña del Mar a más tardar a las 14:00 hrs. del día sábado.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Zurich BT"/>
              </a:rPr>
              <a:t>Debe elegir entre dos rutas (</a:t>
            </a:r>
            <a:r>
              <a:rPr b="0" i="1" lang="es-AR" sz="2200" spc="-1" strike="noStrike">
                <a:solidFill>
                  <a:srgbClr val="000000"/>
                </a:solidFill>
                <a:latin typeface="Zurich BT"/>
              </a:rPr>
              <a:t>ambas</a:t>
            </a:r>
            <a:r>
              <a:rPr b="0" lang="es-AR" sz="2200" spc="-1" strike="noStrike">
                <a:solidFill>
                  <a:srgbClr val="000000"/>
                </a:solidFill>
                <a:latin typeface="Zurich BT"/>
              </a:rPr>
              <a:t> del tipo de la actual ruta 68 Santiago - Viña del Mar/Valparaíso), considerando estos tres factores: valor del peaje, tiempo de viaje</a:t>
            </a:r>
            <a:r>
              <a:rPr b="0" i="1" lang="es-AR" sz="22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0" lang="es-AR" sz="2200" spc="-1" strike="noStrike">
                <a:solidFill>
                  <a:srgbClr val="000000"/>
                </a:solidFill>
                <a:latin typeface="Zurich BT"/>
              </a:rPr>
              <a:t>y la cantidad de accidentes fatales al año en que muere al menos una persona que viaja en automóvil. </a:t>
            </a:r>
            <a:r>
              <a:rPr b="0" lang="es-ES_tradnl" sz="2200" spc="-1" strike="noStrike">
                <a:solidFill>
                  <a:srgbClr val="000000"/>
                </a:solidFill>
                <a:latin typeface="Zurich BT"/>
              </a:rPr>
              <a:t>(</a:t>
            </a:r>
            <a:r>
              <a:rPr b="0" i="1" lang="es-ES_tradnl" sz="2200" spc="-1" strike="noStrike">
                <a:solidFill>
                  <a:srgbClr val="000000"/>
                </a:solidFill>
                <a:latin typeface="Zurich BT"/>
              </a:rPr>
              <a:t>se indica el número de muertes anuales y el flujo de la ruta 68</a:t>
            </a:r>
            <a:r>
              <a:rPr b="0" lang="es-ES_tradnl" sz="2200" spc="-1" strike="noStrike">
                <a:solidFill>
                  <a:srgbClr val="000000"/>
                </a:solidFill>
                <a:latin typeface="Zurich BT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1219320" y="1066680"/>
            <a:ext cx="767376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Zurich BT"/>
              </a:rPr>
              <a:t>Ejemplo de situación de elección. Suelen ser ocho o nueve</a:t>
            </a:r>
            <a:endParaRPr b="0" lang="en-US" sz="2400" spc="-1" strike="noStrike">
              <a:solidFill>
                <a:srgbClr val="000000"/>
              </a:solidFill>
              <a:latin typeface="Zurich B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Zurich BT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619280" y="2219400"/>
          <a:ext cx="6589800" cy="408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219400"/>
                    <a:ext cx="6589800" cy="40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1146240" y="306000"/>
            <a:ext cx="7889760" cy="38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Costos por pérdida de bienestar de las víctimas</a:t>
            </a:r>
            <a:endParaRPr b="1" lang="en-US" sz="2600" spc="-1" strike="noStrike">
              <a:solidFill>
                <a:srgbClr val="000099"/>
              </a:solidFill>
              <a:latin typeface="Zurich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46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Zurich BT"/>
              </a:rPr>
              <a:t>Costos por pérdida de bienestar de las víctimas</a:t>
            </a:r>
            <a:endParaRPr b="1" lang="en-US" sz="2400" spc="-1" strike="noStrike">
              <a:solidFill>
                <a:srgbClr val="000099"/>
              </a:solidFill>
              <a:latin typeface="Zurich BT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3186000" cy="2343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990720" y="2133720"/>
            <a:ext cx="3186000" cy="23428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752480" y="2514600"/>
            <a:ext cx="3186360" cy="2343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2590920" y="2895480"/>
            <a:ext cx="3186000" cy="23432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3505320" y="3352680"/>
            <a:ext cx="3340080" cy="2457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4419720" y="3809880"/>
            <a:ext cx="3186000" cy="23432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76320" y="76320"/>
            <a:ext cx="8934480" cy="65721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8"/>
          <a:stretch/>
        </p:blipFill>
        <p:spPr>
          <a:xfrm>
            <a:off x="76320" y="57240"/>
            <a:ext cx="8934480" cy="65721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9"/>
          <a:stretch/>
        </p:blipFill>
        <p:spPr>
          <a:xfrm>
            <a:off x="76320" y="76320"/>
            <a:ext cx="8934480" cy="6572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0"/>
          <a:stretch/>
        </p:blipFill>
        <p:spPr>
          <a:xfrm>
            <a:off x="76320" y="57240"/>
            <a:ext cx="8934480" cy="65721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1"/>
          <a:stretch/>
        </p:blipFill>
        <p:spPr>
          <a:xfrm>
            <a:off x="76320" y="38160"/>
            <a:ext cx="8934480" cy="6514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2"/>
          <a:stretch/>
        </p:blipFill>
        <p:spPr>
          <a:xfrm>
            <a:off x="76320" y="58680"/>
            <a:ext cx="8932680" cy="65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48" dur="1" fill="hold"/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6240" y="306000"/>
            <a:ext cx="7889760" cy="38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Costos por pérdida de bienestar de las víctimas</a:t>
            </a:r>
            <a:endParaRPr b="1" lang="en-US" sz="26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2640" y="1052280"/>
            <a:ext cx="7924680" cy="51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Zurich BT"/>
              </a:rPr>
              <a:t>Valor de las reducciones de riesgo</a:t>
            </a: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 según países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Reino Unido: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Zurich BT"/>
              </a:rPr>
              <a:t>£1,4 millones (año 2000) por víctima fatal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Zurich BT"/>
              </a:rPr>
              <a:t>£128.650 por herido grave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Zurich BT"/>
              </a:rPr>
              <a:t>£ 9920 por herido leve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Estados Unidos (Departamento de Transporte)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Zurich BT"/>
              </a:rPr>
              <a:t>US$3 millones por víctima fatal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Zurich BT"/>
              </a:rPr>
              <a:t>Suecia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Zurich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Zurich BT"/>
              </a:rPr>
              <a:t> €</a:t>
            </a:r>
            <a:r>
              <a:rPr b="0" lang="en-US" sz="2200" spc="-1" strike="noStrike">
                <a:solidFill>
                  <a:srgbClr val="000000"/>
                </a:solidFill>
                <a:latin typeface="Zurich BT"/>
              </a:rPr>
              <a:t>1,5 millones por víctima fatal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Chile (valor estimado no oficial)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US$300.000 por víctima fatal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Zurich B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Zurich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6240" y="306000"/>
            <a:ext cx="7889760" cy="38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Pérdida de producción neta de consumo propio</a:t>
            </a:r>
            <a:endParaRPr b="1" lang="en-US" sz="26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2640" y="1052280"/>
            <a:ext cx="7924680" cy="51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Está dada por la diferencia entre el ingreso que el trabajador percibe y su ingreso bruto. Dependerá de los arreglos institucionales de cada país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Zurich BT"/>
              </a:rPr>
              <a:t>Se trata de una externalidad de consumo, puesto que la propia persona no percibe este efecto sobre el bienestar de los demás 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En países donde el impuesto al trabajo es alto, este monto será significativo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6240" y="306000"/>
            <a:ext cx="7889760" cy="38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Costos por congestión no recurrente</a:t>
            </a:r>
            <a:endParaRPr b="1" lang="en-US" sz="26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2640" y="1052280"/>
            <a:ext cx="7924680" cy="561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La congestión no recurrente se refiere a aquellas situaciones de congestión que no se presentan con regularidad. Dos típicos casos son los accidentes viales y los trabajos viales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Según el TRL (2005), el 25% de la congestión observada se debe a incidentes en la vía y el 10%, a trabajos viales; sumando un 35% de la congestión total observada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Este rubro es ignorado en el cálculo de costos económicos de accidentes, sin embargo su impacto puede ser significativo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Aún más, una vez ocurrido el accidente y mientras duran los trabajos de despeje, se tiene el riesgo de accidentes secundarios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6240" y="306000"/>
            <a:ext cx="7673760" cy="38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Costos económicos de los accidentes viales</a:t>
            </a:r>
            <a:endParaRPr b="1" lang="en-US" sz="26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052640"/>
            <a:ext cx="7924680" cy="496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Los accidentes viales generan los siguientes costos: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698400" indent="-26856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Costos por pérdida de bienestar de las víctimas de los accidentes y familiares de las víctimas;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698400" indent="-26856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Costos por pérdida de producción neta de consumo propio;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698400" indent="-26856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Costos por tratamiento de lesionados: costos hospitalarios, de rehabilitación; 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698400" indent="-26856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Costos de daños a vehículos; 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698400" indent="-26856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Costos de daños materiales a la propiedad pública y privada;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698400" indent="-26856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Costos administrativos incurridos por la policía, bomberos, juzgados y compañías de seguro;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698400" indent="-26856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Congestión no recurrente ocasionada por los accidentes de viales. Este costo suele ser ignorado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6240" y="306000"/>
            <a:ext cx="7889760" cy="38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Costos por congestión no recurrente</a:t>
            </a:r>
            <a:endParaRPr b="1" lang="en-US" sz="26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052280"/>
            <a:ext cx="7924680" cy="51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La congestión que causarán los accidentes viales dependerá de los siguientes elementos: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62120" indent="-30492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Nivel de bloqueo de la vía, que depende del tipo de accidente, la severidad del mismo y el tipo de ruta;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62120" indent="-30492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Volumen vehicular según hora del día y tipo de ruta;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62120" indent="-30492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Tiempo total de despeje, dependiente del tipo de accidente, la severidad del mismo y el tiempo de respuesta de los servicios de auxilio y emergencia; 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Ferguson </a:t>
            </a:r>
            <a:r>
              <a:rPr b="0" i="1" lang="es-ES" sz="2200" spc="-1" strike="noStrike">
                <a:solidFill>
                  <a:srgbClr val="000000"/>
                </a:solidFill>
                <a:latin typeface="Zurich BT"/>
              </a:rPr>
              <a:t>et al </a:t>
            </a: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(1999) encontraron que el ocho por ciento de los accidentes fatales y graves, en el Estado de Victoria, Australia, generan importantes pérdidas de tiempos de viaje al año, valoradas en US$ 1.314 millones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6240" y="306000"/>
            <a:ext cx="7889760" cy="38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Otros costos</a:t>
            </a:r>
            <a:endParaRPr b="1" lang="en-US" sz="26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2640" y="1052280"/>
            <a:ext cx="7924680" cy="51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Costos restantes: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62120" indent="-30492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Costos por tratamiento de lesionados: costos hospitalarios, de rehabilitación; 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62120" indent="-30492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Costos de daños a vehículos; 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62120" indent="-30492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Costos de daños materiales a la propiedad pública y privada;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62120" indent="-30492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Costos administrativos incurridos por la policía, bomberos, juzgados y compañías de seguro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El tratamiento conceptual de estos costos es sencillo, aunque su cómputo puede ser una ardua tarea, especialmente si se quiere diferenciar por tipo de accidente y consecuencias sobre los daños a la salud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745400" cy="38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Costo económico total de víctima fatal. Suecia</a:t>
            </a:r>
            <a:endParaRPr b="1" lang="en-US" sz="2600" spc="-1" strike="noStrike">
              <a:solidFill>
                <a:srgbClr val="000099"/>
              </a:solidFill>
              <a:latin typeface="Zurich BT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219320" y="907920"/>
          <a:ext cx="7562880" cy="4940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907920"/>
                    <a:ext cx="7562880" cy="49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1258920" y="5950080"/>
            <a:ext cx="662616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Costo total: </a:t>
            </a:r>
            <a:r>
              <a:rPr b="0" lang="en-US" sz="2200" spc="-1" strike="noStrike">
                <a:solidFill>
                  <a:srgbClr val="000000"/>
                </a:solidFill>
                <a:latin typeface="Zurich BT"/>
              </a:rPr>
              <a:t>€</a:t>
            </a: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1.630.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Zurich BT"/>
              </a:rPr>
              <a:t>Fuente: Lindberg </a:t>
            </a:r>
            <a:r>
              <a:rPr b="0" i="1" lang="es-ES" sz="1800" spc="-1" strike="noStrike">
                <a:solidFill>
                  <a:srgbClr val="000000"/>
                </a:solidFill>
                <a:latin typeface="Zurich BT"/>
              </a:rPr>
              <a:t>et al</a:t>
            </a:r>
            <a:r>
              <a:rPr b="0" lang="es-ES" sz="1800" spc="-1" strike="noStrike">
                <a:solidFill>
                  <a:srgbClr val="000000"/>
                </a:solidFill>
                <a:latin typeface="Zurich BT"/>
              </a:rPr>
              <a:t> (199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745400" cy="38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Costo económico total de víctima grave. Suecia</a:t>
            </a:r>
            <a:endParaRPr b="1" lang="en-US" sz="2600" spc="-1" strike="noStrike">
              <a:solidFill>
                <a:srgbClr val="000099"/>
              </a:solidFill>
              <a:latin typeface="Zurich BT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220760" y="906480"/>
          <a:ext cx="7481880" cy="4940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906480"/>
                    <a:ext cx="7481880" cy="49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1258920" y="5950080"/>
            <a:ext cx="662616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Costo total: </a:t>
            </a:r>
            <a:r>
              <a:rPr b="0" lang="en-US" sz="2200" spc="-1" strike="noStrike">
                <a:solidFill>
                  <a:srgbClr val="000000"/>
                </a:solidFill>
                <a:latin typeface="Zurich BT"/>
              </a:rPr>
              <a:t>€293</a:t>
            </a: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.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Zurich BT"/>
              </a:rPr>
              <a:t>Fuente: Lindberg </a:t>
            </a:r>
            <a:r>
              <a:rPr b="0" i="1" lang="es-ES" sz="1800" spc="-1" strike="noStrike">
                <a:solidFill>
                  <a:srgbClr val="000000"/>
                </a:solidFill>
                <a:latin typeface="Zurich BT"/>
              </a:rPr>
              <a:t>et al</a:t>
            </a:r>
            <a:r>
              <a:rPr b="0" lang="es-ES" sz="1800" spc="-1" strike="noStrike">
                <a:solidFill>
                  <a:srgbClr val="000000"/>
                </a:solidFill>
                <a:latin typeface="Zurich BT"/>
              </a:rPr>
              <a:t> (199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01040" cy="38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Costo económico total de víctima grave. Chile</a:t>
            </a:r>
            <a:endParaRPr b="1" lang="en-US" sz="26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114" name=""/>
          <p:cNvSpPr/>
          <p:nvPr/>
        </p:nvSpPr>
        <p:spPr>
          <a:xfrm>
            <a:off x="1258920" y="5950080"/>
            <a:ext cx="720072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Costo total: UF1.11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Zurich BT"/>
              </a:rPr>
              <a:t>Elaboración propia a partir de CITRA (1996) y Rizzi &amp; Ortúzar (200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219320" y="905040"/>
          <a:ext cx="7673760" cy="503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905040"/>
                    <a:ext cx="7673760" cy="50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6240" y="306000"/>
            <a:ext cx="7889760" cy="38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Conclusiones</a:t>
            </a:r>
            <a:endParaRPr b="1" lang="en-US" sz="26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052280"/>
            <a:ext cx="7924680" cy="51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Cuando ocurren accidentes que generan víctimas fatales o graves, el principal componente de costo está dado por la pérdida de bienestar de las víctimas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Existen dos maneras de medir este valor: capital humano o </a:t>
            </a:r>
            <a:r>
              <a:rPr b="0" i="1" lang="es-ES" sz="2200" spc="-1" strike="noStrike">
                <a:solidFill>
                  <a:srgbClr val="000000"/>
                </a:solidFill>
                <a:latin typeface="Zurich BT"/>
              </a:rPr>
              <a:t>valor de las reducciones de riesgo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El segundo concepto es más apropiado desde un punto de vista de bienestar social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El </a:t>
            </a:r>
            <a:r>
              <a:rPr b="0" i="1" lang="es-ES" sz="2200" spc="-1" strike="noStrike">
                <a:solidFill>
                  <a:srgbClr val="000000"/>
                </a:solidFill>
                <a:latin typeface="Zurich BT"/>
              </a:rPr>
              <a:t>valor de las reducciones de riesgo</a:t>
            </a: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 suele ser varias veces mayor que el valor de capital humano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Pasar a usar el </a:t>
            </a:r>
            <a:r>
              <a:rPr b="0" i="1" lang="es-ES" sz="2200" spc="-1" strike="noStrike">
                <a:solidFill>
                  <a:srgbClr val="000000"/>
                </a:solidFill>
                <a:latin typeface="Zurich BT"/>
              </a:rPr>
              <a:t>valor de las reducciones de riesgo</a:t>
            </a: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 produce un </a:t>
            </a:r>
            <a:r>
              <a:rPr b="0" i="1" lang="es-ES" sz="2200" spc="-1" strike="noStrike">
                <a:solidFill>
                  <a:srgbClr val="000000"/>
                </a:solidFill>
                <a:latin typeface="Zurich BT"/>
              </a:rPr>
              <a:t>notable</a:t>
            </a: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 aumento en la rentabilidad social de proyectos de seguridad vial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6240" y="306000"/>
            <a:ext cx="7889760" cy="38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Conclusiones</a:t>
            </a:r>
            <a:endParaRPr b="1" lang="en-US" sz="26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2640" y="1052640"/>
            <a:ext cx="7924680" cy="568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Un costo relevante e ignorado a la vez es el incremento en los tiempos de viaje que ocasionan los accidentes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Este costo debe ser medido y considerado explícitamente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Desde el punto de vista metodológico, no es una tarea que no pueda ser abordada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La inclusión de este costo incrementará más los beneficios de una mejor la seguridad vial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En cuanto a los otros rubros de costos, estos resultan ser una muy pequeña proporción de los costos totales cuando hay víctimas fatales y/o graves. A medida que disminuye la gravedad de los accidentes su incidencia en el costo total aumenta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200" spc="-1" strike="noStrike">
                <a:solidFill>
                  <a:srgbClr val="000099"/>
                </a:solidFill>
                <a:latin typeface="Zurich BT"/>
              </a:rPr>
              <a:t>	</a:t>
            </a:r>
            <a:r>
              <a:rPr b="1" lang="es-ES" sz="2200" spc="-1" strike="noStrike">
                <a:solidFill>
                  <a:srgbClr val="000099"/>
                </a:solidFill>
                <a:latin typeface="Zurich BT"/>
              </a:rPr>
              <a:t>	</a:t>
            </a:r>
            <a:r>
              <a:rPr b="1" lang="es-ES" sz="2200" spc="-1" strike="noStrike">
                <a:solidFill>
                  <a:srgbClr val="000099"/>
                </a:solidFill>
                <a:latin typeface="Zurich BT"/>
              </a:rPr>
              <a:t>	</a:t>
            </a:r>
            <a:r>
              <a:rPr b="1" lang="es-ES" sz="2200" spc="-1" strike="noStrike">
                <a:solidFill>
                  <a:srgbClr val="000099"/>
                </a:solidFill>
                <a:latin typeface="Zurich BT"/>
              </a:rPr>
              <a:t>	</a:t>
            </a:r>
            <a:r>
              <a:rPr b="1" lang="es-ES" sz="2200" spc="-1" strike="noStrike">
                <a:solidFill>
                  <a:srgbClr val="000099"/>
                </a:solidFill>
                <a:latin typeface="Zurich BT"/>
              </a:rPr>
              <a:t>	</a:t>
            </a:r>
            <a:r>
              <a:rPr b="1" lang="es-ES" sz="2200" spc="-1" strike="noStrike">
                <a:solidFill>
                  <a:srgbClr val="000099"/>
                </a:solidFill>
                <a:latin typeface="Zurich BT"/>
              </a:rPr>
              <a:t>	</a:t>
            </a:r>
            <a:r>
              <a:rPr b="1" lang="es-ES" sz="2200" spc="-1" strike="noStrike">
                <a:solidFill>
                  <a:srgbClr val="000099"/>
                </a:solidFill>
                <a:latin typeface="Zurich BT"/>
              </a:rPr>
              <a:t>	</a:t>
            </a: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	</a:t>
            </a: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	</a:t>
            </a: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fin</a:t>
            </a:r>
            <a:endParaRPr b="0" lang="en-US" sz="2600" spc="-1" strike="noStrike">
              <a:solidFill>
                <a:srgbClr val="000000"/>
              </a:solidFill>
              <a:latin typeface="Zurich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6240" y="306000"/>
            <a:ext cx="7889760" cy="38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Costos por pérdida de bienestar de las víctimas</a:t>
            </a:r>
            <a:endParaRPr b="1" lang="en-US" sz="26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2640" y="1052640"/>
            <a:ext cx="7924680" cy="580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Es el costo más relevante cuando un accidente vial provoca víctimas fatales y/o graves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Suele ser estimado como la pérdida de valor agregado que la sociedad sufre por la incapacidad laboral de una víctima de un accidente de tránsito: valor del</a:t>
            </a:r>
            <a:r>
              <a:rPr b="0" i="1" lang="es-ES" sz="2200" spc="-1" strike="noStrike">
                <a:solidFill>
                  <a:srgbClr val="000000"/>
                </a:solidFill>
                <a:latin typeface="Zurich BT"/>
              </a:rPr>
              <a:t> capital humano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Se lo calcula como el valor actual de los ingresos que deja de percibir una víctima como consecuencia del accidente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En el caso de las víctimas fatales, es igual al valor actual de los ingresos futuros (incluyendo todos los impuestos al trabajo) que deja de percibir un víctima de edad promedio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Se puede agregar un monto extra por el dolor, pena y sufrimiento que padecen los familiares, dependientes y amistades de la víctima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6240" y="306000"/>
            <a:ext cx="7889760" cy="38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Costos por pérdida de bienestar de las víctimas</a:t>
            </a:r>
            <a:endParaRPr b="1" lang="en-US" sz="26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42640" y="1052640"/>
            <a:ext cx="7924680" cy="496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Ejemplo: supongamos una persona cuyo ingreso anual promedio fuese US$12.000 y falleciese a los 35 años. Su valor de </a:t>
            </a:r>
            <a:r>
              <a:rPr b="0" i="1" lang="es-ES" sz="2200" spc="-1" strike="noStrike">
                <a:solidFill>
                  <a:srgbClr val="000000"/>
                </a:solidFill>
                <a:latin typeface="Zurich BT"/>
              </a:rPr>
              <a:t>capital humano</a:t>
            </a: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 asciende a US$185.000 (tasa de descuento anual 5%)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En Chile, el valor de una víctima fatal, según este método, es US$50.000 (2004). En el Reino unido, asciende a </a:t>
            </a:r>
            <a:r>
              <a:rPr b="0" lang="en-US" sz="2200" spc="-1" strike="noStrike">
                <a:solidFill>
                  <a:srgbClr val="000000"/>
                </a:solidFill>
                <a:latin typeface="Zurich BT"/>
              </a:rPr>
              <a:t>£415.000 (2002)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El valor del capital humano responde al criterio de las cuentas nacionales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Se contrapone con la noción de valor que utilizan los economistas basada en la preferencias individuales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6240" y="306000"/>
            <a:ext cx="7889760" cy="38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Costos por pérdida de bienestar de las víctimas</a:t>
            </a:r>
            <a:endParaRPr b="1" lang="en-US" sz="26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2640" y="1052280"/>
            <a:ext cx="7924680" cy="554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La alternativa es considerar el beneficio que la mejor seguridad vial otorga a los conductores. Ejemplo: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Una ruta une un par O-D. Su flujo anual es de cinco millones de vehículos y fallecen 15 persona en accidentes viales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Supongamos que cada vez que transita esta ruta, un conductor está dispuesto a pagar US$2 por reducir el número de fatalidades en cinco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Sumando sobre todos los conductores, se tienen US$10 millones; es decir, US$2 millones por muerte evitada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En la literatura, este monto se llama </a:t>
            </a:r>
            <a:r>
              <a:rPr b="0" i="1" lang="es-ES" sz="2200" spc="-1" strike="noStrike">
                <a:solidFill>
                  <a:srgbClr val="000000"/>
                </a:solidFill>
                <a:latin typeface="Zurich BT"/>
              </a:rPr>
              <a:t>valor de la vida estadística </a:t>
            </a: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o</a:t>
            </a:r>
            <a:r>
              <a:rPr b="0" i="1" lang="es-ES" sz="2200" spc="-1" strike="noStrike">
                <a:solidFill>
                  <a:srgbClr val="000000"/>
                </a:solidFill>
                <a:latin typeface="Zurich BT"/>
              </a:rPr>
              <a:t> valor de las reducciones de riesgo</a:t>
            </a: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6240" y="306000"/>
            <a:ext cx="7889760" cy="38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Costos por pérdida de bienestar de las víctimas</a:t>
            </a:r>
            <a:endParaRPr b="1" lang="en-US" sz="26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2640" y="1052280"/>
            <a:ext cx="7924680" cy="51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La disposición al pago refleja cuánto se valora un mayor nivel de seguridad vial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Esta valoración está influida no sólo por el ingreso del conductor, sino también por sus percepciones del riesgo de sufrir un accidente y por la pérdida de bienestar que el accidente pueda acarrear a ellos y a sus dependientes y personas queridas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Esto es similar a lo que sucede con la compra de un bien o servicio que brinda mayor seguridad contra la ocurrencia de cualquier tipo de siniestro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6240" y="306000"/>
            <a:ext cx="7889760" cy="38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Costos por pérdida de bienestar de las víctimas</a:t>
            </a:r>
            <a:endParaRPr b="1" lang="en-US" sz="26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2640" y="1052280"/>
            <a:ext cx="7924680" cy="51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Puesto que el riesgo de accidente afecta a todos los conductores, se debe sumar la disposición al pago de todos los usuarios de la ruta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En términos económicos, el riesgo de sufrir un accidente es un bien público: no hay rivalidad en el consumo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Antes de la ocurrencia de un siniestro vial, cualquier conductor podría ser la víctima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Por otro lado, cuando una mejora vial logra evitar una muerte, nunca sabremos el nombre de la persona cuya deceso se evitó   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6240" y="306000"/>
            <a:ext cx="7889760" cy="38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Costos por pérdida de bienestar de las víctimas</a:t>
            </a:r>
            <a:endParaRPr b="1" lang="en-US" sz="2600" spc="-1" strike="noStrike">
              <a:solidFill>
                <a:srgbClr val="000099"/>
              </a:solidFill>
              <a:latin typeface="Zurich B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42640" y="1052280"/>
            <a:ext cx="8001000" cy="51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Puesto que el </a:t>
            </a:r>
            <a:r>
              <a:rPr b="0" i="1" lang="es-ES" sz="2200" spc="-1" strike="noStrike">
                <a:solidFill>
                  <a:srgbClr val="000000"/>
                </a:solidFill>
                <a:latin typeface="Zurich BT"/>
              </a:rPr>
              <a:t>valor de las reducciones de riesgo</a:t>
            </a: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 depende de la percepción del riesgo, este valor no será el mismo para todos los riesgos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Zurich BT"/>
              </a:rPr>
              <a:t>La percepción del riesgo depende de 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Zurich BT"/>
              </a:rPr>
              <a:t>si el riesgo es aceptado de manera voluntaria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Zurich BT"/>
              </a:rPr>
              <a:t>si el riesgo se halla bajo control del individuo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Zurich BT"/>
              </a:rPr>
              <a:t>si el riesgo es inmediato 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Zurich BT"/>
              </a:rPr>
              <a:t>si existe un beneficio asociado a la acción de riesgo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  <a:p>
            <a:pPr marL="343080" indent="-343080">
              <a:spcBef>
                <a:spcPts val="550"/>
              </a:spcBef>
              <a:buClr>
                <a:srgbClr val="790015"/>
              </a:buClr>
              <a:buSzPct val="7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Zurich BT"/>
              </a:rPr>
              <a:t>No será lo mismo la disposición al pago por reducir un riesgo de muerte en accidentes viales que en accidentes ferroviarios o aéreos </a:t>
            </a:r>
            <a:endParaRPr b="0" lang="en-US" sz="2200" spc="-1" strike="noStrike">
              <a:solidFill>
                <a:srgbClr val="000000"/>
              </a:solidFill>
              <a:latin typeface="Zurich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187280" y="1066680"/>
          <a:ext cx="7632720" cy="4395960"/>
        </p:xfrm>
        <a:graphic>
          <a:graphicData uri="http://schemas.openxmlformats.org/drawingml/2006/table">
            <a:tbl>
              <a:tblPr/>
              <a:tblGrid>
                <a:gridCol w="2313000"/>
                <a:gridCol w="1563840"/>
                <a:gridCol w="1687680"/>
                <a:gridCol w="2068200"/>
              </a:tblGrid>
              <a:tr h="817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Zurich BT"/>
                        </a:rPr>
                        <a:t>Riesg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Zurich BT"/>
                        </a:rPr>
                        <a:t>Característica del context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Zurich BT"/>
                        </a:rPr>
                        <a:t>Accidente de tránsit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Zurich BT"/>
                        </a:rPr>
                        <a:t>Accident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Zurich BT"/>
                        </a:rPr>
                        <a:t>labor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Zurich BT"/>
                        </a:rPr>
                        <a:t>Contaminación atmosféric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Zurich BT"/>
                        </a:rPr>
                        <a:t>Voluntari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Zurich BT"/>
                        </a:rPr>
                        <a:t>Sí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Zurich BT"/>
                        </a:rPr>
                        <a:t>Sí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Zurich BT"/>
                        </a:rPr>
                        <a:t>N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Zurich BT"/>
                        </a:rPr>
                        <a:t>Contro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Zurich BT"/>
                        </a:rPr>
                        <a:t>Sí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Zurich BT"/>
                        </a:rPr>
                        <a:t>Sí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Zurich BT"/>
                        </a:rPr>
                        <a:t>N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Zurich BT"/>
                        </a:rPr>
                        <a:t>Inmediat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Zurich BT"/>
                        </a:rPr>
                        <a:t>Sí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Zurich BT"/>
                        </a:rPr>
                        <a:t>Sí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Zurich BT"/>
                        </a:rPr>
                        <a:t>N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Zurich BT"/>
                        </a:rPr>
                        <a:t>Benefici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Zurich BT"/>
                        </a:rPr>
                        <a:t>Sí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Zurich BT"/>
                        </a:rPr>
                        <a:t>Sí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Zurich BT"/>
                        </a:rPr>
                        <a:t>N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6240" y="306000"/>
            <a:ext cx="7889760" cy="38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Zurich BT"/>
              </a:rPr>
              <a:t>Costos por pérdida de bienestar de las víctimas</a:t>
            </a:r>
            <a:endParaRPr b="1" lang="en-US" sz="2600" spc="-1" strike="noStrike">
              <a:solidFill>
                <a:srgbClr val="000099"/>
              </a:solidFill>
              <a:latin typeface="Zurich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0T20:22:39Z</dcterms:created>
  <dc:creator>lirizzi</dc:creator>
  <dc:description/>
  <dc:language>en-US</dc:language>
  <cp:lastModifiedBy>Marcela Munizaga</cp:lastModifiedBy>
  <dcterms:modified xsi:type="dcterms:W3CDTF">2008-08-18T18:22:55Z</dcterms:modified>
  <cp:revision>296</cp:revision>
  <dc:subject/>
  <dc:title>Road Safety Valuation under a Stated Choice Framework </dc:title>
</cp:coreProperties>
</file>