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664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444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72DA52-5077-4CC6-BF75-0EEF65CC909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8C75ACE-D4D2-43C4-B61E-EC6A28C6F56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384800"/>
            <a:ext cx="514044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808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684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808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684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38504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2" marL="1143000" indent="-228600">
              <a:spcBef>
                <a:spcPts val="550"/>
              </a:spcBef>
              <a:buClr>
                <a:srgbClr val="0099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2232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52280" y="152280"/>
          <a:ext cx="935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935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58560" y="62449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5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35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2872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uis Ignacio Rizzi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Departamento de Ingeniería de Transporte y Logística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Pontificia Universidad Católica de Chile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5157720"/>
            <a:ext cx="69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18 de Agosto de 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Facultad de Ciencias Físicas y Matemáticas, Universidad de Ch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¿Cómo estim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un contexto de seguridad vial?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o existe un mercado donde se pueda observar cuánto las personas están dispuestas a pagar por disponer de una carretera más segur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se paga un peaje, no se puede discriminar cuánto corresponde a ahorros de tiempo de viaje,  a mejor seguridad, a servicios de auxilio mecáni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be recurrirse a técnicas econométricas con sustento microeconómico a fin de estimar los valores desead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s técnicas pueden utilizar datos observados (preferencias reveladas) o datos de “laboratorio” (preferencias declaradas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tilizando datos de preferencias reveladas, se puede estimar cuánto más caro es un auto que brinda mayor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precios hedónic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modelo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ón discre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no se dispone de datos reales, se los genera de manera artificial. Así, se obtienen datos de preferencia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método de preferencias declaradas más directo es l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ación contingente: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regunta a una persona su disposición al pago por cierto bien (por ejemplo, mejor seguridad v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hace una pregunta del siguiente estilo: “¿cuánto estaría usted dispuesto a pagar por transitar por una ruta en la que mueren tres personas menos al año que lo que ocurre actualmente?”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Este tipo de preguntas sitúa a las personas en contextos poco familiares y esto genera ciertas dudas sobre la bondad del méto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mo alternativa se utilizan encuesta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one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generan situaciones hipotéticas de elección en la que las personas encuestadas deben optar por una alternativa entre vari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n tener mayor aprobación entre economistas y psicólogos pues permiten recrear situaciones que son más familiares para las person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l elegir una alternativa, las personas revelan de manera implícita su disposición al pago por cierto bien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eamos un ejempl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debe hacer un viaje como el que se le indica a la ciudad de Viña del Mar por un compromiso social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el viaje tiene lugar durante un fin de semana normal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hace manejando su aut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paga enteramente usted, incluido el peaje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tiene que estar en Viña del Mar a más tardar a las 14:00 hrs. del día sábado.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Debe elegir entre dos rutas (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ambas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del tipo de la actual ruta 68 Santiago - Viña del Mar/Valparaíso), considerando estos tres factores: valor del peaje, tiempo de viaje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y la cantidad de accidentes fatales al año en que muere al menos una persona que viaja en automóvil. 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(</a:t>
            </a:r>
            <a:r>
              <a:rPr b="0" i="1" lang="es-ES_tradnl" sz="2200" spc="-1" strike="noStrike">
                <a:solidFill>
                  <a:srgbClr val="000000"/>
                </a:solidFill>
                <a:latin typeface="Zurich BT"/>
              </a:rPr>
              <a:t>se indica el número de muertes anuales y el flujo de la ruta 68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673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Zurich BT"/>
              </a:rPr>
              <a:t>Ejemplo de situación de elección. Suelen ser ocho o nueve</a:t>
            </a: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19280" y="2219400"/>
          <a:ext cx="658980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19400"/>
                    <a:ext cx="65898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186000" cy="234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52480" y="2514600"/>
            <a:ext cx="3186360" cy="234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505320" y="3352680"/>
            <a:ext cx="3340080" cy="245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76320" y="38160"/>
            <a:ext cx="8934480" cy="651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76320" y="58680"/>
            <a:ext cx="89326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egún país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Reino Unid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,4 millones (año 2000)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28.650 por herido gra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 9920 por herido le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dos Unidos (Departamento de Transporte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US$3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uec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 €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1,5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hile (valor estimado no ofic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S$300.000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Zurich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Pérdida de producción neta de consumo propio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 dada por la diferencia entre el ingreso que el trabajador percibe y su ingreso bruto. Dependerá de los arreglos institucionales de cada paí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Zurich BT"/>
              </a:rPr>
              <a:t>Se trata de una externalidad de consumo, puesto que la propia persona no percibe este efecto sobre el bienestar de los demá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países donde el impuesto al trabajo es alto, este monto será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no recurrente se refiere a aquellas situaciones de congestión que no se presentan con regularidad. Dos típicos casos son los accidentes viales y los trabajo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gún el TRL (2005), el 25% de la congestión observada se debe a incidentes en la vía y el 10%, a trabajos viales; sumando un 35% de la congestión total observ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rubro es ignorado en el cálculo de costos económicos de accidentes, sin embargo su impacto puede ser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ún más, una vez ocurrido el accidente y mientras duran los trabajos de despeje, se tiene el riesgo de accidentes secundari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673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os accidentes viales generan los siguientes cos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bienestar de las víctimas de los accidentes y familiares de las víctimas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producción neta de consumo propi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ngestión no recurrente ocasionada por los accidentes de viales. Este costo suele ser ignora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que causarán los accidentes viales dependerá de los siguientes elemen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ivel de bloqueo de la vía, que depende del tipo de accidente, la severidad del mismo y el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olumen vehicular según hora del día y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Tiempo total de despeje, dependiente del tipo de accidente, la severidad del mismo y el tiempo de respuesta de los servicios de auxilio y emergencia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Ferguso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t al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(1999) encontraron que el ocho por ciento de los accidentes fatales y graves, en el Estado de Victoria, Australia, generan importantes pérdidas de tiempos de viaje al año, valoradas en US$ 1.314 millon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Otros costo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restante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tratamiento conceptual de estos costos es sencillo, aunque su cómputo puede ser una ardua tarea, especialmente si se quiere diferenciar por tipo de accidente y consecuencias sobre los daños a la salud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fatal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07920"/>
          <a:ext cx="7562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7920"/>
                    <a:ext cx="7562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1.630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20760" y="906480"/>
          <a:ext cx="7481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906480"/>
                    <a:ext cx="7481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293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0104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Chil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950080"/>
            <a:ext cx="7200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UF1.1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Elaboración propia a partir de CITRA (1996) y Rizzi &amp; Ortúzar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905040"/>
          <a:ext cx="767376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5040"/>
                    <a:ext cx="76737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ocurren accidentes que generan víctimas fatales o graves, el principal componente de costo está dado por la pérdida de bienestar de las víctim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xisten dos maneras de medir este valor: capital humano o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segundo concepto es más apropiado desde un punto de vista de bienestar soc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uele ser varias veces mayor que el valor de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asar a us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produce u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notable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umento en la rentabilidad social de proyectos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6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 costo relevante e ignorado a la vez es el incremento en los tiempos de viaje que ocasionan los accident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costo debe ser medido y considerado explícitam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sde el punto de vista metodológico, no es una tarea que no pueda ser abord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inclusión de este costo incrementará más los beneficios de una mejor la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uanto a los otros rubros de costos, estos resultan ser una muy pequeña proporción de los costos totales cuando hay víctimas fatales y/o graves. A medida que disminuye la gravedad de los accidentes su incidencia en el costo total aumen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fin</a:t>
            </a:r>
            <a:endParaRPr b="0" lang="en-US" sz="26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8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 el costo más relevante cuando un accidente vial provoca víctimas fatales y/o grav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 ser estimado como la pérdida de valor agregado que la sociedad sufre por la incapacidad laboral de una víctima de un accidente de tránsito: valor del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lo calcula como el valor actual de los ingresos que deja de percibir una víctima como consecuencia del accid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el caso de las víctimas fatales, es igual al valor actual de los ingresos futuros (incluyendo todos los impuestos al trabajo) que deja de percibir un víctima de edad promedi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puede agregar un monto extra por el dolor, pena y sufrimiento que padecen los familiares, dependientes y amistades de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jemplo: supongamos una persona cuyo ingreso anual promedio fuese US$12.000 y falleciese a los 35 años. Su valor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capital human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sciende a US$185.000 (tasa de descuento anual 5%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hile, el valor de una víctima fatal, según este método, es US$50.000 (2004). En el Reino unido, asciende a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415.000 (2002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valor del capital humano responde al criterio de las cuentas nacion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contrapone con la noción de valor que utilizan los economistas basada en la preferencias individu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alternativa es considerar el beneficio que la mejor seguridad vial otorga a los conductores. Ejempl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a ruta une un par O-D. Su flujo anual es de cinco millones de vehículos y fallecen 15 persona en accidente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pongamos que cada vez que transita esta ruta, un conductor está dispuesto a pagar US$2 por reducir el número de fatalidades en cin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mando sobre todos los conductores, se tienen US$10 millones; es decir, US$2 millones por muerte evit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la literatura, este monto se llam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 vida estadística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o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disposición al pago refleja cuánto se valora un mayor nivel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 valoración está influida no sólo por el ingreso del conductor, sino también por sus percepciones del riesgo de sufrir un accidente y por la pérdida de bienestar que el accidente pueda acarrear a ellos y a sus dependientes y personas queri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o es similar a lo que sucede con la compra de un bien o servicio que brinda mayor seguridad contra la ocurrencia de cualquier tipo de siniest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riesgo de accidente afecta a todos los conductores, se debe sumar la disposición al pago de todos los usuarios de la ru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términos económicos, el riesgo de sufrir un accidente es un bien público: no hay rivalidad en el consum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ntes de la ocurrencia de un siniestro vial, cualquier conductor podría ser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or otro lado, cuando una mejora vial logra evitar una muerte, nunca sabremos el nombre de la persona cuya deceso se evitó 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800100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depende de la percepción del riesgo, este valor no será el mismo para todos los riesg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percepción del riesgo depende de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aceptado de manera voluntar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se halla bajo control del individu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inmediato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xiste un beneficio asociado a la acción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No será lo mismo la disposición al pago por reducir un riesgo de muerte en accidentes viales que en accidentes ferroviarios o aéreo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1066680"/>
          <a:ext cx="7632720" cy="4395960"/>
        </p:xfrm>
        <a:graphic>
          <a:graphicData uri="http://schemas.openxmlformats.org/drawingml/2006/table">
            <a:tbl>
              <a:tblPr/>
              <a:tblGrid>
                <a:gridCol w="2313000"/>
                <a:gridCol w="1563840"/>
                <a:gridCol w="1687680"/>
                <a:gridCol w="2068200"/>
              </a:tblGrid>
              <a:tr h="81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Riesg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aracterística del contex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 de tráns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labo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aminación atmosfé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Volunt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Inmedi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Benefic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20:22:39Z</dcterms:created>
  <dc:creator>lirizzi</dc:creator>
  <dc:description/>
  <dc:language>en-US</dc:language>
  <cp:lastModifiedBy>Marcela Munizaga</cp:lastModifiedBy>
  <dcterms:modified xsi:type="dcterms:W3CDTF">2008-08-18T18:22:55Z</dcterms:modified>
  <cp:revision>296</cp:revision>
  <dc:subject/>
  <dc:title>Road Safety Valuation under a Stated Choice Framework </dc:title>
</cp:coreProperties>
</file>