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6AB-FD1A-48A1-96E2-598B1730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EDC-0171-447B-9C31-8FBDFDCF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C372-9F35-4D5B-B2BD-13254766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B4FC-82A3-4E22-BF35-CAF25BFB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EA0B-E747-4F3E-A62A-68DE2E81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F05A-AE63-41AB-B593-0232D96B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BCF8-B322-4151-8E22-DA81429F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46D2-A152-46CE-B2C3-47B7596F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2C41-D660-4785-83EE-327BF68E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6A5E-1585-4B94-9A0C-93E87A12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E936-EDB2-46E9-BE2B-D620AD8E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D9AD-E972-4039-A2AD-DAA44507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B413-0412-46DC-9C1C-7A1BAE27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9335-9AEA-4FE5-BD1D-9F78F88D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42DC-B8E0-49A9-B6D0-EFC1ACF8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79E5-6175-488E-8029-880755CC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CBC1-3709-4A71-95BC-C40FF107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56E7-8A3A-4FC5-B5FD-278AC1D6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28C-CF8B-4DB2-9BC4-4EDCFDE9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7E76-23B9-44BA-903E-BB653640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7AB4-73EE-4BEA-8A7F-D922C525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8361-285F-4D71-8E6A-0C489A40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97B1-2336-4EFD-BCB5-2DB1F189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2558-6061-49E4-9B33-0782367C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A3CF-ADB2-42B7-B2AD-E07FB28E3723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07FF-0618-48DA-BBFC-CB70AD286C6C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33440" y="1498680"/>
            <a:ext cx="68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ROYECTO DE ACERO CI62-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6880" y="4724280"/>
            <a:ext cx="85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FESORES: ELIZABETH PARRA / HORACIO PINOCH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263700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JEMPLO DEL DISEÑO DE ACERO DE PARED DELGAD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Arial"/>
              </a:rPr>
              <a:t>EJEMPLO: Propiedades Efectivas</a:t>
            </a:r>
            <a:br>
              <a:rPr sz="3200"/>
            </a:br>
            <a:r>
              <a:rPr b="0" lang="es-ES_tradnl" sz="3200" spc="-1" strike="noStrike">
                <a:solidFill>
                  <a:srgbClr val="ccecff"/>
                </a:solidFill>
                <a:latin typeface="Arial"/>
              </a:rPr>
              <a:t>Panel Knudson KR-18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205740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s-ES_tradnl" sz="1800" spc="-1" strike="noStrike" baseline="-25000">
                <a:solidFill>
                  <a:srgbClr val="eaeaea"/>
                </a:solidFill>
                <a:latin typeface="Times New Roman"/>
              </a:rPr>
              <a:t>ef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0" lang="es-ES_tradnl" sz="1800" spc="-1" strike="noStrike">
                <a:solidFill>
                  <a:srgbClr val="eaeaea"/>
                </a:solidFill>
                <a:latin typeface="Symbol"/>
                <a:ea typeface="Symbol"/>
              </a:rPr>
              <a:t>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934320" y="2417760"/>
                <a:ext cx="18288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010280" y="2743200"/>
                <a:ext cx="16336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2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k</m:t>
                                </m:r>
                              </m:e>
                            </m:rad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6477120" cy="46404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919200" y="16383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eaeaea"/>
                </a:solidFill>
                <a:uFillTx/>
                <a:latin typeface="Times New Roman"/>
              </a:rPr>
              <a:t>Elemento 1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18480" y="3429000"/>
            <a:ext cx="123228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Datos: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w = 12.9   m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t   = 0.43   m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es-ES_tradnl" sz="1400" spc="-1" strike="noStrike" baseline="-25000">
                <a:solidFill>
                  <a:srgbClr val="eaeaea"/>
                </a:solidFill>
                <a:latin typeface="Times New Roman"/>
              </a:rPr>
              <a:t>y 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= 37      Ksi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E  = 29500Ksi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18480" y="4572000"/>
            <a:ext cx="184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Elemento en compresión no atiesado: </a:t>
            </a: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k = 0.4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17760" y="5037120"/>
            <a:ext cx="185256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Symbol"/>
                <a:ea typeface="Symbol"/>
              </a:rPr>
              <a:t>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= 1.70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Symbol"/>
                <a:ea typeface="Symbol"/>
              </a:rPr>
              <a:t>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= 0.5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s-ES_tradnl" sz="1400" spc="-1" strike="noStrike" baseline="-25000">
                <a:solidFill>
                  <a:srgbClr val="eaeaea"/>
                </a:solidFill>
                <a:latin typeface="Times New Roman"/>
              </a:rPr>
              <a:t>ef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= 12.9*0.511=6.59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276720"/>
            <a:ext cx="914400" cy="533160"/>
          </a:xfrm>
          <a:prstGeom prst="ellipse">
            <a:avLst/>
          </a:prstGeom>
          <a:noFill/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CEPTOS DE MECANICA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omento de Inercia (I) y Modulo Resistente (S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93760" y="1790640"/>
            <a:ext cx="1397160" cy="2247840"/>
          </a:xfrm>
          <a:custGeom>
            <a:avLst/>
            <a:gdLst/>
            <a:ahLst/>
            <a:rect l="l" t="t" r="r" b="b"/>
            <a:pathLst>
              <a:path w="1347" h="1800">
                <a:moveTo>
                  <a:pt x="242" y="216"/>
                </a:moveTo>
                <a:cubicBezTo>
                  <a:pt x="186" y="296"/>
                  <a:pt x="198" y="392"/>
                  <a:pt x="208" y="504"/>
                </a:cubicBezTo>
                <a:cubicBezTo>
                  <a:pt x="218" y="616"/>
                  <a:pt x="320" y="792"/>
                  <a:pt x="304" y="888"/>
                </a:cubicBezTo>
                <a:cubicBezTo>
                  <a:pt x="288" y="984"/>
                  <a:pt x="160" y="1008"/>
                  <a:pt x="112" y="1080"/>
                </a:cubicBezTo>
                <a:cubicBezTo>
                  <a:pt x="64" y="1152"/>
                  <a:pt x="0" y="1216"/>
                  <a:pt x="16" y="1320"/>
                </a:cubicBezTo>
                <a:cubicBezTo>
                  <a:pt x="32" y="1424"/>
                  <a:pt x="52" y="1629"/>
                  <a:pt x="208" y="1704"/>
                </a:cubicBezTo>
                <a:cubicBezTo>
                  <a:pt x="364" y="1779"/>
                  <a:pt x="774" y="1800"/>
                  <a:pt x="954" y="1772"/>
                </a:cubicBezTo>
                <a:cubicBezTo>
                  <a:pt x="1134" y="1744"/>
                  <a:pt x="1227" y="1653"/>
                  <a:pt x="1287" y="1538"/>
                </a:cubicBezTo>
                <a:cubicBezTo>
                  <a:pt x="1347" y="1423"/>
                  <a:pt x="1343" y="1184"/>
                  <a:pt x="1312" y="1080"/>
                </a:cubicBezTo>
                <a:cubicBezTo>
                  <a:pt x="1281" y="976"/>
                  <a:pt x="1139" y="962"/>
                  <a:pt x="1098" y="916"/>
                </a:cubicBezTo>
                <a:cubicBezTo>
                  <a:pt x="1057" y="870"/>
                  <a:pt x="1061" y="858"/>
                  <a:pt x="1065" y="805"/>
                </a:cubicBezTo>
                <a:cubicBezTo>
                  <a:pt x="1069" y="752"/>
                  <a:pt x="1109" y="685"/>
                  <a:pt x="1120" y="600"/>
                </a:cubicBezTo>
                <a:cubicBezTo>
                  <a:pt x="1131" y="515"/>
                  <a:pt x="1164" y="382"/>
                  <a:pt x="1131" y="294"/>
                </a:cubicBezTo>
                <a:cubicBezTo>
                  <a:pt x="1098" y="206"/>
                  <a:pt x="1018" y="117"/>
                  <a:pt x="920" y="72"/>
                </a:cubicBezTo>
                <a:cubicBezTo>
                  <a:pt x="822" y="27"/>
                  <a:pt x="657" y="0"/>
                  <a:pt x="544" y="24"/>
                </a:cubicBezTo>
                <a:cubicBezTo>
                  <a:pt x="431" y="48"/>
                  <a:pt x="298" y="136"/>
                  <a:pt x="242" y="216"/>
                </a:cubicBezTo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8195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92160" y="304812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C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2971800"/>
            <a:ext cx="2362320" cy="0"/>
          </a:xfrm>
          <a:prstGeom prst="line">
            <a:avLst/>
          </a:prstGeom>
          <a:ln w="15840">
            <a:solidFill>
              <a:srgbClr val="eaeaea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22096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1960" y="213048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cc3300"/>
                </a:solidFill>
                <a:latin typeface="Times New Roman"/>
              </a:rPr>
              <a:t>d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3200" y="198108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cc3300"/>
                </a:solidFill>
                <a:latin typeface="Times New Roman"/>
              </a:rPr>
              <a:t>dx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2209680"/>
            <a:ext cx="0" cy="762120"/>
          </a:xfrm>
          <a:prstGeom prst="line">
            <a:avLst/>
          </a:prstGeom>
          <a:ln w="9360">
            <a:solidFill>
              <a:srgbClr val="99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05480" y="272736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L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6200" y="272736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L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428840" y="4724280"/>
                <a:ext cx="131436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1890720" y="2400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4680" y="4267080"/>
            <a:ext cx="36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eaeaea"/>
                </a:solidFill>
                <a:uFillTx/>
                <a:latin typeface="Times New Roman"/>
              </a:rPr>
              <a:t>Momento de Inerci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se define como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240" y="525780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De manera que se cumple la siguiente ecuació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69080" y="5646600"/>
            <a:ext cx="1433520" cy="4406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M = </a:t>
            </a:r>
            <a:r>
              <a:rPr b="0" lang="es-ES_tradnl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 I/y</a:t>
            </a:r>
            <a:r>
              <a:rPr b="0" lang="es-ES_tradnl" sz="2000" spc="-1" strike="noStrike" baseline="-25000">
                <a:solidFill>
                  <a:srgbClr val="cc33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914040" y="4038480"/>
            <a:ext cx="10666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066680" y="2971440"/>
            <a:ext cx="0" cy="106668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1880" y="3162240"/>
            <a:ext cx="525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3300"/>
                </a:solidFill>
                <a:latin typeface="Times New Roman"/>
              </a:rPr>
              <a:t>y</a:t>
            </a:r>
            <a:r>
              <a:rPr b="0" lang="es-ES_tradnl" sz="1800" spc="-1" strike="noStrike" baseline="-25000">
                <a:solidFill>
                  <a:srgbClr val="cc3300"/>
                </a:solidFill>
                <a:latin typeface="Times New Roman"/>
              </a:rPr>
              <a:t>max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78400" y="156204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eaeaea"/>
                </a:solidFill>
                <a:uFillTx/>
                <a:latin typeface="Times New Roman"/>
              </a:rPr>
              <a:t>Módulo Resistente (S)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se define como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73560" y="2063880"/>
            <a:ext cx="1131840" cy="4406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S = I/y</a:t>
            </a:r>
            <a:r>
              <a:rPr b="0" lang="es-ES_tradnl" sz="2000" spc="-1" strike="noStrike" baseline="-25000">
                <a:solidFill>
                  <a:srgbClr val="cc33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86000" y="2057400"/>
            <a:ext cx="10375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M = </a:t>
            </a:r>
            <a:r>
              <a:rPr b="0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79840" y="3200400"/>
            <a:ext cx="42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eaeaea"/>
                </a:solidFill>
                <a:uFillTx/>
                <a:latin typeface="Times New Roman"/>
              </a:rPr>
              <a:t>Hipótesis de Navier: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 Secciones planas permanecen plana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4343400"/>
            <a:ext cx="1143000" cy="16765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5181480"/>
            <a:ext cx="3505320" cy="0"/>
          </a:xfrm>
          <a:prstGeom prst="line">
            <a:avLst/>
          </a:prstGeom>
          <a:ln w="15840">
            <a:solidFill>
              <a:srgbClr val="eaeaea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848720" y="4343040"/>
            <a:ext cx="761760" cy="1676880"/>
            <a:chOff x="7848720" y="4343040"/>
            <a:chExt cx="761760" cy="1676880"/>
          </a:xfrm>
        </p:grpSpPr>
        <p:sp>
          <p:nvSpPr>
            <p:cNvPr id="252" name=""/>
            <p:cNvSpPr/>
            <p:nvPr/>
          </p:nvSpPr>
          <p:spPr>
            <a:xfrm>
              <a:off x="8229600" y="4343400"/>
              <a:ext cx="0" cy="1676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7848720" y="4343040"/>
              <a:ext cx="761760" cy="1676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7848720" y="4343400"/>
              <a:ext cx="380880" cy="457200"/>
              <a:chOff x="7848720" y="4343400"/>
              <a:chExt cx="380880" cy="457200"/>
            </a:xfrm>
          </p:grpSpPr>
          <p:sp>
            <p:nvSpPr>
              <p:cNvPr id="255" name=""/>
              <p:cNvSpPr/>
              <p:nvPr/>
            </p:nvSpPr>
            <p:spPr>
              <a:xfrm flipH="1">
                <a:off x="7848720" y="4343400"/>
                <a:ext cx="3808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7925040" y="4495680"/>
                <a:ext cx="30456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8001000" y="4648320"/>
                <a:ext cx="2286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8077320" y="4800600"/>
                <a:ext cx="1522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8229600" y="5562720"/>
              <a:ext cx="380880" cy="457200"/>
              <a:chOff x="8229600" y="5562720"/>
              <a:chExt cx="380880" cy="457200"/>
            </a:xfrm>
          </p:grpSpPr>
          <p:sp>
            <p:nvSpPr>
              <p:cNvPr id="260" name=""/>
              <p:cNvSpPr/>
              <p:nvPr/>
            </p:nvSpPr>
            <p:spPr>
              <a:xfrm>
                <a:off x="8229600" y="6019920"/>
                <a:ext cx="3808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229600" y="5867640"/>
                <a:ext cx="30456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229600" y="5715000"/>
                <a:ext cx="2286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229600" y="5562720"/>
                <a:ext cx="1522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"/>
          <p:cNvSpPr/>
          <p:nvPr/>
        </p:nvSpPr>
        <p:spPr>
          <a:xfrm>
            <a:off x="7238880" y="4343400"/>
            <a:ext cx="0" cy="1676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6857640" y="4343040"/>
            <a:ext cx="762120" cy="1676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0" y="4343400"/>
            <a:ext cx="380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8880" y="6019920"/>
            <a:ext cx="3812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38880" y="5181480"/>
            <a:ext cx="381240" cy="838440"/>
          </a:xfrm>
          <a:prstGeom prst="rtTriangle">
            <a:avLst/>
          </a:prstGeom>
          <a:solidFill>
            <a:srgbClr val="65b2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6858000" y="4343400"/>
            <a:ext cx="380880" cy="838080"/>
          </a:xfrm>
          <a:prstGeom prst="rtTriangle">
            <a:avLst/>
          </a:prstGeom>
          <a:solidFill>
            <a:srgbClr val="65b2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49000" y="3943440"/>
            <a:ext cx="321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Symbol"/>
                <a:ea typeface="Symbol"/>
              </a:rPr>
              <a:t></a:t>
            </a:r>
            <a:r>
              <a:rPr b="0" lang="es-ES_tradnl" sz="16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43920" y="5943600"/>
            <a:ext cx="301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eaeaea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06200" y="3962520"/>
            <a:ext cx="354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es-ES_tradnl" sz="16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942320" y="5943600"/>
            <a:ext cx="334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es-ES_tradnl" sz="1600" spc="-1" strike="noStrike" baseline="-25000">
                <a:solidFill>
                  <a:srgbClr val="eaeaea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 rot="16200000">
            <a:off x="6134040" y="4800600"/>
            <a:ext cx="914400" cy="838080"/>
          </a:xfrm>
          <a:custGeom>
            <a:avLst/>
            <a:gdLst>
              <a:gd name="textAreaLeft" fmla="*/ 0 w 914400"/>
              <a:gd name="textAreaRight" fmla="*/ 914760 w 914400"/>
              <a:gd name="textAreaTop" fmla="*/ 360 h 838080"/>
              <a:gd name="textAreaBottom" fmla="*/ 838800 h 838080"/>
            </a:gdLst>
            <a:ahLst/>
            <a:rect l="textAreaLeft" t="textAreaTop" r="textAreaRight" b="textAreaBottom"/>
            <a:pathLst>
              <a:path w="21600" h="21600">
                <a:moveTo>
                  <a:pt x="2513" y="10309"/>
                </a:moveTo>
                <a:arcTo wR="-8302" hR="-8302" stAng="-10596578" swAng="-11003422"/>
                <a:lnTo>
                  <a:pt x="0" y="10800"/>
                </a:lnTo>
                <a:arcTo wR="10800" hR="10800" stAng="10800000" swAng="11003422"/>
                <a:lnTo>
                  <a:pt x="24276" y="11598"/>
                </a:lnTo>
                <a:lnTo>
                  <a:pt x="20101" y="15307"/>
                </a:lnTo>
                <a:lnTo>
                  <a:pt x="16392" y="1113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70640" y="5603760"/>
            <a:ext cx="5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rcRect l="1478" t="5582" r="681" b="3937"/>
          <a:stretch/>
        </p:blipFill>
        <p:spPr>
          <a:xfrm>
            <a:off x="1295280" y="1523880"/>
            <a:ext cx="6553440" cy="23828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rcRect l="1157" t="2615" r="0" b="2879"/>
          <a:stretch/>
        </p:blipFill>
        <p:spPr>
          <a:xfrm>
            <a:off x="1371600" y="4038480"/>
            <a:ext cx="647712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CEPTOS DE MECANICA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sistencia de Materia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61760" y="2285280"/>
            <a:ext cx="2819520" cy="457920"/>
            <a:chOff x="761760" y="2285280"/>
            <a:chExt cx="2819520" cy="457920"/>
          </a:xfrm>
        </p:grpSpPr>
        <p:sp>
          <p:nvSpPr>
            <p:cNvPr id="281" name=""/>
            <p:cNvSpPr/>
            <p:nvPr/>
          </p:nvSpPr>
          <p:spPr>
            <a:xfrm>
              <a:off x="990720" y="2514600"/>
              <a:ext cx="243828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14400" y="251460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352680" y="2514600"/>
              <a:ext cx="152640" cy="152280"/>
            </a:xfrm>
            <a:prstGeom prst="triangle">
              <a:avLst>
                <a:gd name="adj" fmla="val 50000"/>
              </a:avLst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8080" y="2666880"/>
              <a:ext cx="30492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61760" y="2666880"/>
              <a:ext cx="75960" cy="763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838080" y="2666880"/>
              <a:ext cx="76320" cy="763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914400" y="2666880"/>
              <a:ext cx="76320" cy="763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990360" y="2666880"/>
              <a:ext cx="75960" cy="763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1066680" y="2666880"/>
              <a:ext cx="76320" cy="763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76720" y="2666880"/>
              <a:ext cx="30456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76720" y="2743200"/>
              <a:ext cx="30456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90720" y="228528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95280" y="228528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00200" y="228528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05120" y="228528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09680" y="228528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14600" y="228528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19520" y="228528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24080" y="228528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29000" y="228528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2286000"/>
              <a:ext cx="243828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990720" y="297180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30720" y="1614600"/>
            <a:ext cx="13924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UN TRAM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90720" y="28195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05280" y="2525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90720" y="2819520"/>
            <a:ext cx="0" cy="1676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429000" y="2819520"/>
            <a:ext cx="0" cy="1676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58840" y="26668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342900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3429000"/>
            <a:ext cx="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200400"/>
            <a:ext cx="243828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396252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3962520"/>
            <a:ext cx="2438280" cy="304560"/>
          </a:xfrm>
          <a:custGeom>
            <a:avLst/>
            <a:gdLst/>
            <a:ahLst/>
            <a:rect l="l" t="t" r="r" b="b"/>
            <a:pathLst>
              <a:path w="1536" h="192">
                <a:moveTo>
                  <a:pt x="0" y="0"/>
                </a:moveTo>
                <a:cubicBezTo>
                  <a:pt x="256" y="96"/>
                  <a:pt x="512" y="192"/>
                  <a:pt x="768" y="192"/>
                </a:cubicBezTo>
                <a:cubicBezTo>
                  <a:pt x="1024" y="192"/>
                  <a:pt x="1280" y="96"/>
                  <a:pt x="1536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295280" y="3962520"/>
            <a:ext cx="762120" cy="304560"/>
            <a:chOff x="1295280" y="3962520"/>
            <a:chExt cx="762120" cy="304560"/>
          </a:xfrm>
        </p:grpSpPr>
        <p:sp>
          <p:nvSpPr>
            <p:cNvPr id="315" name=""/>
            <p:cNvSpPr/>
            <p:nvPr/>
          </p:nvSpPr>
          <p:spPr>
            <a:xfrm>
              <a:off x="1447920" y="3962520"/>
              <a:ext cx="0" cy="1522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0020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5248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95280" y="3962520"/>
              <a:ext cx="0" cy="1522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05120" y="3962520"/>
              <a:ext cx="0" cy="304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57400" y="3962520"/>
              <a:ext cx="0" cy="304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362320" y="3962520"/>
            <a:ext cx="761760" cy="304560"/>
            <a:chOff x="2362320" y="3962520"/>
            <a:chExt cx="761760" cy="304560"/>
          </a:xfrm>
        </p:grpSpPr>
        <p:sp>
          <p:nvSpPr>
            <p:cNvPr id="322" name=""/>
            <p:cNvSpPr/>
            <p:nvPr/>
          </p:nvSpPr>
          <p:spPr>
            <a:xfrm>
              <a:off x="2971800" y="3962520"/>
              <a:ext cx="0" cy="1522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1952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6724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24080" y="3962520"/>
              <a:ext cx="0" cy="1522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14600" y="3962520"/>
              <a:ext cx="0" cy="304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62320" y="3962520"/>
              <a:ext cx="0" cy="304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990720" y="3200400"/>
            <a:ext cx="1218960" cy="2286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2208960" y="3428280"/>
            <a:ext cx="1219320" cy="2286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4419720"/>
            <a:ext cx="2590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48280" y="4419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/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41960" y="4419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/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90920" y="33638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RTE (V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07840" y="3911760"/>
            <a:ext cx="109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MOMEN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(M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990720" y="2666520"/>
            <a:ext cx="0" cy="304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429000" y="2666520"/>
            <a:ext cx="0" cy="304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30800" y="27432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25160" y="1981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08640" y="4724280"/>
            <a:ext cx="145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R = V</a:t>
            </a:r>
            <a:r>
              <a:rPr b="0" lang="es-ES_tradnl" sz="1400" spc="-1" strike="noStrike" baseline="-25000">
                <a:solidFill>
                  <a:srgbClr val="eaeaea"/>
                </a:solidFill>
                <a:latin typeface="Times New Roman"/>
              </a:rPr>
              <a:t>max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= q L / 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12240" y="501804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V(x) = q (L/2-x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1880" y="5322960"/>
            <a:ext cx="156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M(x) = qx (L-x) / 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31680" y="5627520"/>
            <a:ext cx="122904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M</a:t>
            </a:r>
            <a:r>
              <a:rPr b="0" lang="es-ES_tradnl" sz="1400" spc="-1" strike="noStrike" baseline="-25000">
                <a:solidFill>
                  <a:srgbClr val="cc3300"/>
                </a:solidFill>
                <a:latin typeface="Times New Roman"/>
              </a:rPr>
              <a:t>max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= q L</a:t>
            </a:r>
            <a:r>
              <a:rPr b="0" lang="es-ES_tradnl" sz="14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/ 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29520" y="5996160"/>
            <a:ext cx="166212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33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 baseline="-25000">
                <a:solidFill>
                  <a:srgbClr val="cc3300"/>
                </a:solidFill>
                <a:latin typeface="Times New Roman"/>
              </a:rPr>
              <a:t>max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= 5q L</a:t>
            </a:r>
            <a:r>
              <a:rPr b="0" lang="es-ES_tradnl" sz="1400" spc="-1" strike="noStrike" baseline="30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/ 384 EI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76920" y="250020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250020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38880" y="250020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24280" y="265284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7960" y="2652840"/>
            <a:ext cx="7596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4724280" y="2652840"/>
            <a:ext cx="7632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800600" y="2652840"/>
            <a:ext cx="7632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76560" y="2652840"/>
            <a:ext cx="7596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952880" y="2652840"/>
            <a:ext cx="7632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162920" y="2652840"/>
            <a:ext cx="304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2728800"/>
            <a:ext cx="304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7692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8640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588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0080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0572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1028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1520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876920" y="227160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76920" y="295740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17640" y="1600200"/>
            <a:ext cx="16452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DOS TRAM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76920" y="28051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091480" y="25113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2805120"/>
            <a:ext cx="0" cy="1676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315200" y="2805120"/>
            <a:ext cx="0" cy="1676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67480" y="26668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76920" y="342900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5880" y="2957400"/>
            <a:ext cx="0" cy="15242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876920" y="394812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186000"/>
            <a:ext cx="609480" cy="2430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5485680" y="3428280"/>
            <a:ext cx="609480" cy="2286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52880" y="441972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3L/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77120" y="334980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RTE (V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94040" y="3897360"/>
            <a:ext cx="109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MOMEN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(M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876920" y="2652840"/>
            <a:ext cx="0" cy="3045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7315200" y="2652840"/>
            <a:ext cx="0" cy="3045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9520" y="2728800"/>
            <a:ext cx="351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011360" y="1967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7280" y="4710240"/>
            <a:ext cx="1145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= 3 q L / 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809960" y="5257800"/>
            <a:ext cx="1281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es-ES_tradnl" sz="1400" spc="-1" strike="noStrike" baseline="-25000">
                <a:solidFill>
                  <a:srgbClr val="eaeaea"/>
                </a:solidFill>
                <a:latin typeface="Times New Roman"/>
              </a:rPr>
              <a:t>max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= 5 q L / 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19680" y="5629320"/>
            <a:ext cx="160128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M</a:t>
            </a:r>
            <a:r>
              <a:rPr b="0" lang="es-ES_tradnl" sz="1400" spc="-1" strike="noStrike" baseline="-25000">
                <a:solidFill>
                  <a:srgbClr val="cc3300"/>
                </a:solidFill>
                <a:latin typeface="Times New Roman"/>
              </a:rPr>
              <a:t>max+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= 9 q L</a:t>
            </a:r>
            <a:r>
              <a:rPr b="0" lang="es-ES_tradnl" sz="14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/ 1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816080" y="6010200"/>
            <a:ext cx="157212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33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 baseline="-25000">
                <a:solidFill>
                  <a:srgbClr val="cc3300"/>
                </a:solidFill>
                <a:latin typeface="Times New Roman"/>
              </a:rPr>
              <a:t>max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= q L</a:t>
            </a:r>
            <a:r>
              <a:rPr b="0" lang="es-ES_tradnl" sz="1400" spc="-1" strike="noStrike" baseline="30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/ 185 EI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19920" y="25146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43600" y="26668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43600" y="274320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5880" y="3200400"/>
            <a:ext cx="609840" cy="2430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6705000" y="3442680"/>
            <a:ext cx="609480" cy="2286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1520" y="26668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86400" y="3429000"/>
            <a:ext cx="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705720" y="3429000"/>
            <a:ext cx="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76920" y="3733920"/>
            <a:ext cx="1218960" cy="541080"/>
          </a:xfrm>
          <a:custGeom>
            <a:avLst/>
            <a:gdLst/>
            <a:ahLst/>
            <a:rect l="l" t="t" r="r" b="b"/>
            <a:pathLst>
              <a:path w="768" h="341">
                <a:moveTo>
                  <a:pt x="0" y="144"/>
                </a:moveTo>
                <a:cubicBezTo>
                  <a:pt x="140" y="240"/>
                  <a:pt x="278" y="331"/>
                  <a:pt x="384" y="336"/>
                </a:cubicBezTo>
                <a:cubicBezTo>
                  <a:pt x="490" y="341"/>
                  <a:pt x="572" y="230"/>
                  <a:pt x="636" y="174"/>
                </a:cubicBezTo>
                <a:cubicBezTo>
                  <a:pt x="700" y="118"/>
                  <a:pt x="740" y="36"/>
                  <a:pt x="768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095160" y="3733920"/>
            <a:ext cx="1219320" cy="541080"/>
          </a:xfrm>
          <a:custGeom>
            <a:avLst/>
            <a:gdLst/>
            <a:ahLst/>
            <a:rect l="l" t="t" r="r" b="b"/>
            <a:pathLst>
              <a:path w="768" h="341">
                <a:moveTo>
                  <a:pt x="0" y="144"/>
                </a:moveTo>
                <a:cubicBezTo>
                  <a:pt x="140" y="240"/>
                  <a:pt x="278" y="331"/>
                  <a:pt x="384" y="336"/>
                </a:cubicBezTo>
                <a:cubicBezTo>
                  <a:pt x="490" y="341"/>
                  <a:pt x="572" y="230"/>
                  <a:pt x="636" y="174"/>
                </a:cubicBezTo>
                <a:cubicBezTo>
                  <a:pt x="700" y="118"/>
                  <a:pt x="740" y="36"/>
                  <a:pt x="768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029200" y="3962520"/>
            <a:ext cx="762120" cy="228600"/>
            <a:chOff x="5029200" y="3962520"/>
            <a:chExt cx="762120" cy="228600"/>
          </a:xfrm>
        </p:grpSpPr>
        <p:sp>
          <p:nvSpPr>
            <p:cNvPr id="399" name=""/>
            <p:cNvSpPr/>
            <p:nvPr/>
          </p:nvSpPr>
          <p:spPr>
            <a:xfrm>
              <a:off x="5029200" y="3962520"/>
              <a:ext cx="0" cy="75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8148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3412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3868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91320" y="3962520"/>
              <a:ext cx="0" cy="75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6400440" y="3962520"/>
            <a:ext cx="762120" cy="228600"/>
            <a:chOff x="6400440" y="3962520"/>
            <a:chExt cx="762120" cy="228600"/>
          </a:xfrm>
        </p:grpSpPr>
        <p:sp>
          <p:nvSpPr>
            <p:cNvPr id="405" name=""/>
            <p:cNvSpPr/>
            <p:nvPr/>
          </p:nvSpPr>
          <p:spPr>
            <a:xfrm>
              <a:off x="7162560" y="3962520"/>
              <a:ext cx="0" cy="75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01028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5764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00440" y="3962520"/>
              <a:ext cx="0" cy="75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 flipV="1">
            <a:off x="6095880" y="2666520"/>
            <a:ext cx="0" cy="304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00200" y="2666880"/>
            <a:ext cx="351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76920" y="44197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72400" y="441972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3L/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05720" y="44197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943600" y="3962520"/>
            <a:ext cx="0" cy="533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248520" y="3962520"/>
            <a:ext cx="0" cy="533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7280" y="4419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29760" y="4419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/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47280" y="4419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/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03120" y="5029200"/>
            <a:ext cx="1145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= 5 q L / 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608520" y="5629320"/>
            <a:ext cx="126432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M</a:t>
            </a:r>
            <a:r>
              <a:rPr b="0" lang="es-ES_tradnl" sz="1400" spc="-1" strike="noStrike" baseline="-25000">
                <a:solidFill>
                  <a:srgbClr val="cc3300"/>
                </a:solidFill>
                <a:latin typeface="Times New Roman"/>
              </a:rPr>
              <a:t>max-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= q L</a:t>
            </a:r>
            <a:r>
              <a:rPr b="0" lang="es-ES_tradnl" sz="14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/ 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CEPTOS DE MECANICA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sistencia de Materia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625760" y="2500200"/>
            <a:ext cx="3632040" cy="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549440" y="250020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87720" y="250020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73120" y="265284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396800" y="2652840"/>
            <a:ext cx="7596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1473120" y="2652840"/>
            <a:ext cx="7632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1549440" y="2652840"/>
            <a:ext cx="7632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625400" y="2652840"/>
            <a:ext cx="7596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701720" y="2652840"/>
            <a:ext cx="7632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911760" y="2652840"/>
            <a:ext cx="304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11760" y="2728800"/>
            <a:ext cx="304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2576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3032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3524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54016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4472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4964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5456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5912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06404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25760" y="2271600"/>
            <a:ext cx="3632040" cy="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25760" y="2957400"/>
            <a:ext cx="3708360" cy="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7400" y="1600200"/>
            <a:ext cx="17488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TRES TRAM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25760" y="28051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39960" y="25113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625760" y="2805120"/>
            <a:ext cx="0" cy="1676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064040" y="2805120"/>
            <a:ext cx="0" cy="1676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16320" y="26668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25760" y="342900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44720" y="2957400"/>
            <a:ext cx="0" cy="15242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625760" y="3948120"/>
            <a:ext cx="3632040" cy="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25760" y="3186000"/>
            <a:ext cx="609480" cy="2430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2234520" y="3428280"/>
            <a:ext cx="609480" cy="2286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02440" y="4419720"/>
            <a:ext cx="5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.4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78440" y="334980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RTE (V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946120" y="3886200"/>
            <a:ext cx="109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MOMEN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(M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1625760" y="2652840"/>
            <a:ext cx="0" cy="3045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064040" y="2652840"/>
            <a:ext cx="0" cy="3045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068360" y="2666880"/>
            <a:ext cx="351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760200" y="1967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36840" y="4710240"/>
            <a:ext cx="1050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= 0.4 q 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576080" y="5410080"/>
            <a:ext cx="154332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M</a:t>
            </a:r>
            <a:r>
              <a:rPr b="0" lang="es-ES_tradnl" sz="1400" spc="-1" strike="noStrike" baseline="-25000">
                <a:solidFill>
                  <a:srgbClr val="cc3300"/>
                </a:solidFill>
                <a:latin typeface="Times New Roman"/>
              </a:rPr>
              <a:t>maxext+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= 0.08 q L</a:t>
            </a:r>
            <a:r>
              <a:rPr b="0" lang="es-ES_tradnl" sz="14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64560" y="5791320"/>
            <a:ext cx="144576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33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 baseline="-25000">
                <a:solidFill>
                  <a:srgbClr val="cc3300"/>
                </a:solidFill>
                <a:latin typeface="Times New Roman"/>
              </a:rPr>
              <a:t>max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= 0.0069q L</a:t>
            </a:r>
            <a:r>
              <a:rPr b="0" lang="es-ES_tradnl" sz="1400" spc="-1" strike="noStrike" baseline="30000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768760" y="25146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692440" y="26668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692440" y="274320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44720" y="3200400"/>
            <a:ext cx="609840" cy="2430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3453840" y="3442680"/>
            <a:ext cx="609480" cy="2286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160360" y="26668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35240" y="3429000"/>
            <a:ext cx="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54560" y="3429000"/>
            <a:ext cx="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625760" y="3733920"/>
            <a:ext cx="1218960" cy="541080"/>
          </a:xfrm>
          <a:custGeom>
            <a:avLst/>
            <a:gdLst/>
            <a:ahLst/>
            <a:rect l="l" t="t" r="r" b="b"/>
            <a:pathLst>
              <a:path w="768" h="341">
                <a:moveTo>
                  <a:pt x="0" y="144"/>
                </a:moveTo>
                <a:cubicBezTo>
                  <a:pt x="140" y="240"/>
                  <a:pt x="278" y="331"/>
                  <a:pt x="384" y="336"/>
                </a:cubicBezTo>
                <a:cubicBezTo>
                  <a:pt x="490" y="341"/>
                  <a:pt x="572" y="230"/>
                  <a:pt x="636" y="174"/>
                </a:cubicBezTo>
                <a:cubicBezTo>
                  <a:pt x="700" y="118"/>
                  <a:pt x="740" y="36"/>
                  <a:pt x="768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037760" y="3733920"/>
            <a:ext cx="1219320" cy="541080"/>
          </a:xfrm>
          <a:custGeom>
            <a:avLst/>
            <a:gdLst/>
            <a:ahLst/>
            <a:rect l="l" t="t" r="r" b="b"/>
            <a:pathLst>
              <a:path w="768" h="341">
                <a:moveTo>
                  <a:pt x="0" y="144"/>
                </a:moveTo>
                <a:cubicBezTo>
                  <a:pt x="140" y="240"/>
                  <a:pt x="278" y="331"/>
                  <a:pt x="384" y="336"/>
                </a:cubicBezTo>
                <a:cubicBezTo>
                  <a:pt x="490" y="341"/>
                  <a:pt x="572" y="230"/>
                  <a:pt x="636" y="174"/>
                </a:cubicBezTo>
                <a:cubicBezTo>
                  <a:pt x="700" y="118"/>
                  <a:pt x="740" y="36"/>
                  <a:pt x="768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778040" y="3962520"/>
            <a:ext cx="762120" cy="228600"/>
            <a:chOff x="1778040" y="3962520"/>
            <a:chExt cx="762120" cy="228600"/>
          </a:xfrm>
        </p:grpSpPr>
        <p:sp>
          <p:nvSpPr>
            <p:cNvPr id="478" name=""/>
            <p:cNvSpPr/>
            <p:nvPr/>
          </p:nvSpPr>
          <p:spPr>
            <a:xfrm>
              <a:off x="1778040" y="3962520"/>
              <a:ext cx="0" cy="75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93032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08296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8752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40160" y="3962520"/>
              <a:ext cx="0" cy="75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266720" y="3962520"/>
            <a:ext cx="762120" cy="228600"/>
            <a:chOff x="4266720" y="3962520"/>
            <a:chExt cx="762120" cy="228600"/>
          </a:xfrm>
        </p:grpSpPr>
        <p:sp>
          <p:nvSpPr>
            <p:cNvPr id="484" name=""/>
            <p:cNvSpPr/>
            <p:nvPr/>
          </p:nvSpPr>
          <p:spPr>
            <a:xfrm>
              <a:off x="5028840" y="3962520"/>
              <a:ext cx="0" cy="75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87656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2392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1936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66720" y="3962520"/>
              <a:ext cx="0" cy="75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 flipV="1">
            <a:off x="2844720" y="2666520"/>
            <a:ext cx="0" cy="304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49040" y="2666880"/>
            <a:ext cx="351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25760" y="44197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05680" y="4419720"/>
            <a:ext cx="5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.5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54560" y="44197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52680" y="5029200"/>
            <a:ext cx="1095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= 1.1 q L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971600" y="5410080"/>
            <a:ext cx="125964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M</a:t>
            </a:r>
            <a:r>
              <a:rPr b="0" lang="es-ES_tradnl" sz="1400" spc="-1" strike="noStrike" baseline="-25000">
                <a:solidFill>
                  <a:srgbClr val="cc3300"/>
                </a:solidFill>
                <a:latin typeface="Times New Roman"/>
              </a:rPr>
              <a:t>max-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= 0.1q L</a:t>
            </a:r>
            <a:r>
              <a:rPr b="0" lang="es-ES_tradnl" sz="14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038480" y="3200400"/>
            <a:ext cx="609840" cy="2430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4647600" y="3442680"/>
            <a:ext cx="609480" cy="2286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1620720" y="2666520"/>
            <a:ext cx="0" cy="304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99600" y="2666880"/>
            <a:ext cx="351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3733920"/>
            <a:ext cx="1218960" cy="304560"/>
          </a:xfrm>
          <a:custGeom>
            <a:avLst/>
            <a:gdLst/>
            <a:ahLst/>
            <a:rect l="l" t="t" r="r" b="b"/>
            <a:pathLst>
              <a:path w="768" h="192">
                <a:moveTo>
                  <a:pt x="0" y="0"/>
                </a:moveTo>
                <a:cubicBezTo>
                  <a:pt x="128" y="96"/>
                  <a:pt x="256" y="192"/>
                  <a:pt x="384" y="192"/>
                </a:cubicBezTo>
                <a:cubicBezTo>
                  <a:pt x="512" y="192"/>
                  <a:pt x="704" y="32"/>
                  <a:pt x="768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81480" y="25146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2743200"/>
            <a:ext cx="304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343400" y="22852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48320" y="22852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22852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2852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5278320" y="2666520"/>
            <a:ext cx="0" cy="304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957200" y="2666880"/>
            <a:ext cx="351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257800" y="2971800"/>
            <a:ext cx="0" cy="1447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44080" y="4419720"/>
            <a:ext cx="5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.4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648320" y="3429000"/>
            <a:ext cx="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71000" y="4419720"/>
            <a:ext cx="5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.5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44197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62520" y="3809880"/>
            <a:ext cx="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09880" y="3886200"/>
            <a:ext cx="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895480" y="3809880"/>
            <a:ext cx="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971800" y="3886200"/>
            <a:ext cx="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648320" y="44197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28840" y="5419800"/>
            <a:ext cx="161640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M</a:t>
            </a:r>
            <a:r>
              <a:rPr b="0" lang="es-ES_tradnl" sz="1400" spc="-1" strike="noStrike" baseline="-25000">
                <a:solidFill>
                  <a:srgbClr val="cc3300"/>
                </a:solidFill>
                <a:latin typeface="Times New Roman"/>
              </a:rPr>
              <a:t>maxint+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= 0.025 q L</a:t>
            </a:r>
            <a:r>
              <a:rPr b="0" lang="es-ES_tradnl" sz="14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04200" y="303228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4qL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3240" y="350532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5qL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12000" y="303228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6qL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012200" y="35654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6qL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82000" y="304812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5qL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258520" y="358128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4qL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14000" y="4191120"/>
            <a:ext cx="58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08qL</a:t>
            </a:r>
            <a:r>
              <a:rPr b="0" lang="en-US" sz="1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90680" y="365760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1qL</a:t>
            </a:r>
            <a:r>
              <a:rPr b="0" lang="en-US" sz="1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14680" y="364176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1qL</a:t>
            </a:r>
            <a:r>
              <a:rPr b="0" lang="en-US" sz="1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357000" y="4022640"/>
            <a:ext cx="64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025qL</a:t>
            </a:r>
            <a:r>
              <a:rPr b="0" lang="en-US" sz="1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6320" y="4191120"/>
            <a:ext cx="58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08qL</a:t>
            </a:r>
            <a:r>
              <a:rPr b="0" lang="en-US" sz="1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3T20:44:04Z</dcterms:created>
  <dc:creator>Alejandro Espinoza G.</dc:creator>
  <dc:description/>
  <dc:language>en-US</dc:language>
  <cp:lastModifiedBy>instapanel</cp:lastModifiedBy>
  <cp:lastPrinted>2000-07-12T07:28:50Z</cp:lastPrinted>
  <dcterms:modified xsi:type="dcterms:W3CDTF">2008-10-12T20:23:15Z</dcterms:modified>
  <cp:revision>246</cp:revision>
  <dc:subject/>
  <dc:title>Sin título de diapositiva</dc:title>
</cp:coreProperties>
</file>