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C4F-8445-4BD7-A4C0-3D33CC3F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567-9CC0-4127-A510-82FBCD84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B9F-DF9B-4035-94A8-0E3B273F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919-5B62-42C9-8579-176985A9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9D54-1428-4D0B-8560-1109E595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ED3A-3686-4DC6-956F-5AC2641A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CC48-18DB-4431-AEC8-00CC745A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5347-6A17-4199-82AA-DAF357B4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B131-A597-4BD7-8BD3-B2138517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4F52-F873-474D-AF1F-751B140B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B385-CEB3-435C-BFD0-09F4BCA1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BF7-52CA-4236-94F9-CC70D3F7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BC06-9838-4119-8BC2-BEB84E14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25A1-7416-4710-8034-5140E52B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855D-D0A4-4746-9204-B25E0F3A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E5DD-30BF-4C32-A86E-5361A539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A242-1285-4969-B310-87572CEE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BDA-94EE-45FE-9AB7-7550D094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01A-9BE7-42F0-BFC7-7348DB3C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195-0E85-4E71-8D00-FD8583FA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04C-858B-4C44-B1A2-C29DAA52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542-7A21-47CB-AB6E-834B371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AE0-49D7-428C-A55E-0A7F9AB5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92E-91AD-4A15-9D6E-6869152D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8050-4771-4A2D-A31E-2BBC9FF6085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C8E4-211E-401E-AF1A-E396ACBC46C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33440" y="149868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OYECTO DE ACERO CI62-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6880" y="4724280"/>
            <a:ext cx="85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FESORES: ELIZABETH PARRA / HORACIO PINOCH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2637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JEMPLO DEL DISEÑO DE ACERO DE PARED DELGA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EJEMPLO: Propiedades Efectivas</a:t>
            </a:r>
            <a:br>
              <a:rPr sz="3200"/>
            </a:b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Panel Knudson KR-18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205740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s-ES_tradnl" sz="1800" spc="-1" strike="noStrike" baseline="-25000">
                <a:solidFill>
                  <a:srgbClr val="eaeaea"/>
                </a:solidFill>
                <a:latin typeface="Times New Roman"/>
              </a:rPr>
              <a:t>ef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s-ES_tradnl" sz="18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934320" y="2417760"/>
                <a:ext cx="18288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010280" y="2743200"/>
                <a:ext cx="16336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k</m:t>
                                </m:r>
                              </m:e>
                            </m:rad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6477120" cy="4640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919200" y="16383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aeaea"/>
                </a:solidFill>
                <a:uFillTx/>
                <a:latin typeface="Times New Roman"/>
              </a:rPr>
              <a:t>Elemento 1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18480" y="3429000"/>
            <a:ext cx="12322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Datos: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w = 12.9   m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t   = 0.43   m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y 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= 37      Ks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E  = 29500Ks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18480" y="4572000"/>
            <a:ext cx="18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Elemento en compresión no atiesado: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k = 0.4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17760" y="5037120"/>
            <a:ext cx="18525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Symbol"/>
                <a:ea typeface="Symbol"/>
              </a:rPr>
              <a:t>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= 1.70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= 0.5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ef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= 12.9*0.511=6.59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276720"/>
            <a:ext cx="914400" cy="533160"/>
          </a:xfrm>
          <a:prstGeom prst="ellipse">
            <a:avLst/>
          </a:prstGeom>
          <a:noFill/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CEPTOS DE MECANICA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omento de Inercia (I) y Modulo Resistente (S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93760" y="1790640"/>
            <a:ext cx="1397160" cy="2247840"/>
          </a:xfrm>
          <a:custGeom>
            <a:avLst/>
            <a:gdLst/>
            <a:ahLst/>
            <a:rect l="l" t="t" r="r" b="b"/>
            <a:pathLst>
              <a:path w="1347" h="1800">
                <a:moveTo>
                  <a:pt x="242" y="216"/>
                </a:moveTo>
                <a:cubicBezTo>
                  <a:pt x="186" y="296"/>
                  <a:pt x="198" y="392"/>
                  <a:pt x="208" y="504"/>
                </a:cubicBezTo>
                <a:cubicBezTo>
                  <a:pt x="218" y="616"/>
                  <a:pt x="320" y="792"/>
                  <a:pt x="304" y="888"/>
                </a:cubicBezTo>
                <a:cubicBezTo>
                  <a:pt x="288" y="984"/>
                  <a:pt x="160" y="1008"/>
                  <a:pt x="112" y="1080"/>
                </a:cubicBezTo>
                <a:cubicBezTo>
                  <a:pt x="64" y="1152"/>
                  <a:pt x="0" y="1216"/>
                  <a:pt x="16" y="1320"/>
                </a:cubicBezTo>
                <a:cubicBezTo>
                  <a:pt x="32" y="1424"/>
                  <a:pt x="52" y="1629"/>
                  <a:pt x="208" y="1704"/>
                </a:cubicBezTo>
                <a:cubicBezTo>
                  <a:pt x="364" y="1779"/>
                  <a:pt x="774" y="1800"/>
                  <a:pt x="954" y="1772"/>
                </a:cubicBezTo>
                <a:cubicBezTo>
                  <a:pt x="1134" y="1744"/>
                  <a:pt x="1227" y="1653"/>
                  <a:pt x="1287" y="1538"/>
                </a:cubicBezTo>
                <a:cubicBezTo>
                  <a:pt x="1347" y="1423"/>
                  <a:pt x="1343" y="1184"/>
                  <a:pt x="1312" y="1080"/>
                </a:cubicBezTo>
                <a:cubicBezTo>
                  <a:pt x="1281" y="976"/>
                  <a:pt x="1139" y="962"/>
                  <a:pt x="1098" y="916"/>
                </a:cubicBezTo>
                <a:cubicBezTo>
                  <a:pt x="1057" y="870"/>
                  <a:pt x="1061" y="858"/>
                  <a:pt x="1065" y="805"/>
                </a:cubicBezTo>
                <a:cubicBezTo>
                  <a:pt x="1069" y="752"/>
                  <a:pt x="1109" y="685"/>
                  <a:pt x="1120" y="600"/>
                </a:cubicBezTo>
                <a:cubicBezTo>
                  <a:pt x="1131" y="515"/>
                  <a:pt x="1164" y="382"/>
                  <a:pt x="1131" y="294"/>
                </a:cubicBezTo>
                <a:cubicBezTo>
                  <a:pt x="1098" y="206"/>
                  <a:pt x="1018" y="117"/>
                  <a:pt x="920" y="72"/>
                </a:cubicBezTo>
                <a:cubicBezTo>
                  <a:pt x="822" y="27"/>
                  <a:pt x="657" y="0"/>
                  <a:pt x="544" y="24"/>
                </a:cubicBezTo>
                <a:cubicBezTo>
                  <a:pt x="431" y="48"/>
                  <a:pt x="298" y="136"/>
                  <a:pt x="242" y="216"/>
                </a:cubicBez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819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92160" y="30481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C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971800"/>
            <a:ext cx="2362320" cy="0"/>
          </a:xfrm>
          <a:prstGeom prst="line">
            <a:avLst/>
          </a:prstGeom>
          <a:ln w="15840">
            <a:solidFill>
              <a:srgbClr val="eaeaea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22096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1960" y="21304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cc3300"/>
                </a:solidFill>
                <a:latin typeface="Times New Roman"/>
              </a:rPr>
              <a:t>d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3200" y="198108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cc3300"/>
                </a:solidFill>
                <a:latin typeface="Times New Roman"/>
              </a:rPr>
              <a:t>dx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2209680"/>
            <a:ext cx="0" cy="762120"/>
          </a:xfrm>
          <a:prstGeom prst="line">
            <a:avLst/>
          </a:prstGeom>
          <a:ln w="9360">
            <a:solidFill>
              <a:srgbClr val="99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05480" y="272736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L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6200" y="272736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L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428840" y="4724280"/>
                <a:ext cx="13143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890720" y="2400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4680" y="426708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aeaea"/>
                </a:solidFill>
                <a:uFillTx/>
                <a:latin typeface="Times New Roman"/>
              </a:rPr>
              <a:t>Momento de Inerci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se define como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240" y="525780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 manera que se cumple la siguiente ecuació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69080" y="5646600"/>
            <a:ext cx="1433520" cy="4406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M = </a:t>
            </a:r>
            <a:r>
              <a:rPr b="0" lang="es-ES_tradnl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I/y</a:t>
            </a:r>
            <a:r>
              <a:rPr b="0" lang="es-ES_tradnl" sz="20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914040" y="40384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066680" y="2971440"/>
            <a:ext cx="0" cy="106668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1880" y="3162240"/>
            <a:ext cx="52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0" lang="es-ES_tradnl" sz="18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78400" y="156204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eaeaea"/>
                </a:solidFill>
                <a:uFillTx/>
                <a:latin typeface="Times New Roman"/>
              </a:rPr>
              <a:t>Módulo Resistente (S)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se define como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73560" y="2063880"/>
            <a:ext cx="1131840" cy="4406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S = I/y</a:t>
            </a:r>
            <a:r>
              <a:rPr b="0" lang="es-ES_tradnl" sz="20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6000" y="2057400"/>
            <a:ext cx="10375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 = </a:t>
            </a:r>
            <a:r>
              <a:rPr b="0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79840" y="320040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Times New Roman"/>
              </a:rPr>
              <a:t>Hipótesis de Navier: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 Secciones planas permanecen plan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4343400"/>
            <a:ext cx="1143000" cy="16765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5181480"/>
            <a:ext cx="3505320" cy="0"/>
          </a:xfrm>
          <a:prstGeom prst="line">
            <a:avLst/>
          </a:prstGeom>
          <a:ln w="15840">
            <a:solidFill>
              <a:srgbClr val="eaeaea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848720" y="4343040"/>
            <a:ext cx="761760" cy="1676880"/>
            <a:chOff x="7848720" y="4343040"/>
            <a:chExt cx="761760" cy="1676880"/>
          </a:xfrm>
        </p:grpSpPr>
        <p:sp>
          <p:nvSpPr>
            <p:cNvPr id="252" name=""/>
            <p:cNvSpPr/>
            <p:nvPr/>
          </p:nvSpPr>
          <p:spPr>
            <a:xfrm>
              <a:off x="8229600" y="4343400"/>
              <a:ext cx="0" cy="1676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7848720" y="4343040"/>
              <a:ext cx="761760" cy="1676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848720" y="4343400"/>
              <a:ext cx="380880" cy="457200"/>
              <a:chOff x="7848720" y="4343400"/>
              <a:chExt cx="380880" cy="45720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7848720" y="434340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7925040" y="4495680"/>
                <a:ext cx="3045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8001000" y="464832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8077320" y="480060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8229600" y="5562720"/>
              <a:ext cx="380880" cy="457200"/>
              <a:chOff x="8229600" y="5562720"/>
              <a:chExt cx="380880" cy="457200"/>
            </a:xfrm>
          </p:grpSpPr>
          <p:sp>
            <p:nvSpPr>
              <p:cNvPr id="260" name=""/>
              <p:cNvSpPr/>
              <p:nvPr/>
            </p:nvSpPr>
            <p:spPr>
              <a:xfrm>
                <a:off x="8229600" y="6019920"/>
                <a:ext cx="3808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229600" y="5867640"/>
                <a:ext cx="30456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229600" y="5715000"/>
                <a:ext cx="2286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229600" y="5562720"/>
                <a:ext cx="1522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7238880" y="434340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857640" y="4343040"/>
            <a:ext cx="76212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4343400"/>
            <a:ext cx="380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6019920"/>
            <a:ext cx="381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5181480"/>
            <a:ext cx="381240" cy="838440"/>
          </a:xfrm>
          <a:prstGeom prst="rtTriangle">
            <a:avLst/>
          </a:prstGeom>
          <a:solidFill>
            <a:srgbClr val="65b2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858000" y="4343400"/>
            <a:ext cx="380880" cy="838080"/>
          </a:xfrm>
          <a:prstGeom prst="rtTriangle">
            <a:avLst/>
          </a:prstGeom>
          <a:solidFill>
            <a:srgbClr val="65b2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49000" y="3943440"/>
            <a:ext cx="321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s-ES_tradnl" sz="1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43920" y="5943600"/>
            <a:ext cx="30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06200" y="3962520"/>
            <a:ext cx="35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s-ES_tradnl" sz="1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942320" y="5943600"/>
            <a:ext cx="334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es-ES_tradnl" sz="1600" spc="-1" strike="noStrike" baseline="-25000">
                <a:solidFill>
                  <a:srgbClr val="eaeaea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6134040" y="4800600"/>
            <a:ext cx="914400" cy="8380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w="21600" h="21600">
                <a:moveTo>
                  <a:pt x="2513" y="10309"/>
                </a:moveTo>
                <a:arcTo wR="-8302" hR="-8302" stAng="-10596578" swAng="-11003422"/>
                <a:lnTo>
                  <a:pt x="0" y="10800"/>
                </a:lnTo>
                <a:arcTo wR="10800" hR="10800" stAng="10800000" swAng="11003422"/>
                <a:lnTo>
                  <a:pt x="24276" y="11598"/>
                </a:lnTo>
                <a:lnTo>
                  <a:pt x="20101" y="15307"/>
                </a:lnTo>
                <a:lnTo>
                  <a:pt x="16392" y="1113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0640" y="560376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1478" t="5582" r="681" b="3937"/>
          <a:stretch/>
        </p:blipFill>
        <p:spPr>
          <a:xfrm>
            <a:off x="1295280" y="1523880"/>
            <a:ext cx="6553440" cy="2382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rcRect l="1157" t="2615" r="0" b="2879"/>
          <a:stretch/>
        </p:blipFill>
        <p:spPr>
          <a:xfrm>
            <a:off x="1371600" y="4038480"/>
            <a:ext cx="647712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CEPTOS DE MECANICA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61760" y="2285280"/>
            <a:ext cx="2819520" cy="457920"/>
            <a:chOff x="761760" y="2285280"/>
            <a:chExt cx="2819520" cy="457920"/>
          </a:xfrm>
        </p:grpSpPr>
        <p:sp>
          <p:nvSpPr>
            <p:cNvPr id="281" name=""/>
            <p:cNvSpPr/>
            <p:nvPr/>
          </p:nvSpPr>
          <p:spPr>
            <a:xfrm>
              <a:off x="990720" y="2514600"/>
              <a:ext cx="24382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14400" y="251460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52680" y="251460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8080" y="2666880"/>
              <a:ext cx="3049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1760" y="2666880"/>
              <a:ext cx="7596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38080" y="2666880"/>
              <a:ext cx="7632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914400" y="2666880"/>
              <a:ext cx="7632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990360" y="2666880"/>
              <a:ext cx="7596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066680" y="2666880"/>
              <a:ext cx="76320" cy="76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720" y="2666880"/>
              <a:ext cx="3045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720" y="2743200"/>
              <a:ext cx="3045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9072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020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0512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0968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1460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2408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29000" y="228528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2286000"/>
              <a:ext cx="24382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990720" y="29718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30720" y="1614600"/>
            <a:ext cx="139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UN TRAM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28195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5280" y="2525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2819520"/>
            <a:ext cx="0" cy="1676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2819520"/>
            <a:ext cx="0" cy="1676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884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4290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200400"/>
            <a:ext cx="243828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396252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3962520"/>
            <a:ext cx="2438280" cy="304560"/>
          </a:xfrm>
          <a:custGeom>
            <a:avLst/>
            <a:gdLst/>
            <a:ahLst/>
            <a:rect l="l" t="t" r="r" b="b"/>
            <a:pathLst>
              <a:path w="1536" h="192">
                <a:moveTo>
                  <a:pt x="0" y="0"/>
                </a:moveTo>
                <a:cubicBezTo>
                  <a:pt x="256" y="96"/>
                  <a:pt x="512" y="192"/>
                  <a:pt x="768" y="192"/>
                </a:cubicBezTo>
                <a:cubicBezTo>
                  <a:pt x="1024" y="192"/>
                  <a:pt x="1280" y="96"/>
                  <a:pt x="1536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295280" y="3962520"/>
            <a:ext cx="762120" cy="304560"/>
            <a:chOff x="1295280" y="3962520"/>
            <a:chExt cx="762120" cy="304560"/>
          </a:xfrm>
        </p:grpSpPr>
        <p:sp>
          <p:nvSpPr>
            <p:cNvPr id="315" name=""/>
            <p:cNvSpPr/>
            <p:nvPr/>
          </p:nvSpPr>
          <p:spPr>
            <a:xfrm>
              <a:off x="144792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0020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9528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0512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5740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362320" y="3962520"/>
            <a:ext cx="761760" cy="304560"/>
            <a:chOff x="2362320" y="3962520"/>
            <a:chExt cx="761760" cy="304560"/>
          </a:xfrm>
        </p:grpSpPr>
        <p:sp>
          <p:nvSpPr>
            <p:cNvPr id="322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195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3962520"/>
              <a:ext cx="0" cy="152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1460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2320" y="3962520"/>
              <a:ext cx="0" cy="304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990720" y="3200400"/>
            <a:ext cx="121896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208960" y="3428280"/>
            <a:ext cx="121932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4419720"/>
            <a:ext cx="2590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828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1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0920" y="33638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RTE (V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07840" y="3911760"/>
            <a:ext cx="109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OMEN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42900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30800" y="27432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5160" y="1981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08640" y="4724280"/>
            <a:ext cx="145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R = V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= q L / 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2240" y="501804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V(x) = q (L/2-x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1880" y="532296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M(x) = qx (L-x) / 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31680" y="5627520"/>
            <a:ext cx="122904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29520" y="5996160"/>
            <a:ext cx="16621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5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384 E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25002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25002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38880" y="250020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265284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796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72428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80060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7656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95288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62920" y="265284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272880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1028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1520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22716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9574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7640" y="1600200"/>
            <a:ext cx="1645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DOS TRAM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8051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91480" y="2511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520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6748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4290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5880" y="2957400"/>
            <a:ext cx="0" cy="1524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394812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186000"/>
            <a:ext cx="60948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5485680" y="34282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441972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3L/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77120" y="33498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RTE (V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4040" y="3897360"/>
            <a:ext cx="109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OMEN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87692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31520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9520" y="272880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11360" y="1967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7280" y="4710240"/>
            <a:ext cx="114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3 q L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09960" y="5257800"/>
            <a:ext cx="12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es-ES_tradnl" sz="1400" spc="-1" strike="noStrike" baseline="-25000">
                <a:solidFill>
                  <a:srgbClr val="eaeaea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= 5 q L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19680" y="5629320"/>
            <a:ext cx="160128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+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9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1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16080" y="6010200"/>
            <a:ext cx="15721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185 E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25146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43600" y="2666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43600" y="2743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3200400"/>
            <a:ext cx="60984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6705000" y="34426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152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8640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0572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6920" y="3733920"/>
            <a:ext cx="121896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95160" y="3733920"/>
            <a:ext cx="121932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029200" y="3962520"/>
            <a:ext cx="762120" cy="228600"/>
            <a:chOff x="5029200" y="3962520"/>
            <a:chExt cx="762120" cy="228600"/>
          </a:xfrm>
        </p:grpSpPr>
        <p:sp>
          <p:nvSpPr>
            <p:cNvPr id="399" name=""/>
            <p:cNvSpPr/>
            <p:nvPr/>
          </p:nvSpPr>
          <p:spPr>
            <a:xfrm>
              <a:off x="502920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341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386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9132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400440" y="3962520"/>
            <a:ext cx="762120" cy="228600"/>
            <a:chOff x="6400440" y="3962520"/>
            <a:chExt cx="762120" cy="228600"/>
          </a:xfrm>
        </p:grpSpPr>
        <p:sp>
          <p:nvSpPr>
            <p:cNvPr id="405" name=""/>
            <p:cNvSpPr/>
            <p:nvPr/>
          </p:nvSpPr>
          <p:spPr>
            <a:xfrm>
              <a:off x="716256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102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764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0044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 flipV="1">
            <a:off x="609588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0020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72400" y="441972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3L/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057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43600" y="39625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48520" y="39625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4419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297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4728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/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3120" y="5029200"/>
            <a:ext cx="114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5 q L / 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08520" y="5629320"/>
            <a:ext cx="12643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-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/ 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CEPTOS DE MECANICA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25760" y="2500200"/>
            <a:ext cx="363204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49440" y="25002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87720" y="250020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73120" y="265284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39680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47312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54944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25400" y="2652840"/>
            <a:ext cx="7596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701720" y="2652840"/>
            <a:ext cx="76320" cy="75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11760" y="265284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11760" y="272880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2576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303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3524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4016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447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5456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5912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64040" y="2270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5760" y="2271600"/>
            <a:ext cx="363204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25760" y="2957400"/>
            <a:ext cx="370836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7400" y="1600200"/>
            <a:ext cx="17488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RES TRAM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25760" y="28051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39960" y="2511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2576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64040" y="2805120"/>
            <a:ext cx="0" cy="1676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1632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25760" y="342900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44720" y="2957400"/>
            <a:ext cx="0" cy="1524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25760" y="3948120"/>
            <a:ext cx="363204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5760" y="3186000"/>
            <a:ext cx="60948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2234520" y="34282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0244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4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78440" y="33498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RTE (V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46120" y="3886200"/>
            <a:ext cx="109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OMEN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62576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064040" y="265284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6836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60200" y="1967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36840" y="4710240"/>
            <a:ext cx="1050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0.4 q 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76080" y="5410080"/>
            <a:ext cx="154332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ext+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08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4560" y="5791320"/>
            <a:ext cx="144576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0069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68760" y="25146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92440" y="2666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92440" y="27432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44720" y="3200400"/>
            <a:ext cx="60984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3453840" y="34426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60360" y="2666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3524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5456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25760" y="3733920"/>
            <a:ext cx="121896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037760" y="3733920"/>
            <a:ext cx="1219320" cy="541080"/>
          </a:xfrm>
          <a:custGeom>
            <a:avLst/>
            <a:gdLst/>
            <a:ahLst/>
            <a:rect l="l" t="t" r="r" b="b"/>
            <a:pathLst>
              <a:path w="768" h="341">
                <a:moveTo>
                  <a:pt x="0" y="144"/>
                </a:moveTo>
                <a:cubicBezTo>
                  <a:pt x="140" y="240"/>
                  <a:pt x="278" y="331"/>
                  <a:pt x="384" y="336"/>
                </a:cubicBezTo>
                <a:cubicBezTo>
                  <a:pt x="490" y="341"/>
                  <a:pt x="572" y="230"/>
                  <a:pt x="636" y="174"/>
                </a:cubicBezTo>
                <a:cubicBezTo>
                  <a:pt x="700" y="118"/>
                  <a:pt x="740" y="36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778040" y="3962520"/>
            <a:ext cx="762120" cy="228600"/>
            <a:chOff x="1778040" y="3962520"/>
            <a:chExt cx="762120" cy="228600"/>
          </a:xfrm>
        </p:grpSpPr>
        <p:sp>
          <p:nvSpPr>
            <p:cNvPr id="478" name=""/>
            <p:cNvSpPr/>
            <p:nvPr/>
          </p:nvSpPr>
          <p:spPr>
            <a:xfrm>
              <a:off x="177804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303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8296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75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4016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266720" y="3962520"/>
            <a:ext cx="762120" cy="228600"/>
            <a:chOff x="4266720" y="3962520"/>
            <a:chExt cx="762120" cy="228600"/>
          </a:xfrm>
        </p:grpSpPr>
        <p:sp>
          <p:nvSpPr>
            <p:cNvPr id="484" name=""/>
            <p:cNvSpPr/>
            <p:nvPr/>
          </p:nvSpPr>
          <p:spPr>
            <a:xfrm>
              <a:off x="502884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7656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2392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19360" y="3962520"/>
              <a:ext cx="0" cy="2286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6720" y="3962520"/>
              <a:ext cx="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 flipV="1">
            <a:off x="28447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4904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2576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568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5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5456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52680" y="5029200"/>
            <a:ext cx="109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1.1 q L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71600" y="5410080"/>
            <a:ext cx="125964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-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1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3200400"/>
            <a:ext cx="609840" cy="2430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4647600" y="3442680"/>
            <a:ext cx="609480" cy="2286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6207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9960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218960" cy="304560"/>
          </a:xfrm>
          <a:custGeom>
            <a:avLst/>
            <a:gdLst/>
            <a:ahLst/>
            <a:rect l="l" t="t" r="r" b="b"/>
            <a:pathLst>
              <a:path w="768" h="192">
                <a:moveTo>
                  <a:pt x="0" y="0"/>
                </a:moveTo>
                <a:cubicBezTo>
                  <a:pt x="128" y="96"/>
                  <a:pt x="256" y="192"/>
                  <a:pt x="384" y="192"/>
                </a:cubicBezTo>
                <a:cubicBezTo>
                  <a:pt x="512" y="192"/>
                  <a:pt x="704" y="32"/>
                  <a:pt x="768" y="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1480" y="2514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274320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340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4832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2852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278320" y="2666520"/>
            <a:ext cx="0" cy="30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957200" y="266688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57800" y="2971800"/>
            <a:ext cx="0" cy="1447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4408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4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3429000"/>
            <a:ext cx="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71000" y="4419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.5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2520" y="38098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388620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95480" y="3809880"/>
            <a:ext cx="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388620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648320" y="44197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28840" y="5419800"/>
            <a:ext cx="1616400" cy="33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M</a:t>
            </a:r>
            <a:r>
              <a:rPr b="0" lang="es-ES_tradnl" sz="1400" spc="-1" strike="noStrike" baseline="-25000">
                <a:solidFill>
                  <a:srgbClr val="cc3300"/>
                </a:solidFill>
                <a:latin typeface="Times New Roman"/>
              </a:rPr>
              <a:t>maxint+</a:t>
            </a:r>
            <a:r>
              <a:rPr b="0" lang="es-ES_tradnl" sz="1400" spc="-1" strike="noStrike">
                <a:solidFill>
                  <a:srgbClr val="cc3300"/>
                </a:solidFill>
                <a:latin typeface="Times New Roman"/>
              </a:rPr>
              <a:t> = 0.025 q L</a:t>
            </a:r>
            <a:r>
              <a:rPr b="0" lang="es-ES_tradnl" sz="1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04200" y="3032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4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3240" y="35053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5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12000" y="3032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6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12200" y="3565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6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2000" y="30481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5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58520" y="3581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4qL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14000" y="419112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08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90680" y="365760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1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14680" y="364176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1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57000" y="4022640"/>
            <a:ext cx="64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025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6320" y="419112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0.08qL</a:t>
            </a:r>
            <a:r>
              <a:rPr b="0" lang="en-US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3T20:44:04Z</dcterms:created>
  <dc:creator>Alejandro Espinoza G.</dc:creator>
  <dc:description/>
  <dc:language>en-US</dc:language>
  <cp:lastModifiedBy>instapanel</cp:lastModifiedBy>
  <cp:lastPrinted>2000-07-12T07:28:50Z</cp:lastPrinted>
  <dcterms:modified xsi:type="dcterms:W3CDTF">2008-10-12T20:23:15Z</dcterms:modified>
  <cp:revision>246</cp:revision>
  <dc:subject/>
  <dc:title>Sin título de diapositiva</dc:title>
</cp:coreProperties>
</file>