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2E25-99A4-4B62-8BF4-6EE201806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9964-2E75-435A-9967-C4200ABA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E659-0D8D-46CE-BA14-B019DD610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63B5-EBE0-42FA-A28A-6018ACEFE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74F5-CCD0-4E04-8DAC-D47DFDD6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A128-77E3-4238-84C8-7E3BFE2D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CA3C-0AEB-452D-B097-57F0F4BB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2B00-BDA6-4E0C-BA04-596D77E8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FDB1-EDD6-43D9-B426-4D7C7B63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D19A-C872-4FC5-BF2D-B399FBB8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AE39-751C-4C2C-8F09-43176B83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00F8-F9B9-46CC-ACE6-610989D3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11D1-1203-4F74-9D85-68C697AA0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CI61Q/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PRINCIPIOS DE REMEDIACION Y RESTAU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CLAS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INTRODUC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SEMESTRE PRIMAVERA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Comic Sans MS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roveer al alumno de los fundamentos de los mecanismos asociados con remediación y restauración de suelos y aguas subterráneas, los que le permitan abordar el diagnóstico y solución de problemas complejos, asociados con contaminación de suelos y aguas subterrán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MI 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  9:00 - 12:00  (Cátedra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TEM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INTRODUC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SUELO Y SISTEMAS ACUIF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NSPORTE Y DESTINO DE CONTAMINANTES EN AGUAS SUBTERRAN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MICROBIOLOGIA, METABOLISMO Y BIOQUI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GRADACION DE COMPUESTOS SELECCION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GRADACION Y ATENUACION NAT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TAMIENTO IN SI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REMEDIACION EN FASE SO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REMEDIACION EN FASE SOLIDO/LIQU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TAMIENTO BIOLOGICO EN FASE GASE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OTROS PROC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6T18:12:03Z</dcterms:created>
  <dc:creator>Carlos Espinoza</dc:creator>
  <dc:description/>
  <dc:language>en-US</dc:language>
  <cp:lastModifiedBy>Carlos</cp:lastModifiedBy>
  <cp:lastPrinted>2004-08-06T18:14:12Z</cp:lastPrinted>
  <dcterms:modified xsi:type="dcterms:W3CDTF">2008-08-11T08:52:37Z</dcterms:modified>
  <cp:revision>26</cp:revision>
  <dc:subject/>
  <dc:title>CI71M PRINCIPIOS DE REMEDIACION Y RESTAURACION</dc:title>
</cp:coreProperties>
</file>