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017-3F44-4BBD-B7D1-8B36238A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8A79-64B6-4D8A-A6C4-BB4C2951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1FB-D456-46B4-95E7-FF3D7D28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A653-31B9-4657-8C09-F182FA69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2C7A-A9AE-459A-9F49-1FB7EC78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CAF3-0FB3-4B73-9F5D-3365E662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F49-D051-4134-A41E-7A46BAF6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4579-5D82-45DE-A593-5720E2E0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400-997C-4B23-87CD-791031BC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5ED-DB6A-4B5B-BBB4-8DAC939A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82B5-F2B4-463E-92C8-A899BAD9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FF03-5E32-4F5A-BB6E-57BE857F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E3D6-D062-4683-9306-2C01CBA6D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EMESTRE PRIMAVERA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veer al alumno de los fundamentos de los mecanismos asociados con remediación y restauración de suelos y aguas subterráneas, los que le permitan abordar el diagnóstico y solución de problemas complejos, asociados con contaminación de suelos y aguas subterrá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MI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 9:00 - 12:00  (Cátedra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UELO Y SISTEMAS ACUI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 Y DESTINO DE CONTAMINANTES EN AGUAS SUBTERRA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CROBIOLOGIA, METABOLISMO Y BIOQU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DE COMPUESTO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Y ATENUACION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O/LIQ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BIOLOGICO EN FASE GAS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TR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8:12:03Z</dcterms:created>
  <dc:creator>Carlos Espinoza</dc:creator>
  <dc:description/>
  <dc:language>en-US</dc:language>
  <cp:lastModifiedBy>Carlos</cp:lastModifiedBy>
  <cp:lastPrinted>2004-08-06T18:14:12Z</cp:lastPrinted>
  <dcterms:modified xsi:type="dcterms:W3CDTF">2008-08-11T08:52:37Z</dcterms:modified>
  <cp:revision>26</cp:revision>
  <dc:subject/>
  <dc:title>CI71M PRINCIPIOS DE REMEDIACION Y RESTAURACION</dc:title>
</cp:coreProperties>
</file>