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746-8914-4067-A3D8-026431C2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2F8C-E17A-4AD9-B69D-A78321EC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836-83F8-433F-A57C-ABBCF477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FC3-34E8-48C1-9642-9ACDF54D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FBFF-147D-47AE-B2F4-407B1C76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959A-8BCE-4FE0-9D7F-386B18A9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454-A74B-480D-AC73-E420AB70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FF9-F1CB-43FA-BF74-1746C54F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8DE-2B38-4E5E-84AE-8187AB06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E7B4-DCFE-4CF4-A30C-5E3439B7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4FFE-F61A-4EC7-BF15-7E077D02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48F-E6D4-41FB-94AA-3647858A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A218-F08B-43DA-B8DD-2B159FB9A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L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EMESTRE PRIMAVERA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veer al alumno de los fundamentos de los mecanismos asociados con remediación y restauración de suelos y aguas subterráneas, los que le permitan abordar el diagnóstico y solución de problemas complejos, asociados con contaminación de suelos y aguas subterrá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MI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 9:00 - 12:00  (Cátedra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UELO Y SISTEMAS ACUI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NSPORTE Y DESTINO DE CONTAMINANTES EN AGUAS SUBTERRA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CROBIOLOGIA, METABOLISMO Y BIOQUI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DE COMPUESTO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Y ATENUACION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IN S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O/LIQ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BIOLOGICO EN FASE GASE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TR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8:12:03Z</dcterms:created>
  <dc:creator>Carlos Espinoza</dc:creator>
  <dc:description/>
  <dc:language>en-US</dc:language>
  <cp:lastModifiedBy>Carlos</cp:lastModifiedBy>
  <cp:lastPrinted>2004-08-06T18:14:12Z</cp:lastPrinted>
  <dcterms:modified xsi:type="dcterms:W3CDTF">2008-08-11T08:52:37Z</dcterms:modified>
  <cp:revision>26</cp:revision>
  <dc:subject/>
  <dc:title>CI71M PRINCIPIOS DE REMEDIACION Y RESTAURACION</dc:title>
</cp:coreProperties>
</file>