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E5A-5ADA-42F5-A0DB-D59AE40A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4B4-182F-42BB-8F6D-C89DB761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BD3-9E21-4087-8818-E4142AA9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7EA-353D-439A-A248-72F79D11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26B-14D3-4908-800E-D0A1FA65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C57-2DD0-487C-BCB8-9FFBDDDB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5A8-A07D-4E87-8727-E489F8DA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1E4-4472-4A89-8082-6CD8B7C1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9BF-9E68-4ADF-B930-46B2AFB9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FAF-D1DE-414E-930C-EF4849D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9DA-9E98-410C-84CF-A5B9F8A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D62-C192-410C-BFD4-8871FA0D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5EF3-1EC8-46E3-9657-1BBB61914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</cp:lastModifiedBy>
  <cp:lastPrinted>2004-08-06T18:14:12Z</cp:lastPrinted>
  <dcterms:modified xsi:type="dcterms:W3CDTF">2008-08-11T08:52:37Z</dcterms:modified>
  <cp:revision>26</cp:revision>
  <dc:subject/>
  <dc:title>CI71M PRINCIPIOS DE REMEDIACION Y RESTAURACION</dc:title>
</cp:coreProperties>
</file>