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AA8-39DA-4F7B-9A0B-6AB867D1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93C-EAB2-4258-95EC-67941422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45C-174D-451B-912B-9B38BA94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8FF-D1F6-4182-BA7D-B8C27BD3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665-7C92-4B12-AB1D-2F3362D2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E49-F2E9-41C1-AA18-01AABD99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A62-EDD7-4670-A961-52AB08B2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5DE-7D6B-411C-9707-21BDC703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278D-3E35-44F9-B24F-B3CCF747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7B6-BB3E-4B6F-B2A7-9D778E6E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4F6-8180-4A7D-B242-E4627AF9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FFD-AA58-4EE8-BDE8-03A4CC90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F00B-EC7F-4D4F-AB54-D27C39740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92428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971640" y="763560"/>
            <a:ext cx="720072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984000">
            <a:off x="3708360" y="1324080"/>
            <a:ext cx="287280" cy="287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08760" y="2557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7092720" y="292392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7114680" y="2454120"/>
            <a:ext cx="172080" cy="1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627280" y="1268280"/>
            <a:ext cx="2335320" cy="1528560"/>
            <a:chOff x="2627280" y="1268280"/>
            <a:chExt cx="2335320" cy="1528560"/>
          </a:xfrm>
        </p:grpSpPr>
        <p:sp>
          <p:nvSpPr>
            <p:cNvPr id="48" name=""/>
            <p:cNvSpPr/>
            <p:nvPr/>
          </p:nvSpPr>
          <p:spPr>
            <a:xfrm>
              <a:off x="3851280" y="1501560"/>
              <a:ext cx="0" cy="129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2627280" y="1268280"/>
              <a:ext cx="2335320" cy="1459440"/>
              <a:chOff x="2627280" y="1268280"/>
              <a:chExt cx="2335320" cy="1459440"/>
            </a:xfrm>
          </p:grpSpPr>
          <p:sp>
            <p:nvSpPr>
              <p:cNvPr id="50" name=""/>
              <p:cNvSpPr/>
              <p:nvPr/>
            </p:nvSpPr>
            <p:spPr>
              <a:xfrm flipH="1">
                <a:off x="3564000" y="1501560"/>
                <a:ext cx="287280" cy="1224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44080" y="1522800"/>
                <a:ext cx="374760" cy="101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95640" y="126828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mg sen </a:t>
                </a:r>
                <a:r>
                  <a:rPr b="1" i="1" lang="es-ES_tradnl" sz="1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627280" y="242064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mg cos </a:t>
                </a:r>
                <a:r>
                  <a:rPr b="1" i="1" lang="es-ES_tradnl" sz="1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35440" y="2077920"/>
                <a:ext cx="44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m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3277800" y="3406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055600" y="476280"/>
            <a:ext cx="1835280" cy="1540440"/>
            <a:chOff x="2055600" y="476280"/>
            <a:chExt cx="1835280" cy="1540440"/>
          </a:xfrm>
        </p:grpSpPr>
        <p:sp>
          <p:nvSpPr>
            <p:cNvPr id="57" name=""/>
            <p:cNvSpPr/>
            <p:nvPr/>
          </p:nvSpPr>
          <p:spPr>
            <a:xfrm flipH="1">
              <a:off x="3781440" y="1488960"/>
              <a:ext cx="109440" cy="351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055600" y="476280"/>
              <a:ext cx="1816200" cy="1540440"/>
              <a:chOff x="2055600" y="476280"/>
              <a:chExt cx="1816200" cy="1540440"/>
            </a:xfrm>
          </p:grpSpPr>
          <p:sp>
            <p:nvSpPr>
              <p:cNvPr id="59" name=""/>
              <p:cNvSpPr/>
              <p:nvPr/>
            </p:nvSpPr>
            <p:spPr>
              <a:xfrm flipH="1">
                <a:off x="2576520" y="1484280"/>
                <a:ext cx="1295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2647800" y="1052280"/>
                <a:ext cx="1224000" cy="431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2055600" y="1195560"/>
                <a:ext cx="515880" cy="572040"/>
                <a:chOff x="2055600" y="1195560"/>
                <a:chExt cx="515880" cy="5720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2055600" y="119556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ff3300"/>
                      </a:solidFill>
                      <a:latin typeface="Arial"/>
                    </a:rPr>
                    <a:t>mV</a:t>
                  </a:r>
                  <a:r>
                    <a:rPr b="1" i="1" lang="es-ES_tradnl" sz="1400" spc="-1" strike="noStrike" baseline="30000">
                      <a:solidFill>
                        <a:srgbClr val="ff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125800" y="14605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24000" y="148428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2509560" y="476280"/>
                <a:ext cx="1053720" cy="572040"/>
                <a:chOff x="2509560" y="476280"/>
                <a:chExt cx="1053720" cy="5720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2913120" y="595080"/>
                  <a:ext cx="650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Arial"/>
                    </a:rPr>
                    <a:t>cos </a:t>
                  </a: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2509560" y="476280"/>
                  <a:ext cx="515880" cy="572040"/>
                  <a:chOff x="2509560" y="476280"/>
                  <a:chExt cx="515880" cy="57204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2509560" y="476280"/>
                    <a:ext cx="515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ff3300"/>
                        </a:solidFill>
                        <a:latin typeface="Arial"/>
                      </a:rPr>
                      <a:t>mV</a:t>
                    </a:r>
                    <a:r>
                      <a:rPr b="1" i="1" lang="es-ES_tradnl" sz="1400" spc="-1" strike="noStrike" baseline="30000">
                        <a:solidFill>
                          <a:srgbClr val="ff33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2579760" y="741240"/>
                    <a:ext cx="308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3300"/>
                        </a:solidFill>
                        <a:latin typeface="Arial"/>
                      </a:rPr>
                      <a:t>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2577960" y="765000"/>
                    <a:ext cx="36036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" name=""/>
              <p:cNvGrpSpPr/>
              <p:nvPr/>
            </p:nvGrpSpPr>
            <p:grpSpPr>
              <a:xfrm>
                <a:off x="2620800" y="1444680"/>
                <a:ext cx="1037880" cy="572040"/>
                <a:chOff x="2620800" y="1444680"/>
                <a:chExt cx="1037880" cy="5720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008520" y="1555920"/>
                  <a:ext cx="650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Arial"/>
                    </a:rPr>
                    <a:t>sen </a:t>
                  </a: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"/>
                <p:cNvGrpSpPr/>
                <p:nvPr/>
              </p:nvGrpSpPr>
              <p:grpSpPr>
                <a:xfrm>
                  <a:off x="2620800" y="1444680"/>
                  <a:ext cx="515880" cy="572040"/>
                  <a:chOff x="2620800" y="1444680"/>
                  <a:chExt cx="515880" cy="57204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620800" y="1444680"/>
                    <a:ext cx="515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ff3300"/>
                        </a:solidFill>
                        <a:latin typeface="Arial"/>
                      </a:rPr>
                      <a:t>mV</a:t>
                    </a:r>
                    <a:r>
                      <a:rPr b="1" i="1" lang="es-ES_tradnl" sz="1400" spc="-1" strike="noStrike" baseline="30000">
                        <a:solidFill>
                          <a:srgbClr val="ff33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691000" y="1709640"/>
                    <a:ext cx="308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3300"/>
                        </a:solidFill>
                        <a:latin typeface="Arial"/>
                      </a:rPr>
                      <a:t>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689200" y="1733400"/>
                    <a:ext cx="36036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46080" y="3068640"/>
                <a:ext cx="4518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944640" y="395136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961920" y="4815000"/>
                <a:ext cx="32590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tse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3851280" y="1411200"/>
            <a:ext cx="3131640" cy="572040"/>
            <a:chOff x="3851280" y="1411200"/>
            <a:chExt cx="3131640" cy="572040"/>
          </a:xfrm>
        </p:grpSpPr>
        <p:sp>
          <p:nvSpPr>
            <p:cNvPr id="81" name=""/>
            <p:cNvSpPr/>
            <p:nvPr/>
          </p:nvSpPr>
          <p:spPr>
            <a:xfrm>
              <a:off x="3851280" y="1484280"/>
              <a:ext cx="720720" cy="2160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0280" y="1535040"/>
              <a:ext cx="249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</a:rPr>
                <a:t>(</a:t>
              </a: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mg cos </a:t>
              </a:r>
              <a:r>
                <a:rPr b="1" i="1" lang="es-ES_tradnl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</a:rPr>
                <a:t> +           </a:t>
              </a:r>
              <a:r>
                <a:rPr b="1" i="1" lang="es-ES_tradnl" sz="1400" spc="-1" strike="noStrike">
                  <a:solidFill>
                    <a:srgbClr val="ff3300"/>
                  </a:solidFill>
                  <a:latin typeface="Arial"/>
                </a:rPr>
                <a:t>sen </a:t>
              </a:r>
              <a:r>
                <a:rPr b="1" i="1" lang="es-ES_tradnl" sz="1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</a:t>
              </a: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</a:rPr>
                <a:t>) </a:t>
              </a:r>
              <a:r>
                <a:rPr b="1" i="1" lang="es-ES_tradnl" sz="1000" spc="-1" strike="noStrike">
                  <a:solidFill>
                    <a:srgbClr val="00cc00"/>
                  </a:solidFill>
                  <a:latin typeface="Arial"/>
                  <a:ea typeface="Arial"/>
                </a:rPr>
                <a:t>x</a:t>
              </a: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  <a:ea typeface="Arial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632200" y="1411200"/>
              <a:ext cx="515880" cy="572040"/>
              <a:chOff x="5632200" y="1411200"/>
              <a:chExt cx="515880" cy="572040"/>
            </a:xfrm>
          </p:grpSpPr>
          <p:sp>
            <p:nvSpPr>
              <p:cNvPr id="84" name=""/>
              <p:cNvSpPr/>
              <p:nvPr/>
            </p:nvSpPr>
            <p:spPr>
              <a:xfrm>
                <a:off x="5632200" y="141120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3300"/>
                    </a:solidFill>
                    <a:latin typeface="Arial"/>
                  </a:rPr>
                  <a:t>mV</a:t>
                </a:r>
                <a:r>
                  <a:rPr b="1" i="1" lang="es-ES_tradnl" sz="1400" spc="-1" strike="noStrike" baseline="30000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02400" y="16761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00600" y="1699920"/>
                <a:ext cx="3603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4932360" y="4951440"/>
            <a:ext cx="2465280" cy="253800"/>
            <a:chOff x="4932360" y="4951440"/>
            <a:chExt cx="2465280" cy="25380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4932360" y="4959360"/>
                  <a:ext cx="75888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5964120" y="4951440"/>
                  <a:ext cx="1433520" cy="25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en</m:t>
                      </m:r>
                      <m:r>
                        <m:t xml:space="preserve">α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71640" y="5608800"/>
                <a:ext cx="10969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997440" y="5751360"/>
                <a:ext cx="5745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484360" y="5608800"/>
                <a:ext cx="11476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732720" y="260280"/>
                <a:ext cx="1485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3,6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976400" y="3826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t = aceleración no compensada por el pera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57280" y="311040"/>
                <a:ext cx="1096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66560" y="105264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Cuál es el desarrollo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m) de la clotoide para distribuir a una tasa uniform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Black"/>
              </a:rPr>
              <a:t>J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m/seg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la aceleración transversal no compensada por el peralt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11280" y="1797120"/>
                <a:ext cx="8650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79640" y="1797120"/>
                <a:ext cx="865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52960" y="1773360"/>
                <a:ext cx="1346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,6</m:t>
                        </m:r>
                        <m:r>
                          <m:t xml:space="preserve">×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148360" y="1797120"/>
                <a:ext cx="1346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,6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8461440" y="3841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2920" y="1844640"/>
            <a:ext cx="8856720" cy="1994040"/>
            <a:chOff x="142920" y="1844640"/>
            <a:chExt cx="8856720" cy="199404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142920" y="3017880"/>
                  <a:ext cx="885672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3,6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×</m:t>
                              </m:r>
                              <m:r>
                                <m:t xml:space="preserve">R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gp</m:t>
                          </m:r>
                        </m:e>
                      </m:d>
                      <m:r>
                        <m:t xml:space="preserve">×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J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3,6</m:t>
                                  </m:r>
                                </m:e>
                              </m:ba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×</m:t>
                          </m:r>
                          <m:r>
                            <m:t xml:space="preserve">R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J</m:t>
                          </m:r>
                        </m:den>
                      </m:f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gp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J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56</m:t>
                          </m:r>
                          <m:r>
                            <m:t xml:space="preserve">×</m:t>
                          </m:r>
                          <m:r>
                            <m:t xml:space="preserve">J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9,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3,6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×</m:t>
                          </m:r>
                          <m:r>
                            <m:t xml:space="preserve">p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6949440" y="1844640"/>
              <a:ext cx="152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Reemplazan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gt por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1)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9280" y="4076640"/>
                <a:ext cx="29527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6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4292640"/>
                <a:ext cx="1152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292720" y="4005360"/>
                <a:ext cx="36720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6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79640" y="5229360"/>
                <a:ext cx="3240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6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508720" y="5229360"/>
                <a:ext cx="3456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6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250920" y="5300640"/>
            <a:ext cx="1512720" cy="1224000"/>
            <a:chOff x="250920" y="5300640"/>
            <a:chExt cx="1512720" cy="122400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250920" y="5300640"/>
                  <a:ext cx="15127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>
              <a:hlinkClick r:id="" action="ppaction://hlinkshowjump?jump=nextslide"/>
            </p:cNvPr>
            <p:cNvSpPr/>
            <p:nvPr/>
          </p:nvSpPr>
          <p:spPr>
            <a:xfrm>
              <a:off x="826920" y="6165720"/>
              <a:ext cx="360360" cy="35892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21687" h="21600">
                  <a:moveTo>
                    <a:pt x="0" y="0"/>
                  </a:moveTo>
                  <a:lnTo>
                    <a:pt x="21687" y="0"/>
                  </a:lnTo>
                  <a:lnTo>
                    <a:pt x="21687" y="21600"/>
                  </a:lnTo>
                  <a:lnTo>
                    <a:pt x="0" y="21600"/>
                  </a:lnTo>
                  <a:close/>
                </a:path>
                <a:path fill="lightenLess" w="21687" h="21600">
                  <a:moveTo>
                    <a:pt x="0" y="0"/>
                  </a:moveTo>
                  <a:lnTo>
                    <a:pt x="21687" y="0"/>
                  </a:lnTo>
                  <a:lnTo>
                    <a:pt x="20287" y="1400"/>
                  </a:lnTo>
                  <a:lnTo>
                    <a:pt x="1400" y="1400"/>
                  </a:lnTo>
                  <a:close/>
                </a:path>
                <a:path fill="darken" w="21687" h="21600">
                  <a:moveTo>
                    <a:pt x="21687" y="0"/>
                  </a:moveTo>
                  <a:lnTo>
                    <a:pt x="21687" y="21600"/>
                  </a:lnTo>
                  <a:lnTo>
                    <a:pt x="20287" y="20200"/>
                  </a:lnTo>
                  <a:lnTo>
                    <a:pt x="20287" y="1400"/>
                  </a:lnTo>
                  <a:close/>
                </a:path>
                <a:path fill="darkenLess" w="21687" h="21600">
                  <a:moveTo>
                    <a:pt x="2168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87" y="20200"/>
                  </a:lnTo>
                  <a:close/>
                </a:path>
                <a:path fill="lighten" w="2168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87" h="21600">
                  <a:moveTo>
                    <a:pt x="3837" y="3794"/>
                  </a:moveTo>
                  <a:lnTo>
                    <a:pt x="17850" y="10800"/>
                  </a:lnTo>
                  <a:lnTo>
                    <a:pt x="3837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484360" y="654120"/>
                <a:ext cx="7923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280" y="476280"/>
                <a:ext cx="1512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70200" y="404640"/>
                <a:ext cx="180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,8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3,6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45120" y="476280"/>
                <a:ext cx="20242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,8</m:t>
                    </m:r>
                    <m:r>
                      <m:t xml:space="preserve">×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3,6</m:t>
                            </m:r>
                          </m:e>
                        </m:ba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1628640"/>
                <a:ext cx="24256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244000" y="5589720"/>
            <a:ext cx="504720" cy="576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48">
                <a:moveTo>
                  <a:pt x="0" y="0"/>
                </a:moveTo>
                <a:lnTo>
                  <a:pt x="21600" y="0"/>
                </a:lnTo>
                <a:lnTo>
                  <a:pt x="21600" y="24648"/>
                </a:lnTo>
                <a:lnTo>
                  <a:pt x="0" y="24648"/>
                </a:lnTo>
                <a:close/>
              </a:path>
              <a:path fill="lightenLess" w="21600" h="24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8">
                <a:moveTo>
                  <a:pt x="21600" y="0"/>
                </a:moveTo>
                <a:lnTo>
                  <a:pt x="21600" y="24648"/>
                </a:lnTo>
                <a:lnTo>
                  <a:pt x="20200" y="23248"/>
                </a:lnTo>
                <a:lnTo>
                  <a:pt x="20200" y="1400"/>
                </a:lnTo>
                <a:close/>
              </a:path>
              <a:path fill="darkenLess" w="21600" h="24648">
                <a:moveTo>
                  <a:pt x="21600" y="24648"/>
                </a:moveTo>
                <a:lnTo>
                  <a:pt x="0" y="24648"/>
                </a:lnTo>
                <a:lnTo>
                  <a:pt x="1400" y="23248"/>
                </a:lnTo>
                <a:lnTo>
                  <a:pt x="20200" y="23248"/>
                </a:lnTo>
                <a:close/>
              </a:path>
              <a:path fill="lighten" w="21600" h="24648">
                <a:moveTo>
                  <a:pt x="0" y="24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8"/>
                </a:lnTo>
                <a:close/>
              </a:path>
              <a:path fill="darken" w="21600" h="24648">
                <a:moveTo>
                  <a:pt x="3794" y="9017"/>
                </a:moveTo>
                <a:lnTo>
                  <a:pt x="7301" y="9017"/>
                </a:lnTo>
                <a:lnTo>
                  <a:pt x="7301" y="14352"/>
                </a:lnTo>
                <a:cubicBezTo>
                  <a:pt x="7301" y="15275"/>
                  <a:pt x="8102" y="16006"/>
                  <a:pt x="9138" y="16006"/>
                </a:cubicBezTo>
                <a:lnTo>
                  <a:pt x="10800" y="16006"/>
                </a:lnTo>
                <a:cubicBezTo>
                  <a:pt x="11836" y="16006"/>
                  <a:pt x="12636" y="15275"/>
                  <a:pt x="12636" y="14352"/>
                </a:cubicBezTo>
                <a:lnTo>
                  <a:pt x="12636" y="9017"/>
                </a:lnTo>
                <a:lnTo>
                  <a:pt x="10800" y="9017"/>
                </a:lnTo>
                <a:lnTo>
                  <a:pt x="14308" y="5509"/>
                </a:lnTo>
                <a:lnTo>
                  <a:pt x="17981" y="9017"/>
                </a:lnTo>
                <a:lnTo>
                  <a:pt x="16144" y="9017"/>
                </a:lnTo>
                <a:lnTo>
                  <a:pt x="16144" y="14352"/>
                </a:lnTo>
                <a:cubicBezTo>
                  <a:pt x="16144" y="17120"/>
                  <a:pt x="13568" y="19679"/>
                  <a:pt x="10800" y="19679"/>
                </a:cubicBezTo>
                <a:lnTo>
                  <a:pt x="9138" y="19679"/>
                </a:lnTo>
                <a:cubicBezTo>
                  <a:pt x="6370" y="19679"/>
                  <a:pt x="3794" y="17120"/>
                  <a:pt x="3794" y="1435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3:07:02Z</dcterms:created>
  <dc:creator>JVS</dc:creator>
  <dc:description/>
  <dc:language>en-US</dc:language>
  <cp:lastModifiedBy>JVS</cp:lastModifiedBy>
  <dcterms:modified xsi:type="dcterms:W3CDTF">2008-10-17T06:18:38Z</dcterms:modified>
  <cp:revision>12</cp:revision>
  <dc:subject/>
  <dc:title>Diapositiva 1</dc:title>
</cp:coreProperties>
</file>