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CF2C-3E87-470E-B0D7-160C9C53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520-30DD-4FF5-B81E-40795A52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F35-EC58-4FC5-A293-57D89F0D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D15-5DA6-4F22-BC7F-FC9C653D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B4E-2AE2-4F8C-BBDF-D6C137B6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F28-6100-4DD4-8A21-0C231D83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917-4C5A-4125-A058-39C83C9B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0EE0-11F4-4A3E-A58A-620094F4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7F3-6181-4D0B-9F7A-3D431B2C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29C-FE77-4B5F-8706-D3396994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376-FA2E-4B05-A37B-2F67EF01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B863-7541-47EC-A772-CD60EF10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746A-D82E-4AF1-B3D6-A575019FA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292428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971640" y="763560"/>
            <a:ext cx="720072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984000">
            <a:off x="3708360" y="1324080"/>
            <a:ext cx="287280" cy="287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08760" y="2557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7092720" y="2923920"/>
            <a:ext cx="142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7114680" y="2454120"/>
            <a:ext cx="172080" cy="14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627280" y="1268280"/>
            <a:ext cx="2335320" cy="1528560"/>
            <a:chOff x="2627280" y="1268280"/>
            <a:chExt cx="2335320" cy="1528560"/>
          </a:xfrm>
        </p:grpSpPr>
        <p:sp>
          <p:nvSpPr>
            <p:cNvPr id="48" name=""/>
            <p:cNvSpPr/>
            <p:nvPr/>
          </p:nvSpPr>
          <p:spPr>
            <a:xfrm>
              <a:off x="3851280" y="1501560"/>
              <a:ext cx="0" cy="1295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2627280" y="1268280"/>
              <a:ext cx="2335320" cy="1459440"/>
              <a:chOff x="2627280" y="1268280"/>
              <a:chExt cx="2335320" cy="1459440"/>
            </a:xfrm>
          </p:grpSpPr>
          <p:sp>
            <p:nvSpPr>
              <p:cNvPr id="50" name=""/>
              <p:cNvSpPr/>
              <p:nvPr/>
            </p:nvSpPr>
            <p:spPr>
              <a:xfrm flipH="1">
                <a:off x="3564000" y="1501560"/>
                <a:ext cx="287280" cy="1224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44080" y="1522800"/>
                <a:ext cx="374760" cy="101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95640" y="1268280"/>
                <a:ext cx="96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mg sen </a:t>
                </a:r>
                <a:r>
                  <a:rPr b="1" i="1" lang="es-ES_tradnl" sz="14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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627280" y="2420640"/>
                <a:ext cx="96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mg cos </a:t>
                </a:r>
                <a:r>
                  <a:rPr b="1" i="1" lang="es-ES_tradnl" sz="14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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835440" y="2077920"/>
                <a:ext cx="447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m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"/>
          <p:cNvSpPr/>
          <p:nvPr/>
        </p:nvSpPr>
        <p:spPr>
          <a:xfrm>
            <a:off x="3277800" y="34066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055600" y="476280"/>
            <a:ext cx="1835280" cy="1540440"/>
            <a:chOff x="2055600" y="476280"/>
            <a:chExt cx="1835280" cy="1540440"/>
          </a:xfrm>
        </p:grpSpPr>
        <p:sp>
          <p:nvSpPr>
            <p:cNvPr id="57" name=""/>
            <p:cNvSpPr/>
            <p:nvPr/>
          </p:nvSpPr>
          <p:spPr>
            <a:xfrm flipH="1">
              <a:off x="3781440" y="1488960"/>
              <a:ext cx="109440" cy="351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055600" y="476280"/>
              <a:ext cx="1816200" cy="1540440"/>
              <a:chOff x="2055600" y="476280"/>
              <a:chExt cx="1816200" cy="1540440"/>
            </a:xfrm>
          </p:grpSpPr>
          <p:sp>
            <p:nvSpPr>
              <p:cNvPr id="59" name=""/>
              <p:cNvSpPr/>
              <p:nvPr/>
            </p:nvSpPr>
            <p:spPr>
              <a:xfrm flipH="1">
                <a:off x="2576520" y="1484280"/>
                <a:ext cx="12952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2647800" y="1052280"/>
                <a:ext cx="1224000" cy="431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2055600" y="1195560"/>
                <a:ext cx="515880" cy="572040"/>
                <a:chOff x="2055600" y="1195560"/>
                <a:chExt cx="515880" cy="5720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2055600" y="119556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ff3300"/>
                      </a:solidFill>
                      <a:latin typeface="Arial"/>
                    </a:rPr>
                    <a:t>mV</a:t>
                  </a:r>
                  <a:r>
                    <a:rPr b="1" i="1" lang="es-ES_tradnl" sz="1400" spc="-1" strike="noStrike" baseline="30000">
                      <a:solidFill>
                        <a:srgbClr val="ff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2125800" y="146052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33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124000" y="1484280"/>
                  <a:ext cx="36036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2509560" y="476280"/>
                <a:ext cx="1053720" cy="572040"/>
                <a:chOff x="2509560" y="476280"/>
                <a:chExt cx="1053720" cy="57204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2913120" y="595080"/>
                  <a:ext cx="650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3300"/>
                      </a:solidFill>
                      <a:latin typeface="Arial"/>
                    </a:rPr>
                    <a:t>cos </a:t>
                  </a:r>
                  <a:r>
                    <a:rPr b="1" i="1" lang="en-US" sz="14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" name=""/>
                <p:cNvGrpSpPr/>
                <p:nvPr/>
              </p:nvGrpSpPr>
              <p:grpSpPr>
                <a:xfrm>
                  <a:off x="2509560" y="476280"/>
                  <a:ext cx="515880" cy="572040"/>
                  <a:chOff x="2509560" y="476280"/>
                  <a:chExt cx="515880" cy="57204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2509560" y="476280"/>
                    <a:ext cx="5158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ff3300"/>
                        </a:solidFill>
                        <a:latin typeface="Arial"/>
                      </a:rPr>
                      <a:t>mV</a:t>
                    </a:r>
                    <a:r>
                      <a:rPr b="1" i="1" lang="es-ES_tradnl" sz="1400" spc="-1" strike="noStrike" baseline="30000">
                        <a:solidFill>
                          <a:srgbClr val="ff33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2579760" y="741240"/>
                    <a:ext cx="3088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ff3300"/>
                        </a:solidFill>
                        <a:latin typeface="Arial"/>
                      </a:rPr>
                      <a:t>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2577960" y="765000"/>
                    <a:ext cx="360360" cy="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" name=""/>
              <p:cNvGrpSpPr/>
              <p:nvPr/>
            </p:nvGrpSpPr>
            <p:grpSpPr>
              <a:xfrm>
                <a:off x="2620800" y="1444680"/>
                <a:ext cx="1037880" cy="572040"/>
                <a:chOff x="2620800" y="1444680"/>
                <a:chExt cx="1037880" cy="57204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3008520" y="1555920"/>
                  <a:ext cx="650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3300"/>
                      </a:solidFill>
                      <a:latin typeface="Arial"/>
                    </a:rPr>
                    <a:t>sen </a:t>
                  </a:r>
                  <a:r>
                    <a:rPr b="1" i="1" lang="en-US" sz="1400" spc="-1" strike="noStrike">
                      <a:solidFill>
                        <a:srgbClr val="ff33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"/>
                <p:cNvGrpSpPr/>
                <p:nvPr/>
              </p:nvGrpSpPr>
              <p:grpSpPr>
                <a:xfrm>
                  <a:off x="2620800" y="1444680"/>
                  <a:ext cx="515880" cy="572040"/>
                  <a:chOff x="2620800" y="1444680"/>
                  <a:chExt cx="515880" cy="57204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620800" y="1444680"/>
                    <a:ext cx="5158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ff3300"/>
                        </a:solidFill>
                        <a:latin typeface="Arial"/>
                      </a:rPr>
                      <a:t>mV</a:t>
                    </a:r>
                    <a:r>
                      <a:rPr b="1" i="1" lang="es-ES_tradnl" sz="1400" spc="-1" strike="noStrike" baseline="30000">
                        <a:solidFill>
                          <a:srgbClr val="ff33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691000" y="1709640"/>
                    <a:ext cx="3088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400" spc="-1" strike="noStrike">
                        <a:solidFill>
                          <a:srgbClr val="ff3300"/>
                        </a:solidFill>
                        <a:latin typeface="Arial"/>
                      </a:rPr>
                      <a:t>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2689200" y="1733400"/>
                    <a:ext cx="360360" cy="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946080" y="3068640"/>
                <a:ext cx="45180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×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944640" y="395136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×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961920" y="4815000"/>
                <a:ext cx="32590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t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tse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3851280" y="1411200"/>
            <a:ext cx="3131640" cy="572040"/>
            <a:chOff x="3851280" y="1411200"/>
            <a:chExt cx="3131640" cy="572040"/>
          </a:xfrm>
        </p:grpSpPr>
        <p:sp>
          <p:nvSpPr>
            <p:cNvPr id="81" name=""/>
            <p:cNvSpPr/>
            <p:nvPr/>
          </p:nvSpPr>
          <p:spPr>
            <a:xfrm>
              <a:off x="3851280" y="1484280"/>
              <a:ext cx="720720" cy="21600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90280" y="1535040"/>
              <a:ext cx="249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cc00"/>
                  </a:solidFill>
                  <a:latin typeface="Arial"/>
                </a:rPr>
                <a:t>(</a:t>
              </a:r>
              <a:r>
                <a:rPr b="1" i="1" lang="es-ES_tradnl" sz="1400" spc="-1" strike="noStrike">
                  <a:solidFill>
                    <a:srgbClr val="0000ff"/>
                  </a:solidFill>
                  <a:latin typeface="Arial"/>
                </a:rPr>
                <a:t>mg cos </a:t>
              </a:r>
              <a:r>
                <a:rPr b="1" i="1" lang="es-ES_tradnl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i="1" lang="es-ES_tradnl" sz="1400" spc="-1" strike="noStrike">
                  <a:solidFill>
                    <a:srgbClr val="00cc00"/>
                  </a:solidFill>
                  <a:latin typeface="Arial"/>
                </a:rPr>
                <a:t> +           </a:t>
              </a:r>
              <a:r>
                <a:rPr b="1" i="1" lang="es-ES_tradnl" sz="1400" spc="-1" strike="noStrike">
                  <a:solidFill>
                    <a:srgbClr val="ff3300"/>
                  </a:solidFill>
                  <a:latin typeface="Arial"/>
                </a:rPr>
                <a:t>sen </a:t>
              </a:r>
              <a:r>
                <a:rPr b="1" i="1" lang="es-ES_tradnl" sz="1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</a:t>
              </a:r>
              <a:r>
                <a:rPr b="1" i="1" lang="es-ES_tradnl" sz="1400" spc="-1" strike="noStrike">
                  <a:solidFill>
                    <a:srgbClr val="00cc00"/>
                  </a:solidFill>
                  <a:latin typeface="Arial"/>
                </a:rPr>
                <a:t>) </a:t>
              </a:r>
              <a:r>
                <a:rPr b="1" i="1" lang="es-ES_tradnl" sz="1000" spc="-1" strike="noStrike">
                  <a:solidFill>
                    <a:srgbClr val="00cc00"/>
                  </a:solidFill>
                  <a:latin typeface="Arial"/>
                  <a:ea typeface="Arial"/>
                </a:rPr>
                <a:t>x</a:t>
              </a:r>
              <a:r>
                <a:rPr b="1" i="1" lang="es-ES_tradnl" sz="1400" spc="-1" strike="noStrike">
                  <a:solidFill>
                    <a:srgbClr val="00cc00"/>
                  </a:solidFill>
                  <a:latin typeface="Arial"/>
                  <a:ea typeface="Arial"/>
                </a:rPr>
                <a:t>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5632200" y="1411200"/>
              <a:ext cx="515880" cy="572040"/>
              <a:chOff x="5632200" y="1411200"/>
              <a:chExt cx="515880" cy="572040"/>
            </a:xfrm>
          </p:grpSpPr>
          <p:sp>
            <p:nvSpPr>
              <p:cNvPr id="84" name=""/>
              <p:cNvSpPr/>
              <p:nvPr/>
            </p:nvSpPr>
            <p:spPr>
              <a:xfrm>
                <a:off x="5632200" y="1411200"/>
                <a:ext cx="51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ff3300"/>
                    </a:solidFill>
                    <a:latin typeface="Arial"/>
                  </a:rPr>
                  <a:t>mV</a:t>
                </a:r>
                <a:r>
                  <a:rPr b="1" i="1" lang="es-ES_tradnl" sz="1400" spc="-1" strike="noStrike" baseline="30000">
                    <a:solidFill>
                      <a:srgbClr val="ff33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02400" y="16761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33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700600" y="1699920"/>
                <a:ext cx="36036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4932360" y="4951440"/>
            <a:ext cx="2465280" cy="253800"/>
            <a:chOff x="4932360" y="4951440"/>
            <a:chExt cx="2465280" cy="253800"/>
          </a:xfrm>
        </p:grpSpPr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4932360" y="4959360"/>
                  <a:ext cx="758880" cy="23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5964120" y="4951440"/>
                  <a:ext cx="1433520" cy="25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en</m:t>
                      </m:r>
                      <m:r>
                        <m:t xml:space="preserve">α</m:t>
                      </m:r>
                      <m:r>
                        <m:t xml:space="preserve">≈</m:t>
                      </m:r>
                      <m:r>
                        <m:rPr>
                          <m:lit/>
                          <m:nor/>
                        </m:rPr>
                        <m:t xml:space="preserve">tan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71640" y="5608800"/>
                <a:ext cx="10969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997440" y="5751360"/>
                <a:ext cx="57456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484360" y="5608800"/>
                <a:ext cx="114768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732720" y="260280"/>
                <a:ext cx="1485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t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3,6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g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976400" y="382680"/>
            <a:ext cx="45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t = aceleración no compensada por el pera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57280" y="311040"/>
                <a:ext cx="10969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66560" y="105264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Cuál es el desarrollo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m) de la clotoide para distribuir a una tasa uniforme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Black"/>
              </a:rPr>
              <a:t>J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m/seg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la aceleración transversal no compensada por el peralt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11280" y="1797120"/>
                <a:ext cx="8650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79640" y="1797120"/>
                <a:ext cx="8650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num>
                      <m:den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52960" y="1773360"/>
                <a:ext cx="1346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3,6</m:t>
                        </m:r>
                        <m:r>
                          <m:t xml:space="preserve">×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148360" y="1797120"/>
                <a:ext cx="1346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3,6</m:t>
                        </m:r>
                        <m:r>
                          <m:t xml:space="preserve">×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8461440" y="3841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42920" y="1844640"/>
            <a:ext cx="8856720" cy="1994040"/>
            <a:chOff x="142920" y="1844640"/>
            <a:chExt cx="8856720" cy="199404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142920" y="3017880"/>
                  <a:ext cx="885672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3,6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×</m:t>
                              </m:r>
                              <m:r>
                                <m:t xml:space="preserve">R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gp</m:t>
                          </m:r>
                        </m:e>
                      </m:d>
                      <m:r>
                        <m:t xml:space="preserve">×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3,6</m:t>
                          </m:r>
                          <m:r>
                            <m:t xml:space="preserve">J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3,6</m:t>
                                  </m:r>
                                </m:e>
                              </m:ba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×</m:t>
                          </m:r>
                          <m:r>
                            <m:t xml:space="preserve">R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3,6</m:t>
                          </m:r>
                          <m:r>
                            <m:t xml:space="preserve">J</m:t>
                          </m:r>
                        </m:den>
                      </m:f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gp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3,6</m:t>
                          </m:r>
                          <m:r>
                            <m:t xml:space="preserve">J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6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656</m:t>
                          </m:r>
                          <m:r>
                            <m:t xml:space="preserve">×</m:t>
                          </m:r>
                          <m:r>
                            <m:t xml:space="preserve">J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9,8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3,6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×</m:t>
                          </m:r>
                          <m:r>
                            <m:t xml:space="preserve">p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4" name=""/>
            <p:cNvSpPr/>
            <p:nvPr/>
          </p:nvSpPr>
          <p:spPr>
            <a:xfrm>
              <a:off x="6949440" y="1844640"/>
              <a:ext cx="152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Reemplazan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gt por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1)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79280" y="4076640"/>
                <a:ext cx="29527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6</m:t>
                        </m:r>
                        <m:r>
                          <m:t xml:space="preserve">×</m:t>
                        </m:r>
                        <m:r>
                          <m:t xml:space="preserve">J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635280" y="4292640"/>
                <a:ext cx="11527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292720" y="4005360"/>
                <a:ext cx="36720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í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6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979640" y="5229360"/>
                <a:ext cx="32400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í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6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508720" y="5229360"/>
                <a:ext cx="3456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í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6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250920" y="5300640"/>
            <a:ext cx="1512720" cy="1224000"/>
            <a:chOff x="250920" y="5300640"/>
            <a:chExt cx="1512720" cy="122400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250920" y="5300640"/>
                  <a:ext cx="151272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>
              <a:hlinkClick r:id="" action="ppaction://hlinkshowjump?jump=nextslide"/>
            </p:cNvPr>
            <p:cNvSpPr/>
            <p:nvPr/>
          </p:nvSpPr>
          <p:spPr>
            <a:xfrm>
              <a:off x="826920" y="6165720"/>
              <a:ext cx="360360" cy="35892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58920"/>
                <a:gd name="textAreaBottom" fmla="*/ 335880 h 358920"/>
              </a:gdLst>
              <a:ahLst/>
              <a:rect l="textAreaLeft" t="textAreaTop" r="textAreaRight" b="textAreaBottom"/>
              <a:pathLst>
                <a:path w="21687" h="21600">
                  <a:moveTo>
                    <a:pt x="0" y="0"/>
                  </a:moveTo>
                  <a:lnTo>
                    <a:pt x="21687" y="0"/>
                  </a:lnTo>
                  <a:lnTo>
                    <a:pt x="21687" y="21600"/>
                  </a:lnTo>
                  <a:lnTo>
                    <a:pt x="0" y="21600"/>
                  </a:lnTo>
                  <a:close/>
                </a:path>
                <a:path fill="lightenLess" w="21687" h="21600">
                  <a:moveTo>
                    <a:pt x="0" y="0"/>
                  </a:moveTo>
                  <a:lnTo>
                    <a:pt x="21687" y="0"/>
                  </a:lnTo>
                  <a:lnTo>
                    <a:pt x="20287" y="1400"/>
                  </a:lnTo>
                  <a:lnTo>
                    <a:pt x="1400" y="1400"/>
                  </a:lnTo>
                  <a:close/>
                </a:path>
                <a:path fill="darken" w="21687" h="21600">
                  <a:moveTo>
                    <a:pt x="21687" y="0"/>
                  </a:moveTo>
                  <a:lnTo>
                    <a:pt x="21687" y="21600"/>
                  </a:lnTo>
                  <a:lnTo>
                    <a:pt x="20287" y="20200"/>
                  </a:lnTo>
                  <a:lnTo>
                    <a:pt x="20287" y="1400"/>
                  </a:lnTo>
                  <a:close/>
                </a:path>
                <a:path fill="darkenLess" w="21687" h="21600">
                  <a:moveTo>
                    <a:pt x="2168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87" y="20200"/>
                  </a:lnTo>
                  <a:close/>
                </a:path>
                <a:path fill="lighten" w="2168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87" h="21600">
                  <a:moveTo>
                    <a:pt x="3837" y="3794"/>
                  </a:moveTo>
                  <a:lnTo>
                    <a:pt x="17850" y="10800"/>
                  </a:lnTo>
                  <a:lnTo>
                    <a:pt x="3837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484360" y="654120"/>
                <a:ext cx="7923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11280" y="476280"/>
                <a:ext cx="15127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70200" y="404640"/>
                <a:ext cx="18018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,8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3,6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045120" y="476280"/>
                <a:ext cx="20242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,8</m:t>
                    </m:r>
                    <m:r>
                      <m:t xml:space="preserve">×</m:t>
                    </m:r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3,6</m:t>
                            </m:r>
                          </m:e>
                        </m:ba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9640" y="1628640"/>
                <a:ext cx="242568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7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8244000" y="5589720"/>
            <a:ext cx="504720" cy="576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48">
                <a:moveTo>
                  <a:pt x="0" y="0"/>
                </a:moveTo>
                <a:lnTo>
                  <a:pt x="21600" y="0"/>
                </a:lnTo>
                <a:lnTo>
                  <a:pt x="21600" y="24648"/>
                </a:lnTo>
                <a:lnTo>
                  <a:pt x="0" y="24648"/>
                </a:lnTo>
                <a:close/>
              </a:path>
              <a:path fill="lightenLess" w="21600" h="24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48">
                <a:moveTo>
                  <a:pt x="21600" y="0"/>
                </a:moveTo>
                <a:lnTo>
                  <a:pt x="21600" y="24648"/>
                </a:lnTo>
                <a:lnTo>
                  <a:pt x="20200" y="23248"/>
                </a:lnTo>
                <a:lnTo>
                  <a:pt x="20200" y="1400"/>
                </a:lnTo>
                <a:close/>
              </a:path>
              <a:path fill="darkenLess" w="21600" h="24648">
                <a:moveTo>
                  <a:pt x="21600" y="24648"/>
                </a:moveTo>
                <a:lnTo>
                  <a:pt x="0" y="24648"/>
                </a:lnTo>
                <a:lnTo>
                  <a:pt x="1400" y="23248"/>
                </a:lnTo>
                <a:lnTo>
                  <a:pt x="20200" y="23248"/>
                </a:lnTo>
                <a:close/>
              </a:path>
              <a:path fill="lighten" w="21600" h="24648">
                <a:moveTo>
                  <a:pt x="0" y="24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48"/>
                </a:lnTo>
                <a:close/>
              </a:path>
              <a:path fill="darken" w="21600" h="24648">
                <a:moveTo>
                  <a:pt x="3794" y="9017"/>
                </a:moveTo>
                <a:lnTo>
                  <a:pt x="7301" y="9017"/>
                </a:lnTo>
                <a:lnTo>
                  <a:pt x="7301" y="14352"/>
                </a:lnTo>
                <a:cubicBezTo>
                  <a:pt x="7301" y="15275"/>
                  <a:pt x="8102" y="16006"/>
                  <a:pt x="9138" y="16006"/>
                </a:cubicBezTo>
                <a:lnTo>
                  <a:pt x="10800" y="16006"/>
                </a:lnTo>
                <a:cubicBezTo>
                  <a:pt x="11836" y="16006"/>
                  <a:pt x="12636" y="15275"/>
                  <a:pt x="12636" y="14352"/>
                </a:cubicBezTo>
                <a:lnTo>
                  <a:pt x="12636" y="9017"/>
                </a:lnTo>
                <a:lnTo>
                  <a:pt x="10800" y="9017"/>
                </a:lnTo>
                <a:lnTo>
                  <a:pt x="14308" y="5509"/>
                </a:lnTo>
                <a:lnTo>
                  <a:pt x="17981" y="9017"/>
                </a:lnTo>
                <a:lnTo>
                  <a:pt x="16144" y="9017"/>
                </a:lnTo>
                <a:lnTo>
                  <a:pt x="16144" y="14352"/>
                </a:lnTo>
                <a:cubicBezTo>
                  <a:pt x="16144" y="17120"/>
                  <a:pt x="13568" y="19679"/>
                  <a:pt x="10800" y="19679"/>
                </a:cubicBezTo>
                <a:lnTo>
                  <a:pt x="9138" y="19679"/>
                </a:lnTo>
                <a:cubicBezTo>
                  <a:pt x="6370" y="19679"/>
                  <a:pt x="3794" y="17120"/>
                  <a:pt x="3794" y="1435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3:07:02Z</dcterms:created>
  <dc:creator>JVS</dc:creator>
  <dc:description/>
  <dc:language>en-US</dc:language>
  <cp:lastModifiedBy>JVS</cp:lastModifiedBy>
  <dcterms:modified xsi:type="dcterms:W3CDTF">2008-10-17T06:18:38Z</dcterms:modified>
  <cp:revision>12</cp:revision>
  <dc:subject/>
  <dc:title>Diapositiva 1</dc:title>
</cp:coreProperties>
</file>