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F4E-6D90-4B4F-9539-5A4AA41C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206-76AE-40B1-BD03-9E7F04AE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681-185D-4706-8F30-B8788A29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B32-0004-42B8-B2A7-8236B9A9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9AF-DE30-48F7-B74D-594BDFF9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1B2-273E-4632-AB4C-368F3FBE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05B-31CA-4116-8479-6BE0D28E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79C-430A-4F97-A41A-C2CB50F5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DC6-B534-45BA-9785-ED4F3A7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796-7FDB-4B2A-ACC5-EAA8C4D9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7DB-AEEE-4AF8-AAA1-7F4FC1D8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C55-1BC8-466A-A94E-83BA8C4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50F-DC8A-460E-BF6B-74A424FF4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7:51:32Z</dcterms:created>
  <dc:creator>JVS</dc:creator>
  <dc:description/>
  <dc:language>en-US</dc:language>
  <cp:lastModifiedBy>JVS</cp:lastModifiedBy>
  <dcterms:modified xsi:type="dcterms:W3CDTF">2008-09-05T19:47:11Z</dcterms:modified>
  <cp:revision>11</cp:revision>
  <dc:subject/>
  <dc:title>Diapositiva 1</dc:title>
</cp:coreProperties>
</file>