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4E9-704E-4F38-A93B-9A6DE8FC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64C-3E26-4A86-AF2E-3057A4FE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07E-6932-4DB0-A063-4AA318BA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C5C-62BA-41EE-AF8C-4FABE48C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82F-790A-41E9-9F05-23C5E14B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A2A-DCB1-4BBD-A717-D10AF67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BA7-3F41-457A-BD64-5F70F360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392-E7B3-4EF7-B399-68E5C40A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806-5560-4EC4-BD8B-BAE71EC7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1F0-CD96-4337-B561-B6617630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869-2ADC-4750-BD36-969C54E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42E-C2A6-4958-8921-1459917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A6E-50A4-4746-810A-2A540B81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7:51:32Z</dcterms:created>
  <dc:creator>JVS</dc:creator>
  <dc:description/>
  <dc:language>en-US</dc:language>
  <cp:lastModifiedBy>JVS</cp:lastModifiedBy>
  <dcterms:modified xsi:type="dcterms:W3CDTF">2008-09-05T19:47:11Z</dcterms:modified>
  <cp:revision>11</cp:revision>
  <dc:subject/>
  <dc:title>Diapositiva 1</dc:title>
</cp:coreProperties>
</file>