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3121-906B-42D7-B659-ED69B227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B781-96C1-49CE-A22A-C760C371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11A-8C76-442F-8E53-76B5D266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7AA-FA69-4DE9-A4B7-A38E7EEE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818-688D-48D5-99D7-7011A33E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08EA-33FF-4088-B84E-6BC6AE1E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4D1C-F244-4747-81FB-2994048D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418-364D-4141-A615-CBC6B881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FDB9-C8B0-4ADC-8F07-1A7AA15E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4AFE-3355-4879-8666-A408D160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8E09-4352-422D-8828-19CA2A59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343F-6144-4180-AA04-115A0E7F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A8BC-8DEB-4032-AA75-D2E1B1763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7:51:32Z</dcterms:created>
  <dc:creator>JVS</dc:creator>
  <dc:description/>
  <dc:language>en-US</dc:language>
  <cp:lastModifiedBy>JVS</cp:lastModifiedBy>
  <dcterms:modified xsi:type="dcterms:W3CDTF">2008-09-05T19:47:11Z</dcterms:modified>
  <cp:revision>11</cp:revision>
  <dc:subject/>
  <dc:title>Diapositiva 1</dc:title>
</cp:coreProperties>
</file>