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8795-2CA4-4D16-A3B8-0D6C02779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B60F-197E-4822-ACAD-044689A6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9463-C7EF-4D15-AFCD-E49B9270B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E3F4-2685-4709-937B-CDF28DEC2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229C-B9DE-48CF-AA0E-911B761D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E6F2-F2E6-437C-9D62-31C6B70A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FEAD-8407-4310-941F-59793705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E61B-78E9-4D73-AB30-38B54849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5155-146A-4FCC-B82C-01A45F01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01F2-E428-48CD-B916-514CAA7A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4100-4BA6-492C-9763-4C221BD7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4CBF-1174-414B-B575-ABC52BE1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CA4F-2026-4960-8D31-322A22997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71640" y="725400"/>
            <a:ext cx="727236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11161800" cy="2303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92000" y="2565360"/>
            <a:ext cx="8352000" cy="1332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116000" y="3936960"/>
            <a:ext cx="8640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523880" y="914400"/>
          <a:ext cx="60962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14400"/>
                    <a:ext cx="60962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115280" y="549360"/>
            <a:ext cx="70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ASTO SÓLIDO A LA ENTRADA DE LA BOCATOMA DIGUILL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9640" y="1093680"/>
            <a:ext cx="806472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612720" y="1700280"/>
            <a:ext cx="943272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23840" y="568440"/>
            <a:ext cx="6500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 conclusión, se obtiene un gasto sólido de arrastre de 7644 kg/s a la entrada de la Bocatoma Diguillín para un caudal líquido de 1900 m3/s correspondiente a un perí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 retorno de 20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8200" y="2513160"/>
            <a:ext cx="700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2781360"/>
            <a:ext cx="7129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a un caudal Q=1900 m3/s correspondiente a 200 años de período de retorno, el Consorcio Laja-Diguillín calculó el gasto sólido de arrastre mediante el programa EJE.BAS que utiliza el método de Meyer-Peter y Muller y el método de Sato.  El Consorcio Laja-Diguillín seleccionó el método de Sato obteniendo un arrastre de fondo de 1300 kg/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523880" y="914400"/>
          <a:ext cx="60962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14400"/>
                    <a:ext cx="60962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58920" y="1557360"/>
            <a:ext cx="763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TRODUCCIÓ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ENERAL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NALISIS DE ANTECEDENTE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OPOGRAFÍ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HIDROLOGÍ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JES HIDRÁULICOS DEL RÍO DIGUILLÍ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NALISIS SEDIMEN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SPE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NALISIS DE SUELOS Y ARRASTRE DE SEDIMENTO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STUDIO DE MECÁNICA DE SUELO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STUDIO DE ARRASTRE DE SEDIMENTO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189000"/>
            <a:ext cx="676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YECTO  LAJA  DIGUIL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GENIERIA DE DETALLE BOCATOMA DIGUIL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III REGIO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INFORME ETAPA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SEÑO HIDRÁULICO Y ESTRUC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95480" y="49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04640"/>
            <a:ext cx="741672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SEÑO HIDRÁULICO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1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TRODUCCIÓ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JES HIDRÁULICOS DEL RÍO DIGUILLÍ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2.1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Metodologí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2.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álculo del Eje Hidráulico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2.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nálisis de Resultado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REPARTICIÓN DE CAUDALES ENTRE LAS BARRERAS MÓVILES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ARA LA CRECIDA DE 1 EN 200 AÑOS (Q=1900 M3/S)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3.1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Metodologí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3.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eometría de las Obra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3.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ecciones de Cálculo y Condiciones de Borde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3.4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álculo del Eje Hidráulico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3.5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nálisis de Resultado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4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JES HIDRÁULICOS DEL RIO DIGUILLÍ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GUAS ARRIBA DE  BARRER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4.1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Metodologí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4.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álculo del Eje Hidráulico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4.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sultado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1440" y="1628640"/>
            <a:ext cx="8410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5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NÁLISIS DE RESULTADO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6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ERIFICACION OPERACIÓN CANAL MATRIZ LAJA-DIGUILLI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6.1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formación Disponible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6.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nálisis Operación Canal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6.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clusione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7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UNCIONAMIENTO DE LAS OBRAS EN CONDI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ORMALES DE OPERACIÓ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8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SEÑO BOCATOMA CANAL UNIFICADO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SEÑO ESTRUCTUR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3320" y="333360"/>
            <a:ext cx="8852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OPOGRAF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egún el estudio del Consorcio Laja Diguillín la pendiente media de 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mo del cauce es " i = 0,58 % 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a única restricción artificial que presenta actualmente este cauce es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uente Santa Isabel, con 210 m de longitud, ubicado 3,3 km aguas aba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 la bocatoma Diguillí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2997360"/>
            <a:ext cx="8485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IDROLO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Área total de la hoy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A            =           1.151,26 km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Área pluvial de la cuenc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911 km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ndiente del cauce principal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,6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ndiente media de la cuenc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g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14,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levación media (cuenca pluvial)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Zm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 899 m s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ínea de nieve de la cuenc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             Zn           =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1.500 m s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ongitud del cauce principal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L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5,6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ongitud del cauce principal desde el CG: Lg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6,0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ndiente media de la cuenc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0,12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81080" y="2133720"/>
            <a:ext cx="9541080" cy="2301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194920" y="4797360"/>
            <a:ext cx="510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   :  Período de Retorno de " P " y " Q 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   :  Precipitación Máxima Di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Q   :  Caudal Máximo Instantán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Qo  =  82,3 m3/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audal Base del rí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guill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7440" y="476280"/>
            <a:ext cx="71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ECIPITACIONES MÁXIMAS DIARIAS Y CAUDALES MÁXI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STANTÁNEOS PARA DISTINTOS PERÍODOS DE RETO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72560" y="423720"/>
            <a:ext cx="56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UDIO DE ARRASTRE DE SED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47640" y="714240"/>
            <a:ext cx="6337440" cy="60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1187280"/>
            <a:ext cx="763272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137440" cy="308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47200" y="3716280"/>
            <a:ext cx="80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calculó el arrastre de sólidos mediante el método de Meyer-Peter y Müll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fórmulas utilizadas se presentan a continu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84360" y="4538520"/>
                <a:ext cx="3382920" cy="13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∗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932360" y="4873680"/>
                <a:ext cx="23763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21:49:33Z</dcterms:created>
  <dc:creator>Fernando Echeverria</dc:creator>
  <dc:description/>
  <dc:language>en-US</dc:language>
  <cp:lastModifiedBy>Fernando Echeverria</cp:lastModifiedBy>
  <dcterms:modified xsi:type="dcterms:W3CDTF">2008-08-17T23:20:05Z</dcterms:modified>
  <cp:revision>3</cp:revision>
  <dc:subject/>
  <dc:title>Slide 1</dc:title>
</cp:coreProperties>
</file>