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658-9642-47BE-94AE-694F0855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218-1994-4BBD-B5E3-9BBBF3F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127-288C-4B35-9DD9-03DEF709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E63-19BE-410E-8A59-7ACA7C6D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F3F-DAA2-403F-8779-A73C3F2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DDF-3DDA-4918-A5E8-DDE49C33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14C-FCD2-4DE1-8AE3-2E8CABDD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C78-4AE5-4067-9B9B-05C9C5C9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BFF-718B-4A10-8457-51E0196F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B84-0BD6-4211-B988-F5A0C193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977-BF88-4C2B-8F1F-34FAE3B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5D9-B6DB-45EE-A7B6-ED0B1D0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8CDA-73E1-4929-837E-148C5832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72540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1161800" cy="23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000" y="2565360"/>
            <a:ext cx="8352000" cy="13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16000" y="3936960"/>
            <a:ext cx="864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5280" y="54936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ASTO SÓLIDO A LA ENTRADA DE LA BOCATOMA 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093680"/>
            <a:ext cx="80647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12720" y="1700280"/>
            <a:ext cx="9432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23840" y="56844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onclusión, se obtiene un gasto sólido de arrastre de 7644 kg/s a la entrada de la Bocatoma Diguillín para un caudal líquido de 1900 m3/s correspondiente a un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 retorno de 20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8200" y="2513160"/>
            <a:ext cx="70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78136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un caudal Q=1900 m3/s correspondiente a 200 años de período de retorno, el Consorcio Laja-Diguillín calculó el gasto sólido de arrastre mediante el programa EJE.BAS que utiliza el método de Meyer-Peter y Muller y el método de Sato.  El Consorcio Laja-Diguillín seleccionó el método de Sato obteniendo un arrastre de fondo de 1300 kg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557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ANTECEDENT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IDR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SEDI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SP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SUELOS Y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MECÁNICA DE SUEL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89000"/>
            <a:ext cx="67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  LAJA 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IA DE DETALLE BOCATOMA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II REGIO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INFORME ETAP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 Y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04640"/>
            <a:ext cx="7416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ARTICIÓN DE CAUDALES ENTRE LAS BARRERAS MÓVILES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ARA LA CRECIDA DE 1 EN 200 AÑOS (Q=1900 M3/S)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ometría de las Obr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cciones de Cálculo y Condiciones de Bor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IO DIGUILL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GUAS ARRIBA DE  BARRER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440" y="1628640"/>
            <a:ext cx="841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RIFICACION OPERACIÓN CANAL MATRIZ LAJA-DIGUILLI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ormación Disponibl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Operación Can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7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IONAMIENTO DE LAS OBRAS EN CONDI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RMALES DE OPER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BOCATOMA CANAL UNIFICAD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320" y="333360"/>
            <a:ext cx="88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gún el estudio del Consorcio Laja Diguillín la pendiente media de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mo del cauce es " i = 0,58 %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a única restricción artificial que presenta actualmente este cauce 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ente Santa Isabel, con 210 m de longitud, ubicado 3,3 km aguas 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la bocatoma Diguil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997360"/>
            <a:ext cx="848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total de la hoy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A            =           1.151,26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pluvial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11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,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4,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evación media (cuenca pluvial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Z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899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ínea de nieve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            Zn           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500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5,6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 desde el CG: L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6,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,1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2133720"/>
            <a:ext cx="9541080" cy="230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4920" y="479736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   :  Período de Retorno de " P " y " Q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   :  Precipitación Máxima 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   :  Caudal Máximo Instantá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o  =  82,3 m3/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dal Base del rí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476280"/>
            <a:ext cx="71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CIPITACIONES MÁXIMAS DIARIAS Y CAUDALES MÁX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TANTÁNEOS PARA DISTINTOS PERÍODOS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2560" y="423720"/>
            <a:ext cx="56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714240"/>
            <a:ext cx="633744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87280"/>
            <a:ext cx="76327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137440" cy="30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7200" y="3716280"/>
            <a:ext cx="80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ó el arrastre de sólidos mediante el método de Meyer-Peter y Mü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fórmulas utilizadas se presentan a contin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4360" y="4538520"/>
                <a:ext cx="338292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32360" y="4873680"/>
                <a:ext cx="2376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1:49:33Z</dcterms:created>
  <dc:creator>Fernando Echeverria</dc:creator>
  <dc:description/>
  <dc:language>en-US</dc:language>
  <cp:lastModifiedBy>Fernando Echeverria</cp:lastModifiedBy>
  <dcterms:modified xsi:type="dcterms:W3CDTF">2008-08-17T23:20:05Z</dcterms:modified>
  <cp:revision>3</cp:revision>
  <dc:subject/>
  <dc:title>Slide 1</dc:title>
</cp:coreProperties>
</file>