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511-3D42-4694-BCBB-A6335948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461-875D-4946-BC63-5748A70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B8D-A7FE-49F8-9D39-A250A386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76B-223C-467C-963E-1D235146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80D-1304-4733-AA8C-8BF422CE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BC1-0A14-433F-8605-86EF957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507-0477-41E4-95D3-AD1B7FD4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22A-179E-4B96-A6E7-E827FF9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135-0E0F-4159-BE41-9DC524E8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279-2E0F-4658-BB6F-613A989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6BB-EC9D-4CF8-A9C6-0B178DB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C39-83F9-415A-94FB-E28AC2D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A25B-11F4-4D33-B904-EAB476CCA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1161800" cy="230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000" y="2565360"/>
            <a:ext cx="8352000" cy="13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3936960"/>
            <a:ext cx="864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15280" y="54936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ASTO SÓLIDO A LA ENTRADA DE LA BOCATOMA 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093680"/>
            <a:ext cx="80647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432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23840" y="56844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onclusión, se obtiene un gasto sólido de arrastre de 7644 kg/s a la entrada de la Bocatoma Diguillín para un caudal líquido de 1900 m3/s correspondiente a un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 retorno de 20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8200" y="2513160"/>
            <a:ext cx="70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78136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un caudal Q=1900 m3/s correspondiente a 200 años de período de retorno, el Consorcio Laja-Diguillín calculó el gasto sólido de arrastre mediante el programa EJE.BAS que utiliza el método de Meyer-Peter y Muller y el método de Sato.  El Consorcio Laja-Diguillín seleccionó el método de Sato obteniendo un arrastre de fondo de 1300 kg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914400"/>
          <a:ext cx="60962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557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ANTECEDENT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IDR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SEDIM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SP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ALISIS DE SUELOS Y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MECÁNICA DE SUEL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89000"/>
            <a:ext cx="67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YECTO  LAJA 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IA DE DETALLE BOCATOMA DIGU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II REGIO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INFORME ETAP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 Y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4640"/>
            <a:ext cx="7416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ÍO DIGUILLÍ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2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PARTICIÓN DE CAUDALES ENTRE LAS BARRERAS MÓVILES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ARA LA CRECIDA DE 1 EN 200 AÑOS (Q=1900 M3/S)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ometría de las Obr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cciones de Cálculo y Condiciones de Bor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3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S HIDRÁULICOS DEL RIO DIGUILL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GUAS ARRIBA DE  BARRER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od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álculo del Eje Hidráulic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4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440" y="1628640"/>
            <a:ext cx="841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RIFICACION OPERACIÓN CANAL MATRIZ LAJA-DIGUILLI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ormación Disponibl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álisis Operación Can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6.3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IONAMIENTO DE LAS OBRAS EN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RMALES DE OPER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BOCATOMA CANAL UNIFICAD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SEÑO 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3320" y="333360"/>
            <a:ext cx="88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P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gún el estudio del Consorcio Laja Diguillín la pendiente media de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mo del cauce es " i = 0,58 %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a única restricción artificial que presenta actualmente este cauce 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nte Santa Isabel, con 210 m de longitud, ubicado 3,3 km aguas 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la bocatoma Diguil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997360"/>
            <a:ext cx="848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total de la hoy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A            =           1.151,26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pluvial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11 km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,6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4,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evación media (cuenca pluvial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Z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899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ínea de nieve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            Zn           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500 m s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5,6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ngitud del cauce principal desde el CG: L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6,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ndiente media de la cuenc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,1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2133720"/>
            <a:ext cx="9541080" cy="230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4920" y="479736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   :  Período de Retorno de " P " y " Q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   :  Precipitación Máxima 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   :  Caudal Máximo Instantá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o  =  82,3 m3/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dal Base del rí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guil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476280"/>
            <a:ext cx="71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CIPITACIONES MÁXIMAS DIARIAS Y CAUDALES MÁX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TANTÁNEOS PARA DISTINTOS PERÍODOS DE 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560" y="423720"/>
            <a:ext cx="56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UDIO DE ARRASTRE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714240"/>
            <a:ext cx="633744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87280"/>
            <a:ext cx="76327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137440" cy="30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" y="3716280"/>
            <a:ext cx="80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ó el arrastre de sólidos mediante el método de Meyer-Peter y Mü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fórmulas utilizadas se presentan a contin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4360" y="4538520"/>
                <a:ext cx="338292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32360" y="4873680"/>
                <a:ext cx="237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49:33Z</dcterms:created>
  <dc:creator>Fernando Echeverria</dc:creator>
  <dc:description/>
  <dc:language>en-US</dc:language>
  <cp:lastModifiedBy>Fernando Echeverria</cp:lastModifiedBy>
  <dcterms:modified xsi:type="dcterms:W3CDTF">2008-08-17T23:20:05Z</dcterms:modified>
  <cp:revision>3</cp:revision>
  <dc:subject/>
  <dc:title>Slide 1</dc:title>
</cp:coreProperties>
</file>