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6547-158A-4A52-93FF-36895831C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0B07-C07E-4DBE-83BD-F2B8D5D0A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FFC6-2269-4728-B413-1AFA19098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529B-3E1A-442E-87A4-A3C2E8E1A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C27B-8D4A-4FEC-82CC-438393C77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1DCB-E749-4098-8404-229283957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1494-C095-4460-941E-BEBB9581F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968C-A8F7-4B05-B2F1-90FA01524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7084-1359-41AC-AB6B-2D2391770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BB6A-ECF8-48C3-827A-BE15D350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0077-457C-445E-B419-A201C10B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A9F3-2B81-4788-864B-15DC5E47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021E-4B91-4D4C-8FD7-AE420BB0A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84720" y="260280"/>
            <a:ext cx="2232360" cy="170964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539640" y="3933720"/>
            <a:ext cx="3600360" cy="2664000"/>
            <a:chOff x="539640" y="3933720"/>
            <a:chExt cx="3600360" cy="2664000"/>
          </a:xfrm>
        </p:grpSpPr>
        <p:graphicFrame>
          <p:nvGraphicFramePr>
            <p:cNvPr id="43" name=""/>
            <p:cNvGraphicFramePr/>
            <p:nvPr/>
          </p:nvGraphicFramePr>
          <p:xfrm>
            <a:off x="539640" y="3933720"/>
            <a:ext cx="3418920" cy="2664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39640" y="3933720"/>
                      <a:ext cx="3418920" cy="2664000"/>
                    </a:xfrm>
                    <a:prstGeom prst="rect">
                      <a:avLst/>
                    </a:prstGeom>
                    <a:ln w="19080">
                      <a:solidFill>
                        <a:srgbClr val="333399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45" name=""/>
            <p:cNvSpPr/>
            <p:nvPr/>
          </p:nvSpPr>
          <p:spPr>
            <a:xfrm>
              <a:off x="539640" y="5254200"/>
              <a:ext cx="1002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ALAMED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994680" y="5866200"/>
              <a:ext cx="1047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LAS REJA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rot="3300000">
              <a:off x="3592440" y="4410000"/>
              <a:ext cx="93240" cy="364320"/>
            </a:xfrm>
            <a:prstGeom prst="upArrow">
              <a:avLst>
                <a:gd name="adj1" fmla="val 50000"/>
                <a:gd name="adj2" fmla="val 9768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77080" y="4781520"/>
              <a:ext cx="315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92040" y="4923720"/>
              <a:ext cx="1047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ECUADO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4390920" y="3860640"/>
            <a:ext cx="4753080" cy="2684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24000" y="260280"/>
            <a:ext cx="54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Tahoma Small Cap"/>
              </a:rPr>
              <a:t>PRÁCTICA DE VAC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Tahoma Small Cap"/>
              </a:rPr>
              <a:t>MICROSIMULACIÓN DE CORREDORES DE TRANSPORTE PÚBLICO USANDO PARAM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2060640"/>
            <a:ext cx="741672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 Small Cap"/>
              </a:rPr>
              <a:t>EL OBJETIVO DE LAS PRÁCTICAS ES CODIFICAR Y CALIBRAR EN EL MICROSIMULADOR DE TRÁFICO PARAMICS Y SU APLICACIÓN MISTRANSIT, CORREDORES DE TRANSPORTE PÚBLICO ACTUALMENTE EN FUNCIONAMIENTO EN SANTIAGO (SANTA ROSA, PAJARITOS, GRECIA, ENTRE OTROS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 Small Cap"/>
              </a:rPr>
              <a:t>LOS ALUMNOS TRABAJARÁN EN EL LABORATORIO DE SIMULACIÓN Y MODELAMIENTO URBANO, UBICADO EN INGENIERÍA DE TRANSPORTE (5TO PISO EDIFICIO INGENIERÍA CIVIL). TANTO EL SOFTWARE COMO LA INFORMACIÓN DIGITAL PARA CODIFICAR ESTARÁN DISPONIBLES PARA EL TRABAJ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1268280"/>
            <a:ext cx="5545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Se ofrece prácticas de vacaciones con financiamiento, para comenzar lo antes posible (preferentemente el lunes 8 de Diciembre), por un plazo de 2 meses jornada comple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11640" y="3789360"/>
            <a:ext cx="4932360" cy="273672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3300"/>
                </a:solidFill>
                <a:latin typeface="Arial"/>
              </a:rPr>
              <a:t>Posibles interesados enviar antecedentes 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3300"/>
                </a:solidFill>
                <a:latin typeface="Arial"/>
              </a:rPr>
              <a:t>Dr. Cristián Cortés, Ingeniería Civil-Transp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3300"/>
                </a:solidFill>
                <a:latin typeface="Arial"/>
              </a:rPr>
              <a:t>e-mail: ccortes@ing.uchile.c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4T20:43:11Z</dcterms:created>
  <dc:creator> cc</dc:creator>
  <dc:description/>
  <dc:language>en-US</dc:language>
  <cp:lastModifiedBy> cc</cp:lastModifiedBy>
  <dcterms:modified xsi:type="dcterms:W3CDTF">2008-12-03T15:52:23Z</dcterms:modified>
  <cp:revision>10</cp:revision>
  <dc:subject/>
  <dc:title>Diapositiva 1</dc:title>
</cp:coreProperties>
</file>