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EB3-980A-4F06-A126-854673EA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DE4-369E-4D71-BC86-9300B466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90B-ABFA-4D27-8795-21A0918C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F25-3101-4917-8913-965201D6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8F0-479A-49AB-9AFA-301D23AA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DF0-9900-4E25-920C-DAA42D5C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F0F8-69A9-4495-BC9B-40FD51C6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271-2B80-43C2-9234-9CD128FC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9E3-A158-4363-90F1-00BD5BB2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BE6-44B8-46BC-AD53-71CDEBFF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CDD-37CC-4957-B0C8-1FB52E2A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EC8-7121-47D1-8474-D7814DDB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DE09-3342-41D2-976B-04DD4C264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232360" cy="1709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39640" y="3933720"/>
            <a:ext cx="3600360" cy="2664000"/>
            <a:chOff x="539640" y="3933720"/>
            <a:chExt cx="3600360" cy="2664000"/>
          </a:xfrm>
        </p:grpSpPr>
        <p:graphicFrame>
          <p:nvGraphicFramePr>
            <p:cNvPr id="43" name=""/>
            <p:cNvGraphicFramePr/>
            <p:nvPr/>
          </p:nvGraphicFramePr>
          <p:xfrm>
            <a:off x="539640" y="3933720"/>
            <a:ext cx="3418920" cy="2664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3933720"/>
                      <a:ext cx="3418920" cy="2664000"/>
                    </a:xfrm>
                    <a:prstGeom prst="rect">
                      <a:avLst/>
                    </a:prstGeom>
                    <a:ln w="1908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539640" y="5254200"/>
              <a:ext cx="1002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ALAME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94680" y="586620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LAS REJ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3300000">
              <a:off x="3592440" y="4410000"/>
              <a:ext cx="93240" cy="364320"/>
            </a:xfrm>
            <a:prstGeom prst="upArrow">
              <a:avLst>
                <a:gd name="adj1" fmla="val 50000"/>
                <a:gd name="adj2" fmla="val 9768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7080" y="4781520"/>
              <a:ext cx="31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92040" y="492372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390920" y="3860640"/>
            <a:ext cx="4753080" cy="268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26028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 Small Cap"/>
              </a:rPr>
              <a:t>PRÁCTICA DE VA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 Small Cap"/>
              </a:rPr>
              <a:t>MICROSIMULACIÓN DE CORREDORES DE TRANSPORTE PÚBLICO USANDO PAR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2060640"/>
            <a:ext cx="7416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 Small Cap"/>
              </a:rPr>
              <a:t>EL OBJETIVO DE LAS PRÁCTICAS ES CODIFICAR Y CALIBRAR EN EL MICROSIMULADOR DE TRÁFICO PARAMICS Y SU APLICACIÓN MISTRANSIT, CORREDORES DE TRANSPORTE PÚBLICO ACTUALMENTE EN FUNCIONAMIENTO EN SANTIAGO (SANTA ROSA, PAJARITOS, GRECIA, ENTRE OTRO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 Small Cap"/>
              </a:rPr>
              <a:t>LOS ALUMNOS TRABAJARÁN EN EL LABORATORIO DE SIMULACIÓN Y MODELAMIENTO URBANO, UBICADO EN INGENIERÍA DE TRANSPORTE (5TO PISO EDIFICIO INGENIERÍA CIVIL). TANTO EL SOFTWARE COMO LA INFORMACIÓN DIGITAL PARA CODIFICAR ESTARÁN DISPONIBLES PARA EL 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268280"/>
            <a:ext cx="554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e ofrece prácticas de vacaciones con financiamiento, para comenzar lo antes posible (preferentemente el lunes 8 de Diciembre), por un plazo de 2 meses jornada compl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3789360"/>
            <a:ext cx="4932360" cy="2736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Posibles interesados enviar antecedentes 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Dr. Cristián Cortés, Ingeniería Civil-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e-mail: ccortes@ing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0:43:11Z</dcterms:created>
  <dc:creator> cc</dc:creator>
  <dc:description/>
  <dc:language>en-US</dc:language>
  <cp:lastModifiedBy> cc</cp:lastModifiedBy>
  <dcterms:modified xsi:type="dcterms:W3CDTF">2008-12-03T15:52:23Z</dcterms:modified>
  <cp:revision>10</cp:revision>
  <dc:subject/>
  <dc:title>Diapositiva 1</dc:title>
</cp:coreProperties>
</file>