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91C-316E-4832-AB77-6B51BEF2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2415-9BD5-4808-A1F9-72E6CBB9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2C5-45D7-49D0-B066-F622DE2E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91E-1AED-4F0C-B2C7-B57391E4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D5AA-2D89-4BBD-98A6-7D0B29AE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842-4A2D-48E4-898F-49E5101A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4E1-142E-4E6A-B44E-CFC0CCE6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661A-E0A0-4C15-AD52-577ED8C2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8A9D-8509-4A4C-B220-A6A59D23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48A-2DAC-4324-99FB-2F1824FC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740A-F314-474D-B95F-E0DB8B9D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668E-944A-41B1-8194-CCA5E0F0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2536-3329-4E61-9521-DB7F41BE8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232360" cy="1709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539640" y="3933720"/>
            <a:ext cx="3600360" cy="2664000"/>
            <a:chOff x="539640" y="3933720"/>
            <a:chExt cx="3600360" cy="2664000"/>
          </a:xfrm>
        </p:grpSpPr>
        <p:graphicFrame>
          <p:nvGraphicFramePr>
            <p:cNvPr id="43" name=""/>
            <p:cNvGraphicFramePr/>
            <p:nvPr/>
          </p:nvGraphicFramePr>
          <p:xfrm>
            <a:off x="539640" y="3933720"/>
            <a:ext cx="3418920" cy="2664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9640" y="3933720"/>
                      <a:ext cx="3418920" cy="2664000"/>
                    </a:xfrm>
                    <a:prstGeom prst="rect">
                      <a:avLst/>
                    </a:prstGeom>
                    <a:ln w="19080">
                      <a:solidFill>
                        <a:srgbClr val="3333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5" name=""/>
            <p:cNvSpPr/>
            <p:nvPr/>
          </p:nvSpPr>
          <p:spPr>
            <a:xfrm>
              <a:off x="539640" y="5254200"/>
              <a:ext cx="1002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ALAME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94680" y="5866200"/>
              <a:ext cx="104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LAS REJ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3300000">
              <a:off x="3592440" y="4410000"/>
              <a:ext cx="93240" cy="364320"/>
            </a:xfrm>
            <a:prstGeom prst="upArrow">
              <a:avLst>
                <a:gd name="adj1" fmla="val 50000"/>
                <a:gd name="adj2" fmla="val 9768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7080" y="4781520"/>
              <a:ext cx="315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92040" y="4923720"/>
              <a:ext cx="104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390920" y="3860640"/>
            <a:ext cx="4753080" cy="2684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260280"/>
            <a:ext cx="54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Tahoma Small Cap"/>
              </a:rPr>
              <a:t>PRÁCTICA DE VA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Tahoma Small Cap"/>
              </a:rPr>
              <a:t>MICROSIMULACIÓN DE CORREDORES DE TRANSPORTE PÚBLICO USANDO PAR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2060640"/>
            <a:ext cx="7416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 Small Cap"/>
              </a:rPr>
              <a:t>EL OBJETIVO DE LAS PRÁCTICAS ES CODIFICAR Y CALIBRAR EN EL MICROSIMULADOR DE TRÁFICO PARAMICS Y SU APLICACIÓN MISTRANSIT, CORREDORES DE TRANSPORTE PÚBLICO ACTUALMENTE EN FUNCIONAMIENTO EN SANTIAGO (SANTA ROSA, PAJARITOS, GRECIA, ENTRE OTRO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 Small Cap"/>
              </a:rPr>
              <a:t>LOS ALUMNOS TRABAJARÁN EN EL LABORATORIO DE SIMULACIÓN Y MODELAMIENTO URBANO, UBICADO EN INGENIERÍA DE TRANSPORTE (5TO PISO EDIFICIO INGENIERÍA CIVIL). TANTO EL SOFTWARE COMO LA INFORMACIÓN DIGITAL PARA CODIFICAR ESTARÁN DISPONIBLES PARA EL TRABA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268280"/>
            <a:ext cx="554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e ofrece prácticas de vacaciones con financiamiento, para comenzar lo antes posible (preferentemente el lunes 8 de Diciembre), por un plazo de 2 meses jornada compl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3789360"/>
            <a:ext cx="4932360" cy="2736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00"/>
                </a:solidFill>
                <a:latin typeface="Arial"/>
              </a:rPr>
              <a:t>Posibles interesados enviar antecedentes 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00"/>
                </a:solidFill>
                <a:latin typeface="Arial"/>
              </a:rPr>
              <a:t>Dr. Cristián Cortés, Ingeniería Civil-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00"/>
                </a:solidFill>
                <a:latin typeface="Arial"/>
              </a:rPr>
              <a:t>e-mail: ccortes@ing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20:43:11Z</dcterms:created>
  <dc:creator> cc</dc:creator>
  <dc:description/>
  <dc:language>en-US</dc:language>
  <cp:lastModifiedBy> cc</cp:lastModifiedBy>
  <dcterms:modified xsi:type="dcterms:W3CDTF">2008-12-03T15:52:23Z</dcterms:modified>
  <cp:revision>10</cp:revision>
  <dc:subject/>
  <dc:title>Diapositiva 1</dc:title>
</cp:coreProperties>
</file>