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D25-52AE-43DB-B4B4-F618F37C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9D2-5A83-4ABE-967B-B7D6F5E7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363-173C-4E19-B815-E6D0B0AE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A97-942B-42A3-9C9E-CFB6FF5B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0F7-7952-4EAE-A337-9756D5BB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F49-63BC-47ED-945E-82F6506C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FC4-4628-4781-8AAC-4172E095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EE8-0414-4A79-8BE8-13431EC1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62F-7DD0-4020-927B-F4C1A72C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65C-CCBF-462B-A8F3-DB196E3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CE5-A660-4941-B48C-0D17C8DF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482-5D54-49B3-B92B-F8DA2572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C69A-58F5-4895-A4B4-F6143F999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232360" cy="1709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9640" y="3933720"/>
            <a:ext cx="3600360" cy="2664000"/>
            <a:chOff x="539640" y="3933720"/>
            <a:chExt cx="3600360" cy="2664000"/>
          </a:xfrm>
        </p:grpSpPr>
        <p:graphicFrame>
          <p:nvGraphicFramePr>
            <p:cNvPr id="43" name=""/>
            <p:cNvGraphicFramePr/>
            <p:nvPr/>
          </p:nvGraphicFramePr>
          <p:xfrm>
            <a:off x="539640" y="3933720"/>
            <a:ext cx="3418920" cy="26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3933720"/>
                      <a:ext cx="3418920" cy="2664000"/>
                    </a:xfrm>
                    <a:prstGeom prst="rect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539640" y="5254200"/>
              <a:ext cx="100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LAME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4680" y="586620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AS REJ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300000">
              <a:off x="3592440" y="4410000"/>
              <a:ext cx="93240" cy="364320"/>
            </a:xfrm>
            <a:prstGeom prst="upArrow">
              <a:avLst>
                <a:gd name="adj1" fmla="val 50000"/>
                <a:gd name="adj2" fmla="val 976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080" y="4781520"/>
              <a:ext cx="31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2040" y="49237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90920" y="3860640"/>
            <a:ext cx="4753080" cy="268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6028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PRÁCTICA DE VA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MICROSIMULACIÓN DE CORREDORES DE TRANSPORTE PÚBLICO USANDO PAR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060640"/>
            <a:ext cx="741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EL OBJETIVO DE LAS PRÁCTICAS ES CODIFICAR Y CALIBRAR EN EL MICROSIMULADOR DE TRÁFICO PARAMICS Y SU APLICACIÓN MISTRANSIT, CORREDORES DE TRANSPORTE PÚBLICO ACTUALMENTE EN FUNCIONAMIENTO EN SANTIAGO (SANTA ROSA, PAJARITOS, GRECIA, ENTRE OTRO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LOS ALUMNOS TRABAJARÁN EN EL LABORATORIO DE SIMULACIÓN Y MODELAMIENTO URBANO, UBICADO EN INGENIERÍA DE TRANSPORTE (5TO PISO EDIFICIO INGENIERÍA CIVIL). TANTO EL SOFTWARE COMO LA INFORMACIÓN DIGITAL PARA CODIFICAR ESTARÁN DISPONIBLES PARA EL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268280"/>
            <a:ext cx="554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e ofrece prácticas de vacaciones con financiamiento, para comenzar lo antes posible (preferentemente el lunes 8 de Diciembre), por un plazo de 2 meses jornada compl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789360"/>
            <a:ext cx="4932360" cy="2736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Posibles interesados enviar antecedentes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Dr. Cristián Cortés, Ingeniería Civil-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e-mail: ccortes@ing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0:43:11Z</dcterms:created>
  <dc:creator> cc</dc:creator>
  <dc:description/>
  <dc:language>en-US</dc:language>
  <cp:lastModifiedBy> cc</cp:lastModifiedBy>
  <dcterms:modified xsi:type="dcterms:W3CDTF">2008-12-03T15:52:23Z</dcterms:modified>
  <cp:revision>10</cp:revision>
  <dc:subject/>
  <dc:title>Diapositiva 1</dc:title>
</cp:coreProperties>
</file>