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BC3-EC90-4A1C-A33E-6ADB9CB8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64B-53B1-400A-8DAD-C0124619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9F4-7122-4A49-9136-C3B44CE4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677-EEB7-419B-A904-20943D5E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0B6-3EE8-4473-94EA-52DA80F5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63C5-9DE9-4CE8-A285-BBD8250D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DF9-445B-4721-BFFB-8FC70EC1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96C-CC92-488C-8B9E-529D9596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EB8-1D36-4D64-85E1-D8D356F3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0B0-6191-4BB5-9B84-25C794E4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ACB8-BEF8-44CC-BA39-E9F89561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02F-6B13-4713-9794-54BEF294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11F1-1E10-4CCB-875A-92421DD00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1200"/>
            <a:ext cx="756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s de Oferta.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temas cíclicos: simple, con carga de retorno, general; los casos  t(k). Teoría de la circulación: el problema t(q), diagrama espacio-tiempo. Variables y relaciones: flujo, velocidad, concentración; capacidad de medios fijos. Función de transporte con demanda endógena: reglas de operación y nivel de servicio; capacidad y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13320" y="11977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5932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685800"/>
            <a:ext cx="79246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hor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. Vmax=10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. Vmax=5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573360"/>
            <a:ext cx="540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4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a función de oferta de las v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3644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e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533520" y="5559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443600"/>
            <a:ext cx="8591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rivaciones a partir de la función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04920" y="4104000"/>
            <a:ext cx="8534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ustitución entre número de vehículos y 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8-10-13T14:11:37Z</dcterms:modified>
  <cp:revision>53</cp:revision>
  <dc:subject/>
  <dc:title>Sin título de diapositiva</dc:title>
</cp:coreProperties>
</file>