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4213-5968-432F-9A90-E5066723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8B3A-FB7B-4BF7-9A0E-19664DC5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0217-0D78-4E3B-AE43-26FF38FF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832C-8152-4D0F-B5DE-7F77081C8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173C-C22E-4C5A-99D8-5D82701E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9C55-A29E-4838-91EB-27923AEA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2D1E-7D3A-4ED3-802B-A25259D5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840B-257E-4514-AE07-85D9B385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046D-5012-4FED-AF3A-C86B355D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8090-4AEE-4A84-9063-241CAEBF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98BB-AAA1-46E8-98A8-1A739776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08B1-B8D6-4A28-A606-CA1D263F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4499-D763-46D2-AC5B-21DD4FEE9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1200"/>
            <a:ext cx="7560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Diseño de of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delos de Oferta.     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stemas cíclicos: simple, con carga de retorno, general; los casos  t(k). Teoría de la circulación: el problema t(q), diagrama espacio-tiempo. Variables y relaciones: flujo, velocidad, concentración; capacidad de medios fijos. Función de transporte con demanda endógena: reglas de operación y nivel de servicio; capacidad y flu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 Capítu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396216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ductividad marginal de la capacidad de carga/ descar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09480" y="914400"/>
                <a:ext cx="44290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Bk</m:t>
                    </m:r>
                    <m:r>
                      <m:t xml:space="preserve">=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31960" y="2333520"/>
                <a:ext cx="41367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k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η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 flipV="1">
            <a:off x="5867280" y="10663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3200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5880" y="1143000"/>
            <a:ext cx="2133720" cy="1600200"/>
          </a:xfrm>
          <a:custGeom>
            <a:avLst/>
            <a:gdLst/>
            <a:ahLst/>
            <a:rect l="l" t="t" r="r" b="b"/>
            <a:pathLst>
              <a:path w="1536" h="976">
                <a:moveTo>
                  <a:pt x="0" y="0"/>
                </a:moveTo>
                <a:cubicBezTo>
                  <a:pt x="64" y="328"/>
                  <a:pt x="128" y="656"/>
                  <a:pt x="384" y="816"/>
                </a:cubicBezTo>
                <a:cubicBezTo>
                  <a:pt x="640" y="976"/>
                  <a:pt x="1088" y="968"/>
                  <a:pt x="1536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8200" y="114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73840" y="3123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09480" y="5029200"/>
                <a:ext cx="339588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257800" y="4952880"/>
                <a:ext cx="10954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¿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991880" y="15120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ntidad almacenada en 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373284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752480" y="7934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8690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29275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88040" y="2926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7524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6238400">
            <a:off x="2133360" y="2622240"/>
            <a:ext cx="76320" cy="83844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7200" y="3185280"/>
            <a:ext cx="6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752480" y="1708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90040" y="1462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1708200"/>
            <a:ext cx="2971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38400">
            <a:off x="4113000" y="1566720"/>
            <a:ext cx="76320" cy="2971800"/>
          </a:xfrm>
          <a:custGeom>
            <a:avLst/>
            <a:gdLst>
              <a:gd name="textAreaLeft" fmla="*/ 48960 w 76320"/>
              <a:gd name="textAreaRight" fmla="*/ 76320 w 7632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01680" y="32313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56386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38400">
            <a:off x="6095880" y="26226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05080" y="3185280"/>
            <a:ext cx="6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09480" y="4191120"/>
                <a:ext cx="2286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895480" y="4114800"/>
                <a:ext cx="49514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547640" y="5207040"/>
                <a:ext cx="44452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2280" y="272160"/>
            <a:ext cx="223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ntidad almacenada por el sistem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31860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92400" y="883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72200" y="1508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úmero de ciclos en un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11127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12034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ración del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5146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066680" y="2362320"/>
                <a:ext cx="15163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2437200" y="10058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895480" y="2160720"/>
                <a:ext cx="161604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572000" y="2133720"/>
                <a:ext cx="43434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267080" y="3124080"/>
                <a:ext cx="46468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80880" y="45100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empo medio de permanencia de lo transportado en 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200240" y="5334120"/>
                <a:ext cx="40734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5410080" y="5652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ivel de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09480" y="16002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143000" y="16448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800600" y="16765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5334120" y="1904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¿Qué pasa si k/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+ &gt; 1/f 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007280"/>
            <a:ext cx="8001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ti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ación que permite cargar o descargar un vehíc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782640" y="2666880"/>
                <a:ext cx="4478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219320" y="2894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intervalo entre veh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cesito más de un sit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42354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esto no se cumple, de todas maneras puedo necesitar más de un sitio, debido al tiempo de posiciona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40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p: tiempo de posicionamiento: tiempo que transcurre entre la llegada de un vehículo al sitio y que este se encuentre listo para cargar/descargar.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812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6868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396252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81280" y="4952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84600" y="438156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96252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294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244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0552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4381560"/>
            <a:ext cx="685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1120320"/>
            <a:ext cx="8001000" cy="45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i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+ sitios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capacidad de carga (UF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sitio está en operación una proporció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 d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úmero de sitios en servicio en un instante d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pacidad de carga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be cumplirse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952880" y="5334120"/>
                <a:ext cx="181152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sSubSup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534600"/>
            <a:ext cx="8001000" cy="57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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intensidad relativa del flujo de transporte con respecto a la capacidad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mínimo de sitios que en promedio deben estar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=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ara descarga se analiza de igual for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 k</a:t>
            </a:r>
            <a:r>
              <a:rPr b="0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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+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&gt; 1/f ==&gt; se necesita más de un si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Graficar operación de un terminal de carga con tres sit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Analizar tiempo de esp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lastslide"/>
          </p:cNvPr>
          <p:cNvSpPr/>
          <p:nvPr/>
        </p:nvSpPr>
        <p:spPr>
          <a:xfrm>
            <a:off x="807732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94120" y="53244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1100160"/>
            <a:ext cx="800100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aciones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962520" y="914400"/>
                <a:ext cx="33526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334120" y="2133720"/>
                <a:ext cx="265248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268920" y="30474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iempo de esp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09480" y="35809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56386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09480" y="4038120"/>
            <a:ext cx="2286000" cy="1600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18440" y="3961440"/>
            <a:ext cx="193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legadas a tas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752480" y="4876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563796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3960" y="6095160"/>
            <a:ext cx="22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legada de veh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56379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819520" y="41144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609120" y="4869000"/>
            <a:ext cx="1143000" cy="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6440" y="4631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09120" y="4114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5960" y="3961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142640" y="4876920"/>
            <a:ext cx="609480" cy="7617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16160" y="509652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209680" y="4114800"/>
            <a:ext cx="609840" cy="76212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83200" y="433440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76520" y="4876920"/>
            <a:ext cx="53316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5840" y="5240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08360" y="471564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14080" y="470772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2·k·1/f - 1/2·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·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5360" y="539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91840" y="5385600"/>
            <a:ext cx="16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(1/2f - k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59480" y="6058440"/>
            <a:ext cx="459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31480" y="60714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2f - k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05800" y="6079320"/>
            <a:ext cx="7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/k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57600" y="5943600"/>
            <a:ext cx="243828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64340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166400"/>
            <a:ext cx="8458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uesto: el retorno se utiliza para el transporte de un segundo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La frecuencia de servicio debe ser suficiente para absorb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ecuencia necesa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260960" y="3073320"/>
                <a:ext cx="1311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958000" y="3073320"/>
                <a:ext cx="1349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533520" y="4390920"/>
            <a:ext cx="8458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ormas de ope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Plena utilización de la capacidad de car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959480" y="1512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235160" y="3208320"/>
                <a:ext cx="17190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80880" y="1593720"/>
                <a:ext cx="795492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385920" y="685080"/>
            <a:ext cx="77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505400" y="3271680"/>
                <a:ext cx="141120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448920" y="4647600"/>
            <a:ext cx="74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 con frecuencia única (flota ún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327480" y="5232240"/>
                <a:ext cx="161748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713320" y="1197720"/>
            <a:ext cx="335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Diseño de of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2261160"/>
            <a:ext cx="851220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La tecnología de transpo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X,Y)&gt;= 0 (función de transform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Y: Demanda (vector de flujos OD, periodo, mo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: Insumos (vías, terminales, vehículos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combino los X para producir Y en forma ópti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 Capítu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1522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ena carg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143000" y="1981080"/>
                <a:ext cx="130968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743200" y="1371600"/>
                <a:ext cx="1444680" cy="22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4831920" y="1975680"/>
            <a:ext cx="3612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n general distintas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ubdividir la fl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3559320"/>
            <a:ext cx="86868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vehículos que transportan producto 1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vehículos que transportan producto 1 a la ida y producto 2 en el 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vehículos que transportan producto 2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913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s de cic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809880" y="914400"/>
                <a:ext cx="4616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762120" y="4563000"/>
            <a:ext cx="86868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K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) &gt;=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+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-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=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+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447920" y="2133720"/>
                <a:ext cx="6941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505320" y="3505320"/>
                <a:ext cx="4851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959760"/>
            <a:ext cx="86104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cantidad de vehículos en cada flota depende de la magnitud relativa en las frecuencias.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&gt;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3949560"/>
            <a:ext cx="8686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y vicever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ar B con ambos tip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puesto: ¿qué elementos de este sistema son “optimizables”? 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590920" y="2063880"/>
                <a:ext cx="296532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666880" y="3130560"/>
                <a:ext cx="215280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85800" y="685800"/>
            <a:ext cx="792468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pues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0 ton, 25 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s vehículos requieren mantenimiento durante 1 día/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v(k)=L/Vmax+0,0001k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[hora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=500[kg/min]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=800[kg/mi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=100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1: materia prima, densidad 2 [ton/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00[ton/hora]. Vmax=100[km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2: producto elaborado, densidad 0,8 [ton/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40[ton/hora]. Vmax=50[km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pid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de frecuencia ún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a plena 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1533600"/>
            <a:ext cx="8001000" cy="50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viaje en el vehículo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amaño de embarque en el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rendimiento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de sitios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: frecuencia (ú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d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isten n puntos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n los que hay demanda de ingreso y/o salida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1645920"/>
            <a:ext cx="8001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: producto ún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demandas de ingreso y egreso en el terminal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743200" y="2743200"/>
                <a:ext cx="2565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609480" y="3825360"/>
            <a:ext cx="8001000" cy="24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gt;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lt;=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procesos de carga/descarga pueden ser simultáneos o secuenciales, según sean las características del vehículo/term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139480" y="3798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1414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ga/descarga secu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181480" y="1143000"/>
                <a:ext cx="25653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304920" y="274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cuación de continuida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343400" y="2743200"/>
                <a:ext cx="32115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380880" y="4167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ga/descarga simultá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649760" y="3860640"/>
                <a:ext cx="347652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477720" y="5160960"/>
                <a:ext cx="389268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8" dur="indefinite" restart="never" nodeType="tmRoot">
          <p:childTnLst>
            <p:seq>
              <p:cTn id="1449" dur="indefinite" nodeType="mainSeq">
                <p:childTnLst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126864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intensidad de flujo desde i hacia j (matriz origen-desti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133720" y="1752480"/>
                <a:ext cx="20415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029200" y="1752480"/>
                <a:ext cx="207792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5181480" y="4308480"/>
            <a:ext cx="34290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¿f?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áx 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 &lt;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838080" y="5181480"/>
                <a:ext cx="15242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228600" y="312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cuación de recurr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85800" y="3581280"/>
                <a:ext cx="33624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2" dur="indefinite" restart="never" nodeType="tmRoot">
          <p:childTnLst>
            <p:seq>
              <p:cTn id="1493" dur="indefinite" nodeType="mainSeq">
                <p:childTnLst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39560" y="3733920"/>
                <a:ext cx="27021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304920" y="1162440"/>
            <a:ext cx="8001000" cy="22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Si tenemos un conjunto de valor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cumple con la ecuación de recurrencia, entonc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‘=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C también cu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ustituimos f por f’=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 ==&gt; las ecuaciones serán satisfechas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962520" y="3124080"/>
                <a:ext cx="441936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886200" y="4495680"/>
                <a:ext cx="44197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861480" y="609480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--&gt; método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139480" y="4561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étodo de cálculo de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1082880"/>
            <a:ext cx="18288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57440" y="5284080"/>
            <a:ext cx="261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--&gt; demo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19520" y="1134000"/>
            <a:ext cx="541008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f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 tal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     i=1, ... 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1057680"/>
            <a:ext cx="2590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o es como usar una frecuencia unitaria, puede no satisfacer restricciones de carga 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" y="3368880"/>
            <a:ext cx="54100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ín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áx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52680" y="369648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recuencia:   f=(Q-q)/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amaño de embarque: ki=(qi-q)/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32000" y="3573360"/>
            <a:ext cx="5400720" cy="1368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504800"/>
            <a:ext cx="8001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d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stema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r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 operación cíclica de frecuencia f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 vehículos idénticos e intercamb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525744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iste demanda de Transporte en un par origen-destino único, con un producto único de naturaleza continua y con demanda estacion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34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La función de oferta de las ví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15640" y="36446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Comic Sans MS"/>
              </a:rPr>
              <a:t>Teoría de la circulació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Teoría de la circul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36232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62320" y="5715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14400" y="22096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72200" y="579132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19520" y="2514600"/>
            <a:ext cx="3581280" cy="3200400"/>
          </a:xfrm>
          <a:custGeom>
            <a:avLst/>
            <a:gdLst/>
            <a:ahLst/>
            <a:rect l="l" t="t" r="r" b="b"/>
            <a:pathLst>
              <a:path w="2256" h="2016">
                <a:moveTo>
                  <a:pt x="0" y="2016"/>
                </a:moveTo>
                <a:cubicBezTo>
                  <a:pt x="532" y="1968"/>
                  <a:pt x="1064" y="1920"/>
                  <a:pt x="1440" y="1584"/>
                </a:cubicBezTo>
                <a:cubicBezTo>
                  <a:pt x="1816" y="1248"/>
                  <a:pt x="2036" y="624"/>
                  <a:pt x="22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62320" y="3048120"/>
            <a:ext cx="4952880" cy="2133360"/>
          </a:xfrm>
          <a:custGeom>
            <a:avLst/>
            <a:gdLst/>
            <a:ahLst/>
            <a:rect l="l" t="t" r="r" b="b"/>
            <a:pathLst>
              <a:path w="3120" h="1344">
                <a:moveTo>
                  <a:pt x="0" y="1344"/>
                </a:moveTo>
                <a:cubicBezTo>
                  <a:pt x="124" y="1024"/>
                  <a:pt x="248" y="704"/>
                  <a:pt x="768" y="480"/>
                </a:cubicBezTo>
                <a:cubicBezTo>
                  <a:pt x="1288" y="256"/>
                  <a:pt x="2204" y="128"/>
                  <a:pt x="31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67480" y="2819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553080" y="2209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6172200" y="3276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81680" y="3505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elan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191120" y="3581280"/>
            <a:ext cx="0" cy="19051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14800" y="3809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spa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14600" y="4800600"/>
            <a:ext cx="28195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95480" y="44197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59436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diente =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500"/>
                            </p:stCondLst>
                            <p:childTnLst>
                              <p:par>
                                <p:cTn id="16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500"/>
                            </p:stCondLst>
                            <p:childTnLst>
                              <p:par>
                                <p:cTn id="17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500"/>
                            </p:stCondLst>
                            <p:childTnLst>
                              <p:par>
                                <p:cTn id="17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500"/>
                            </p:stCondLst>
                            <p:childTnLst>
                              <p:par>
                                <p:cTn id="1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res características fundamentales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lujo (f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que pasan por un cierto punto fijo por unidad d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densidad (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presentes, en un cierto instante, en una sección de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elocidad (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uede ser medida de distintas f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tem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3" dur="indefinite" restart="never" nodeType="tmRoot">
          <p:childTnLst>
            <p:seq>
              <p:cTn id="1754" dur="indefinite" nodeType="mainSeq">
                <p:childTnLst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cuación fundamental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(veh/hr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(km/hr) ·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 (veh/km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47920" y="3581280"/>
            <a:ext cx="22860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2743200"/>
            <a:ext cx="4572000" cy="259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142640" y="32004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47920" y="3048120"/>
            <a:ext cx="685800" cy="3988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4648320"/>
            <a:ext cx="685800" cy="3988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33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4191120"/>
            <a:ext cx="762120" cy="398880"/>
          </a:xfrm>
          <a:prstGeom prst="rect">
            <a:avLst/>
          </a:pr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648320" y="40381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05520" y="1828800"/>
            <a:ext cx="38098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= 2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nsida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veh/2km = 1,5 veh/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lujo: si me paro en un punto y observo por 1 hora ver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0 veces el vehículo ro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70 veces vehículo v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60 veces vehículo az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3520" y="533412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otal = 180 veh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s=(120+140+100)/3=120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t=(100*50+140*70+120*60)/180=122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15000" y="56386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=120*1,5=180(veh/h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9" dur="indefinite" restart="never" nodeType="tmRoot">
          <p:childTnLst>
            <p:seq>
              <p:cTn id="1810" dur="indefinite" nodeType="mainSeq">
                <p:childTnLst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500"/>
                            </p:stCondLst>
                            <p:childTnLst>
                              <p:par>
                                <p:cTn id="18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500"/>
                            </p:stCondLst>
                            <p:childTnLst>
                              <p:par>
                                <p:cTn id="18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500"/>
                            </p:stCondLst>
                            <p:childTnLst>
                              <p:par>
                                <p:cTn id="18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500"/>
                            </p:stCondLst>
                            <p:childTnLst>
                              <p:par>
                                <p:cTn id="18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l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la velocidad decrece con la den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típico: v(K)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velocidad de flujo li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densidad máxima (jam density, parking lot syndro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9" dur="indefinite" restart="never" nodeType="tmRoot">
          <p:childTnLst>
            <p:seq>
              <p:cTn id="1940" dur="indefinite" nodeType="mainSeq">
                <p:childTnLst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685800" y="2139840"/>
          <a:ext cx="8077320" cy="452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9840"/>
                    <a:ext cx="807732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 flipH="1">
            <a:off x="1295280" y="2895480"/>
            <a:ext cx="33530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2280" y="26661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1" dur="indefinite" restart="never" nodeType="tmRoot">
          <p:childTnLst>
            <p:seq>
              <p:cTn id="1972" dur="indefinite" nodeType="mainSeq">
                <p:childTnLst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990720" y="2209680"/>
          <a:ext cx="6912000" cy="387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691200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 flipV="1">
            <a:off x="6781680" y="3885840"/>
            <a:ext cx="0" cy="16002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72200" y="54093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5" dur="indefinite" restart="never" nodeType="tmRoot">
          <p:childTnLst>
            <p:seq>
              <p:cTn id="2016" dur="indefinite" nodeType="mainSeq">
                <p:childTnLst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ación tiempo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16765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n la práctica no se observa ese retorno hacia atr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3520" y="3276720"/>
            <a:ext cx="79246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rabajar con curvas monótonamente crecie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rincipales demoras están en interse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5410080" y="304920"/>
          <a:ext cx="350532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04920"/>
                    <a:ext cx="350532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5" dur="indefinite" restart="never" nodeType="tmRoot">
          <p:childTnLst>
            <p:seq>
              <p:cTn id="2036" dur="indefinite" nodeType="mainSeq">
                <p:childTnLst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16200000">
            <a:off x="-142560" y="3036240"/>
            <a:ext cx="29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Demora esperad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90920" y="50292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057400" y="15235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057400" y="46483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00920" y="4037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600920" y="2208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00920" y="26661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600920" y="3580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828800" y="46472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    400    600    800   1000   1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752480"/>
            <a:ext cx="3581280" cy="2667240"/>
          </a:xfrm>
          <a:custGeom>
            <a:avLst/>
            <a:gdLst/>
            <a:ahLst/>
            <a:rect l="l" t="t" r="r" b="b"/>
            <a:pathLst>
              <a:path w="2400" h="1680">
                <a:moveTo>
                  <a:pt x="0" y="1680"/>
                </a:moveTo>
                <a:cubicBezTo>
                  <a:pt x="784" y="1652"/>
                  <a:pt x="1568" y="1624"/>
                  <a:pt x="1968" y="1344"/>
                </a:cubicBezTo>
                <a:cubicBezTo>
                  <a:pt x="2368" y="1064"/>
                  <a:pt x="2384" y="532"/>
                  <a:pt x="240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057400" y="1752480"/>
            <a:ext cx="2286000" cy="2133720"/>
          </a:xfrm>
          <a:custGeom>
            <a:avLst/>
            <a:gdLst/>
            <a:ahLst/>
            <a:rect l="l" t="t" r="r" b="b"/>
            <a:pathLst>
              <a:path w="1152" h="1344">
                <a:moveTo>
                  <a:pt x="0" y="1344"/>
                </a:moveTo>
                <a:cubicBezTo>
                  <a:pt x="360" y="1312"/>
                  <a:pt x="720" y="1280"/>
                  <a:pt x="912" y="1056"/>
                </a:cubicBezTo>
                <a:cubicBezTo>
                  <a:pt x="1104" y="832"/>
                  <a:pt x="1128" y="416"/>
                  <a:pt x="11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419720" y="1597320"/>
            <a:ext cx="838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4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867280" y="1749600"/>
            <a:ext cx="838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6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27680" y="5866920"/>
            <a:ext cx="17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Sheffi 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9" dur="indefinite" restart="never" nodeType="tmRoot">
          <p:childTnLst>
            <p:seq>
              <p:cTn id="2080" dur="indefinite" nodeType="mainSeq">
                <p:childTnLst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4" fill="hold">
                            <p:stCondLst>
                              <p:cond delay="500"/>
                            </p:stCondLst>
                            <p:childTnLst>
                              <p:par>
                                <p:cTn id="2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rot="16200000">
            <a:off x="-750240" y="295848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iempo medio de espera en col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66880" y="60958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2057400" y="15238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057400" y="56386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600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920" y="1904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05120" y="56379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   200    300    400    500    600    700    800   9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38280" y="18288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57400" y="1752480"/>
            <a:ext cx="1523880" cy="2895840"/>
          </a:xfrm>
          <a:custGeom>
            <a:avLst/>
            <a:gdLst/>
            <a:ahLst/>
            <a:rect l="l" t="t" r="r" b="b"/>
            <a:pathLst>
              <a:path w="960" h="1824">
                <a:moveTo>
                  <a:pt x="0" y="1824"/>
                </a:moveTo>
                <a:cubicBezTo>
                  <a:pt x="208" y="1760"/>
                  <a:pt x="416" y="1696"/>
                  <a:pt x="576" y="1392"/>
                </a:cubicBezTo>
                <a:cubicBezTo>
                  <a:pt x="736" y="1088"/>
                  <a:pt x="848" y="544"/>
                  <a:pt x="9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828800"/>
            <a:ext cx="1219320" cy="2743200"/>
          </a:xfrm>
          <a:custGeom>
            <a:avLst/>
            <a:gdLst/>
            <a:ahLst/>
            <a:rect l="l" t="t" r="r" b="b"/>
            <a:pathLst>
              <a:path w="768" h="1728">
                <a:moveTo>
                  <a:pt x="0" y="1728"/>
                </a:moveTo>
                <a:cubicBezTo>
                  <a:pt x="224" y="1584"/>
                  <a:pt x="448" y="1440"/>
                  <a:pt x="576" y="1152"/>
                </a:cubicBezTo>
                <a:cubicBezTo>
                  <a:pt x="704" y="864"/>
                  <a:pt x="736" y="432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057400" y="1752480"/>
            <a:ext cx="2743200" cy="327672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57400" y="1676520"/>
            <a:ext cx="2514600" cy="335268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057400" y="1981080"/>
            <a:ext cx="4876920" cy="327672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57400" y="2895480"/>
            <a:ext cx="5410080" cy="243864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84872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9840" y="35809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5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84872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079840" y="41144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6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48320" y="20574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862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391520" y="25909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5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352680" y="24382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2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9" dur="indefinite" restart="never" nodeType="tmRoot">
          <p:childTnLst>
            <p:seq>
              <p:cTn id="2160" dur="indefinite" nodeType="mainSeq">
                <p:childTnLst>
                  <p:par>
                    <p:cTn id="2161" fill="hold">
                      <p:stCondLst>
                        <p:cond delay="0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500"/>
                            </p:stCondLst>
                            <p:childTnLst>
                              <p:par>
                                <p:cTn id="2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7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7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044720"/>
            <a:ext cx="8534160" cy="47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ensidad del flujo de transpor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consta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xpresar la cantidad de medios de transporte necesarios como función de la intensidad de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ámet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: máxima cantidad de lo transportado que es posible cargar en cada vehículo (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apaci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restricciones que establecen 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vehículo, vía) (peso, volum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amaño de embarqu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52574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tidad realmente cargada en un vehículo en un ciclo dado (k&lt;=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costo de los arcos de la red, que consideran tramos de calles e inter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 separables ==&gt;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erísticas deseables de las funciones flujo-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realist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no decre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tinuas y diferenc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 podría ser constante para valores pequeños de flu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8" dur="indefinite" restart="never" nodeType="tmRoot">
          <p:childTnLst>
            <p:seq>
              <p:cTn id="2289" dur="indefinite" nodeType="mainSeq">
                <p:childTnLst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0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fill="hold">
                      <p:stCondLst>
                        <p:cond delay="indefinite"/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fill="hold">
                      <p:stCondLst>
                        <p:cond delay="indefinite"/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3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8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6" dur="5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8" fill="hold">
                      <p:stCondLst>
                        <p:cond delay="indefinite"/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2" dur="500" fill="hold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total de operación del arco a:   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·f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uc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recio óptimo desde el punto de vista soc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8800" y="319932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sto margi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819520" y="319824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cuánto sube el costo total de operación de un arco al ingresar un usuario adicional a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7600" y="49057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precio percibi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282480" y="4846680"/>
            <a:ext cx="48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109600" y="5464080"/>
            <a:ext cx="250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¿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&gt;&lt;= 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4" dur="indefinite" restart="never" nodeType="tmRoot">
          <p:childTnLst>
            <p:seq>
              <p:cTn id="2345" dur="indefinite" nodeType="mainSeq">
                <p:childTnLst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1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fill="hold">
                      <p:stCondLst>
                        <p:cond delay="indefinite"/>
                      </p:stCondLst>
                      <p:childTnLst>
                        <p:par>
                          <p:cTn id="2359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fill="hold">
                      <p:stCondLst>
                        <p:cond delay="indefinite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fill="hold">
                      <p:stCondLst>
                        <p:cond delay="indefinite"/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660680" y="126504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971800" y="149364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1 +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83880" y="126504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670640" y="17971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452200" y="1493640"/>
            <a:ext cx="69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 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57600" y="18446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00200" y="18288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0" y="1828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16126800">
            <a:off x="3695400" y="1866600"/>
            <a:ext cx="75960" cy="60948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971800" y="220860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o percib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801320" y="98964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16126800">
            <a:off x="5332320" y="1744200"/>
            <a:ext cx="75960" cy="1295280"/>
          </a:xfrm>
          <a:custGeom>
            <a:avLst/>
            <a:gdLst>
              <a:gd name="textAreaLeft" fmla="*/ 48600 w 75960"/>
              <a:gd name="textAreaRight" fmla="*/ 76320 w 759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419720" y="2432880"/>
            <a:ext cx="4724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ibución a la demora del resto debido a la incorporación de un vehículo a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26280" y="385596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13040" y="43876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14400" y="44197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76520" y="408456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=&gt;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020400" y="4795560"/>
            <a:ext cx="413388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ólo en la parte plana de la cur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no exist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4" dur="indefinite" restart="never" nodeType="tmRoot">
          <p:childTnLst>
            <p:seq>
              <p:cTn id="2395" dur="indefinite" nodeType="mainSeq">
                <p:childTnLst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0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1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fill="hold">
                      <p:stCondLst>
                        <p:cond delay="indefinite"/>
                      </p:stCondLst>
                      <p:childTnLst>
                        <p:par>
                          <p:cTn id="2445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0" fill="hold">
                      <p:stCondLst>
                        <p:cond delay="indefinite"/>
                      </p:stCondLst>
                      <p:childTnLst>
                        <p:par>
                          <p:cTn id="2451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fill="hold">
                      <p:stCondLst>
                        <p:cond delay="indefinite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9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6" fill="hold">
                      <p:stCondLst>
                        <p:cond delay="indefinite"/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81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432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035160" y="396252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146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0574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025880" y="355608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05320" y="355608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3434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321160" y="355608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86200" y="438156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0481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0384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7339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048120" y="4952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403848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0292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242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03848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50292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199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150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60199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292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08640" y="438156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3244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876920" y="396252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1992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990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3152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867280" y="3556080"/>
            <a:ext cx="609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10280" y="355608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489720" y="355608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305920" y="355608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>
            <a:hlinkClick r:id="" action="ppaction://hlinkshowjump?jump=previousslide"/>
          </p:cNvPr>
          <p:cNvSpPr/>
          <p:nvPr/>
        </p:nvSpPr>
        <p:spPr>
          <a:xfrm>
            <a:off x="685800" y="9144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2" dur="indefinite" restart="never" nodeType="tmRoot">
          <p:childTnLst>
            <p:seq>
              <p:cTn id="2523" dur="indefinite" nodeType="mainSeq">
                <p:childTnLst>
                  <p:par>
                    <p:cTn id="2524" fill="hold">
                      <p:stCondLst>
                        <p:cond delay="indefinite"/>
                      </p:stCondLst>
                      <p:childTnLst>
                        <p:par>
                          <p:cTn id="2525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fill="hold">
                      <p:stCondLst>
                        <p:cond delay="indefinite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fill="hold">
                      <p:stCondLst>
                        <p:cond delay="indefinite"/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fill="hold">
                      <p:stCondLst>
                        <p:cond delay="indefinite"/>
                      </p:stCondLst>
                      <p:childTnLst>
                        <p:par>
                          <p:cTn id="2549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2" fill="hold">
                      <p:stCondLst>
                        <p:cond delay="indefinite"/>
                      </p:stCondLst>
                      <p:childTnLst>
                        <p:par>
                          <p:cTn id="2663" fill="hold">
                            <p:stCondLst>
                              <p:cond delay="0"/>
                            </p:stCondLst>
                            <p:childTnLst>
                              <p:par>
                                <p:cTn id="2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8" fill="hold">
                      <p:stCondLst>
                        <p:cond delay="indefinite"/>
                      </p:stCondLst>
                      <p:childTnLst>
                        <p:par>
                          <p:cTn id="2669" fill="hold">
                            <p:stCondLst>
                              <p:cond delay="0"/>
                            </p:stCondLst>
                            <p:childTnLst>
                              <p:par>
                                <p:cTn id="2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4" fill="hold">
                      <p:stCondLst>
                        <p:cond delay="indefinite"/>
                      </p:stCondLst>
                      <p:childTnLst>
                        <p:par>
                          <p:cTn id="2675" fill="hold">
                            <p:stCondLst>
                              <p:cond delay="0"/>
                            </p:stCondLst>
                            <p:childTnLst>
                              <p:par>
                                <p:cTn id="2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6" fill="hold">
                      <p:stCondLst>
                        <p:cond delay="indefinite"/>
                      </p:stCondLst>
                      <p:childTnLst>
                        <p:par>
                          <p:cTn id="2687" fill="hold">
                            <p:stCondLst>
                              <p:cond delay="0"/>
                            </p:stCondLst>
                            <p:childTnLst>
                              <p:par>
                                <p:cTn id="2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2" fill="hold">
                      <p:stCondLst>
                        <p:cond delay="indefinite"/>
                      </p:stCondLst>
                      <p:childTnLst>
                        <p:par>
                          <p:cTn id="2693" fill="hold">
                            <p:stCondLst>
                              <p:cond delay="0"/>
                            </p:stCondLst>
                            <p:childTnLst>
                              <p:par>
                                <p:cTn id="2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8" fill="hold">
                      <p:stCondLst>
                        <p:cond delay="indefinite"/>
                      </p:stCondLst>
                      <p:childTnLst>
                        <p:par>
                          <p:cTn id="2699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4" fill="hold">
                      <p:stCondLst>
                        <p:cond delay="indefinite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0" fill="hold">
                      <p:stCondLst>
                        <p:cond delay="indefinite"/>
                      </p:stCondLst>
                      <p:childTnLst>
                        <p:par>
                          <p:cTn id="2711" fill="hold">
                            <p:stCondLst>
                              <p:cond delay="0"/>
                            </p:stCondLst>
                            <p:childTnLst>
                              <p:par>
                                <p:cTn id="2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6" fill="hold">
                      <p:stCondLst>
                        <p:cond delay="indefinite"/>
                      </p:stCondLst>
                      <p:childTnLst>
                        <p:par>
                          <p:cTn id="2717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2" fill="hold">
                      <p:stCondLst>
                        <p:cond delay="indefinite"/>
                      </p:stCondLst>
                      <p:childTnLst>
                        <p:par>
                          <p:cTn id="2723" fill="hold">
                            <p:stCondLst>
                              <p:cond delay="0"/>
                            </p:stCondLst>
                            <p:childTnLst>
                              <p:par>
                                <p:cTn id="2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8" fill="hold">
                      <p:stCondLst>
                        <p:cond delay="indefinite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4" fill="hold">
                      <p:stCondLst>
                        <p:cond delay="indefinite"/>
                      </p:stCondLst>
                      <p:childTnLst>
                        <p:par>
                          <p:cTn id="2735" fill="hold">
                            <p:stCondLst>
                              <p:cond delay="0"/>
                            </p:stCondLst>
                            <p:childTnLst>
                              <p:par>
                                <p:cTn id="2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57920" y="729000"/>
            <a:ext cx="46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pacidad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321560"/>
            <a:ext cx="86104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: existen instalaciones de carga y descarga en el origen y el destino respect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úmero de sitios de aten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da sitio atiende a un solo vehícu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pacidad de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cargar en 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pacidad de des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descargar d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 pasajeros, carga en contenedores, graneles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30480" y="83700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recuencia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221120"/>
            <a:ext cx="86104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número de vehículos que pasan por un punto de la trayectori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f=interv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(k)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empo de viaje 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úmero de vehícul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tamaño de flo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porción de vehículos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F: unidad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T: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214920"/>
            <a:ext cx="861084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): tiempo de viaje origen-destino (k&lt;=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0): tiempo de viaje destino-origen (k=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un ciclo; i.e. Suma de los tiempos de carga y descarga y de los tiempos de viaje para un vehículo d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btención de la 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09480" y="29718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1143000" y="30164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800600" y="30481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5334120" y="3275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85800" y="4191120"/>
                <a:ext cx="4267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304920" y="5485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ecuencia necesar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114800" y="5334120"/>
                <a:ext cx="1143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6018480" y="57139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jemp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84528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número de vehículos en servici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 debe ser suficiente para ofrecer esa frecu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recuencia ofrec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886200" y="1523880"/>
                <a:ext cx="12938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B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85800" y="2286000"/>
                <a:ext cx="267804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981080" y="3505320"/>
                <a:ext cx="4300560" cy="15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533520" y="555984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443600"/>
            <a:ext cx="8591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rivaciones a partir de la función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981080" y="2057400"/>
                <a:ext cx="430056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304920" y="4104000"/>
            <a:ext cx="85341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ustitución entre número de vehículos y capacidad de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pacidad media de carga/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791320" y="5029200"/>
                <a:ext cx="28954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</cp:lastModifiedBy>
  <dcterms:modified xsi:type="dcterms:W3CDTF">2008-10-13T14:11:37Z</dcterms:modified>
  <cp:revision>53</cp:revision>
  <dc:subject/>
  <dc:title>Sin título de diapositiva</dc:title>
</cp:coreProperties>
</file>