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F6AF-C8AB-4406-8FC6-2C136FDC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552-2D88-4F67-B5E1-29140A61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A59E-D0AF-4E8F-906C-0A9DFD30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A8E0-022B-4EB8-9695-A556B8CD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007-54A5-4BCB-96A4-0C3A8DD5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4C3-A275-4B88-A7CC-25303E19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588-68E2-464F-B7F3-A4CB3086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D077-8D33-43B3-9075-7C242E73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C19C-7AA2-4A33-BD9C-F041D4E8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A4B0-3368-4D8F-9613-5C3AD8D9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A11E-1601-4595-8A11-E892E4D0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A59-A615-4866-B815-6C4FBD59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5A89-65BE-4F83-8225-203C2CE0C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1200"/>
            <a:ext cx="756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os de Oferta.   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stemas cíclicos: simple, con carga de retorno, general; los casos  t(k). Teoría de la circulación: el problema t(q), diagrama espacio-tiempo. Variables y relaciones: flujo, velocidad, concentración; capacidad de medios fijos. Función de transporte con demanda endógena: reglas de operación y nivel de servicio; capacidad y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1143000"/>
            <a:ext cx="2133720" cy="1600200"/>
          </a:xfrm>
          <a:custGeom>
            <a:avLst/>
            <a:gdLst/>
            <a:ahLst/>
            <a:rect l="l" t="t" r="r" b="b"/>
            <a:pathLst>
              <a:path w="1536" h="976">
                <a:moveTo>
                  <a:pt x="0" y="0"/>
                </a:moveTo>
                <a:cubicBezTo>
                  <a:pt x="64" y="328"/>
                  <a:pt x="128" y="656"/>
                  <a:pt x="384" y="816"/>
                </a:cubicBezTo>
                <a:cubicBezTo>
                  <a:pt x="640" y="976"/>
                  <a:pt x="1088" y="968"/>
                  <a:pt x="153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13320" y="1197720"/>
            <a:ext cx="33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261160"/>
            <a:ext cx="85122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La tecnología de trans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X,Y)&gt;= 0 (función de transfor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: Demanda (vector de flujos OD, periodo, mo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: Insumos (vías, terminales, vehículos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ombino los X para producir Y en forma ópt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59320"/>
            <a:ext cx="8686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1 a la id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685800"/>
            <a:ext cx="79246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[hora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. Vmax=10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. Vmax=5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3573360"/>
            <a:ext cx="540072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34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a función de oferta de las v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5640" y="36446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5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500"/>
                            </p:stCondLst>
                            <p:childTnLst>
                              <p:par>
                                <p:cTn id="18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500"/>
                            </p:stCondLst>
                            <p:childTnLst>
                              <p:par>
                                <p:cTn id="2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e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533520" y="55598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443600"/>
            <a:ext cx="8591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rivaciones a partir de la función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04920" y="4104000"/>
            <a:ext cx="8534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ustitución entre número de vehículos y 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8-10-13T14:11:37Z</dcterms:modified>
  <cp:revision>53</cp:revision>
  <dc:subject/>
  <dc:title>Sin título de diapositiva</dc:title>
</cp:coreProperties>
</file>