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343-9DC8-46A4-A745-99AC8970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138-BFF0-46B2-947F-8AFD4D91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9CB-F543-4362-BB88-0EE7B17A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D99-616A-4662-A20B-E2B3DC51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F1C-4F3F-421C-B44A-52DBDE99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2D7-CDF5-4495-826C-1B6E2A3F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2FE-70FB-4779-8497-2EB80772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FF1-A6FA-4FB4-8C69-184F2B90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9A5-D68D-4FB4-B15C-8AFC5945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216-E7D6-4B20-88FD-7FD8279B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D9E-D720-4C25-AB84-678D926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C0A-3C9B-4AE4-A292-CD9064B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7794-407D-4E85-8FC9-E9D26A39B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9-07T16:00:12Z</dcterms:modified>
  <cp:revision>60</cp:revision>
  <dc:subject/>
  <dc:title>Sin título de diapositiva</dc:title>
</cp:coreProperties>
</file>