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E78-4FD6-4BF0-84CA-5A281FCA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5B1-AFEE-4622-AC97-370A832F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43B-7547-45B9-A9D4-A837653E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2FA-611E-488A-82CE-82480EC8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716-9594-40F9-B6DC-A632D204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D58-5FAD-4049-BBE5-741FB3BC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8DB-DDC5-4DB4-9E58-A3ACBBE8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28B-8D17-402A-87C0-11E5798E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3FC-3EF1-4963-8E2D-EE6A5C5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2FF-917E-4380-B022-17E81D2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0BA-2881-4E1B-B7EE-4418724B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099-F596-4415-8619-A38B52F1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C8B-8B26-4A1F-A124-47746A0B9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9-07T16:00:12Z</dcterms:modified>
  <cp:revision>60</cp:revision>
  <dc:subject/>
  <dc:title>Sin título de diapositiva</dc:title>
</cp:coreProperties>
</file>