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176-7712-4CBB-BE27-FA2BACFE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848-6AFC-49E7-92BF-8704F90C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2B7-A3EC-47B5-BB70-EABF4144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01F-28FE-484B-A6D5-2BF61D6C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ACC-FC8D-4FAA-B39B-459A32AC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2C7-38F5-49B4-AFF8-06CD6926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538-90C0-4246-B2DC-BCDC2E26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1EA-0F42-4B96-ADCA-F5CCADA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981-501B-4D26-B6F6-BC86845F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C90-C8BE-49C7-93BE-1F62930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DD7-13EC-452F-8336-4F2DE54F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19A-B60F-4198-B990-74DA1BEA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7993-F3C5-450F-9942-086F72DF7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1143000"/>
            <a:ext cx="76960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os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4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7" idx="3"/>
            <a:endCxn id="609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3"/>
            <a:endCxn id="607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20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6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endCxn id="611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08-22T14:13:28Z</dcterms:modified>
  <cp:revision>28</cp:revision>
  <dc:subject/>
  <dc:title>Sin título de diapositiva</dc:title>
</cp:coreProperties>
</file>