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FDC-E3D2-4E28-9616-DBDFA714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DAB-76B7-431F-8C51-CD6B85A8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48C-CD9E-4103-BE84-1586CEAC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16E-4459-442C-825E-97FE2F10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6AC-6280-4764-9495-FF4C3739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B74-6AD4-4F35-B8F1-A3F9DEDB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D9F-13C8-4E1B-B7A9-6B411824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B41-280A-4731-A28B-757A5851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AAA-1792-4ECB-B87A-484787E5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EF4-70C8-44E7-A0F4-482947E1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A7C-5505-4091-8EAD-8998E3C7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707-83AA-46D5-83E0-D9CD51BD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0332-BF8D-4EEB-8450-B33DEDB0A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1143000"/>
            <a:ext cx="769608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os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14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stCxn id="617" idx="3"/>
            <a:endCxn id="609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3"/>
            <a:endCxn id="607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20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16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endCxn id="611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08-22T14:13:28Z</dcterms:modified>
  <cp:revision>28</cp:revision>
  <dc:subject/>
  <dc:title>Sin título de diapositiva</dc:title>
</cp:coreProperties>
</file>