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EE40-BCF7-44E7-805B-5745A9F824A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75AD-D865-47A8-9352-0E25B4B1F03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302-0873-4DD0-96A8-D15E4802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946-8125-42C5-BA66-E51BC3C5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FF2-C2FD-4E4F-A471-EEA8B65D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6F1-9235-4F49-964B-4E6EC090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5055-D31A-4E88-BDCF-E1582C69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7E29-0443-4A0F-8C3B-0802CE79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8453-3212-4914-824A-3EAF4812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C3FA-EC5B-4617-B74C-FF02AA44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2EE5-787B-4224-A288-2AFBBCCD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2275-7B0E-4D5E-8113-634F2F61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E66A-319B-40C2-8EAB-8BB767EC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D64-6AE0-4469-AD11-0B95E0CE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0EC6-174B-4797-84A2-28224F84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8C16-817B-4F28-9913-E3C0A32F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6B3B-A80D-490A-B789-43D57CE4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E58C-D271-4EEA-890A-62B982B0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9440-2807-46C8-B7EE-7068EA39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8A218-8256-46F7-B4CD-F594D0ED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F366C-708A-4937-9B51-E1213678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519A-4FD7-405B-91A7-48CC5D1D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357C5-90AF-4639-86EF-D74AF37C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DF113-8A34-4791-82B4-3D47FA32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181-BE29-4734-93B7-209B5BEC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3AADF-0170-4026-8722-67B2002D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92A1D-71C3-49F9-9FA3-DD03D467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C786A-B92B-4FF1-B164-B32852D0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D7469-74A0-4D44-A872-8A2CD023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073F1-D72D-487F-9F70-CF2E57CB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2D84D-3D5A-4A8D-8403-B4AABA4D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A57F-8240-4714-9BDD-F3680B8B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EA8C9-E629-462F-BA21-4D9A073B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8205C-E5F0-435E-BE0C-FD0DB4CF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16305-9247-47B8-8603-8F6E1FCB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1DE-4334-4795-A516-6D093F9C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0CF38-56D4-46C1-8B90-16101829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EB0B9-66FE-4DB1-A283-9826CC1F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FBE15-F097-499D-880A-B355BD9C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2F72C-6D62-4FD8-9ACF-16DEB56D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9B9B0-24F6-4A25-9ABB-67B60748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11636-0655-46FF-A200-1E656F14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2E09D-5683-437D-86DE-28A19158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6D657-26AB-40C4-A91E-D1522A9F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BA472-3AC3-4486-8338-F44833A8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46ED3-E060-478A-B46C-2DA7CB15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035-FB5A-4613-B662-ECE7D89F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320E6-7907-4619-AE63-6ED63BAB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CE490-18ED-4A65-A6EE-414F3942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21A46-4223-42FA-8FC5-A47766AE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DEBA2-3FAD-4E82-BDF5-B3C7221B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06B78-E5F4-478D-AF87-ECE095CB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CF8AD-2658-4D2E-90E5-9FE0BDC6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D0175-35C5-4B71-AB19-23BB4626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DF306-977F-4EC7-AEA5-C200028F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3C8F4-60F7-4EB3-BA2A-50F4837D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771C9-55D7-4524-A711-CC9F70F1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180-01AE-4941-8F40-52720EF5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ADFA2-5E2B-4870-9489-A8DFCB39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242B6-A762-4B5B-A0B3-C3D7184B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C34EA-1524-4C8F-8FD6-63DAFE97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3F5FC-BF0C-4715-A290-B8A3B4F8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A025D-04CB-48E9-B66C-283C086E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1308A-7300-4507-90CF-B3601585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71AA0-B876-4D55-9507-1FA79798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4A982-36CA-4AEC-90B2-E9FEA881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B7519-5DA4-41D3-A879-EB1A48FC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5373C-0F2B-451E-AD03-562D0E63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6880-BE6C-44AB-87F0-00F8C98B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77AF9-1D31-4A9C-9A01-452E4839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BD4E1-173A-4D67-9A09-908C73CE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6EC4A-762A-4801-893B-57ACC5DB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6CAEB-BDDA-41EC-BA8E-24802EC8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8B7C7-D1FB-4031-A7B8-3F29639B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6D99B-D93F-4778-8D1C-13CA77D4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74A7A-CB13-44DB-9933-751E8D25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A75BB-D165-4134-A82D-4BE8E91F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3CD0E-C583-4FF6-B375-8135F589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92A79-CD77-4E7C-BE88-C8F02C75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B44-1603-42FA-BF47-13717994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78D73-FAFF-4EB3-B6CA-BDB5215B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28DA1-E6EB-4388-A250-590D4506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C3CB9-A065-4F3F-B920-41CA69E7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8BE45-84D6-4D43-9CE5-6648FCE9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5A2F9-E357-477D-BD23-F70D7AD1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B9F-5D60-481C-B08C-B5376DA8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66F5-90CA-49D1-A622-9BE8D5CA412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5F05-2E1A-42F6-9E4F-E63AB17B497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8246-8E2E-4EA7-97AC-7522CD1C4E2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BEEF-CC63-40D9-8AF3-919F1B2C609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518C-3FCF-40BF-91A7-B39069338D9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21D7-5BB9-47FB-9BD7-BCF81B428FE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C6F9-2CF0-4072-8B50-4BF0A4E8689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3 CI43A 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Generación de Viajes: Método de regresión lineal múltip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Analizar modelos de generación de viajes no basados en el hogar, aplicarlos y comentar su capacidad de predic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Modelos: se cuenta con modelos calibrados para la ciudad de Puerto Montt, obtenidos a partir de la encuesta origen-destino del año 199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rchivos adjuntos 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03360" indent="-279720"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Base de datos correspondiente a estimaciones de escenarios futuros de Puerto Mont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8" name="Object 2"/>
          <p:cNvGraphicFramePr/>
          <p:nvPr/>
        </p:nvGraphicFramePr>
        <p:xfrm>
          <a:off x="2357280" y="1357200"/>
          <a:ext cx="5191200" cy="49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1357200"/>
                    <a:ext cx="519120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1" name="Object 2"/>
          <p:cNvGraphicFramePr/>
          <p:nvPr/>
        </p:nvGraphicFramePr>
        <p:xfrm>
          <a:off x="2357280" y="1428840"/>
          <a:ext cx="5259600" cy="51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1428840"/>
                    <a:ext cx="5259600" cy="51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nalice cada uno de los modelos considerando los siguientes aspect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Por qué cada variable podría explicar (o no) la generación de viaj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Tiene sentido la magnitud y signo del parámetro asociado a cada variabl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Son las variables estadísticamente significativas? ¿y el modelo en su conjunt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28480" y="1447920"/>
            <a:ext cx="7505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Utilizando la base de datos disponible compare los resultados de generación de viajes no basados en el hogar por propósito trabajo en punta mañana y fuera de punta para las zonas 1 y 2 para los escenarios futuros disponibl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ente acerca de la capacidad de predicción de los modelos. ¿Tiene sentido la diferencia entre la cantidad de viajes generados en cada cas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s zonas 1 y 2 corresponden a un sector del centro de la ciuda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os escenarios 1 y 2 son estimaciones de las variables en los años 2003 y 2023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3 sección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8-08-20T06:45:35Z</dcterms:modified>
  <cp:revision>25</cp:revision>
  <dc:subject/>
  <dc:title>Taller I CI43A</dc:title>
</cp:coreProperties>
</file>