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048D-8110-4EC7-93A3-FC9A2F95800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8297-0C61-4566-AB24-FEB573F62B5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DF9-DCF3-48DB-844E-9D323935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7E3-CCCF-45B6-8B53-563C9FD7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6E3-5888-429E-9B41-ED2B7BD1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45B-94AC-4767-8260-B39100AF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A0C5-9B5F-4ECD-97C9-E5CC4E64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6703-2E74-405B-8BB9-95D147E4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A974-7C7A-4BF6-9FB1-CCFEE22F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3CA9-2FC2-46C0-9875-8D7DAD08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3114-D5B6-4B1B-9EC9-CA73C767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3B30-372D-4283-A8D5-4350E4DF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2771-B6ED-4029-8726-BCFF5904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859-8E3E-4E5B-9C0E-59DBC5A1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011C-225F-4505-A7C6-A2917A73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2DCB-D92A-48BB-AFC4-4F7BAA1E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EEDF-239C-4D8C-AAD3-A6BEF7AE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6492-2D90-48CA-9C0E-E5E96B58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4AC4-B501-4FFF-89D3-A52D2868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0C8D3-C1BA-41C5-ABC8-F011099C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6F03-8E38-4343-A258-A85BD06B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A793D-E4BC-4567-A28A-2FBAFF4F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5354-934C-498F-AAE7-DAB1D4AC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D577F-8EE8-45BC-8F4A-93D04236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87BC-896E-4A82-9F99-8B323A1B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32462-8F80-423B-808C-C0B9C73E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73537-6286-42F5-A6B7-FBFB60B5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4FF1D-EAA0-4742-BE83-DFF1319B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F0C7F-73A5-472C-A5BA-0C3321E3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9E7FF-F4D5-4388-A2E9-8DFE9E76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CE0AE-8696-4FF0-A29C-62BCB9A2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BE027-FAF3-49AA-901C-89557DA3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DD80D-EA53-4FFA-8FB5-1DB95D06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E6161-27DD-4675-A154-7A7F50BB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2C187-A3EC-47F2-B697-D4EDADC6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505-E62F-4BAE-B0A5-9C25856B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1F8F4-D85E-42DE-8263-AC7831F9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B5DCA-7CD0-4ECA-A155-961B0A2A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8408E-D085-4B20-A62A-FF16FB1F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8BA5B-0009-485D-8E45-03680396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9AB33-3B91-44AD-9C67-98EB633B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89101-A48D-49BA-97BC-9F4CDF8E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85C18-56E8-4A9C-BAF1-88054537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86E7D-0528-40F3-BEFC-9B117427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6483F-1722-4CB8-8B93-548ABF1D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9F5AB-DE2B-4EF8-AB2C-98E987B7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7A8-B072-4584-9270-215B4492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C8D97-9CA6-4D77-94C6-64EC166A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1691E-EA3D-48B3-B890-82CFAAF4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09932-E806-483D-91A4-58DE34BF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C1928-B0E2-4510-AA3E-4A9C33F6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CD8BF-26AC-4FAA-80FD-C328544C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73D07-C2C6-4C9D-8EB2-9EDDB48A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D940C-01EB-4D48-9C96-02586436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CB1F0-6E6D-4D31-981F-1F5D5CAF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6A82B-6516-47D8-916F-AB066E73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CDED8-EC67-46CB-BBFC-0B735617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8DD-2BEC-49C7-8534-DE272885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102B4-3EA8-4A3F-A2EA-ACBFFCBE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A0B1D-6DFB-4B5C-9C6F-3A94B538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9C1C4-F64B-4698-ABA2-C8EE72E1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78C53-7B77-4516-8F50-1916B9BA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4E3E3-2197-436E-9260-53802911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2DAA3-0253-4089-AFB6-16F7E42D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8E1DD-C100-46BA-A92F-C90856BA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BCC81-C562-4C21-9299-ECB19BD5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242F5-7523-4569-AFEA-EB876D43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FD7DD-635B-46A6-B1E7-64D25357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2C9-867A-4325-B102-7BF2FE3F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56961-A9A2-47C9-BC36-302F5C9D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E3C7A-FF9D-4024-B1E1-49C71049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B08CC-5632-4A64-8684-A5500EF4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C0EAB-4A5E-463E-AC1E-3ED07221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32084-2555-4E02-A5A9-3145AFDB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C1F96-33F5-45C4-B1CD-C2A3B867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A820A-5CC8-45E4-90C8-1E6249EC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510DF-CF71-48FD-872E-D0E6CD26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B0907-A59D-43CB-A70F-E4B1FB5A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96CC0-B8C4-49EE-A70E-9376A699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138-2C10-4F7E-9284-BFE7C402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F9C6A-2581-4800-94CB-0CD77967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D7C80-3C87-4E91-883B-006144EC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9CC31-B4CF-44B6-8DA2-582EB3DC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22D9D-F76F-46A2-98DB-EC99F69C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71C03-4D78-4C5B-B3E2-87A34F2F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65D-93AC-458A-9DC3-F55D1A21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6C91-D3D0-4841-8197-E18F23780F0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05BF-ECED-489F-BA77-2F1489F7F98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49C4-DBBA-4981-BA25-2E72D1385ED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7475-3B1F-4AC3-B65A-882BD9DD7CB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DE6A-B19F-49A1-B0EB-62E07431D02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6698-2172-469A-90BD-71A1AAAD8F3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DF73-3C33-4B00-A0B2-8C5C9D781B5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3 CI43A 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Generación de Viajes: Método de regresión lineal múltip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nalizar modelos de generación de viajes no basados en el hogar, aplicarlos y comentar su capacidad de predic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Modelos: se cuenta con modelos calibrados para la ciudad de Puerto Montt, obtenidos a partir de la encuesta origen-destino del año 199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rchivos adjuntos 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03360" indent="-279720"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Base de datos correspondiente a estimaciones de escenarios futuros de Puerto Mont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8" name="Object 2"/>
          <p:cNvGraphicFramePr/>
          <p:nvPr/>
        </p:nvGraphicFramePr>
        <p:xfrm>
          <a:off x="2357280" y="1357200"/>
          <a:ext cx="5191200" cy="49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1357200"/>
                    <a:ext cx="519120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1" name="Object 2"/>
          <p:cNvGraphicFramePr/>
          <p:nvPr/>
        </p:nvGraphicFramePr>
        <p:xfrm>
          <a:off x="2357280" y="1428840"/>
          <a:ext cx="5259600" cy="51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1428840"/>
                    <a:ext cx="5259600" cy="51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nalice cada uno de los modelos considerando los siguientes aspect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Por qué cada variable podría explicar (o no) la generación de viaj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Tiene sentido la magnitud y signo del parámetro asociado a cada variab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Son las variables estadísticamente significativas? ¿y el modelo en su conjunt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28480" y="1447920"/>
            <a:ext cx="7505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zando la base de datos disponible compare los resultados de generación de viajes no basados en el hogar por propósito trabajo en punta mañana y fuera de punta para las zonas 1 y 2 para los escenarios futuros disponibl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ente acerca de la capacidad de predicción de los modelos. ¿Tiene sentido la diferencia entre la cantidad de viajes generados en cada cas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zonas 1 y 2 corresponden a un sector del centro de la ciuda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os escenarios 1 y 2 son estimaciones de las variables en los años 2003 y 2023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3 sección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8-08-20T06:45:35Z</dcterms:modified>
  <cp:revision>25</cp:revision>
  <dc:subject/>
  <dc:title>Taller I CI43A</dc:title>
</cp:coreProperties>
</file>