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E0B-840C-48B7-B4E7-AA4DC4A2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C80-B284-4F25-B269-3E3C55B8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2EB-7E43-4F1C-9A5D-347E16EB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273-BB34-40D7-8D0D-CE1BCBCD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505-BB4B-4CD6-BF47-52D1E81B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F6A-9275-457E-A982-011FD62B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4B6-2FF9-43FB-A9FD-88F54715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141-F976-4D4C-AC3C-ED9EC831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7DA-7EB4-4482-B01A-085BFA80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6AB-714D-442C-B1C2-67A2557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8CE-086E-4B10-93E2-1ED89E1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171-BD37-46CB-AFA7-EA3A6FD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8293-5506-4D97-89D1-398622C22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0" name="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895480"/>
              <a:ext cx="4267080" cy="2133720"/>
            </a:xfrm>
            <a:custGeom>
              <a:avLst/>
              <a:gdLst/>
              <a:ahLst/>
              <a:rect l="l" t="t" r="r" b="b"/>
              <a:pathLst>
                <a:path w="2688" h="1344">
                  <a:moveTo>
                    <a:pt x="0" y="0"/>
                  </a:moveTo>
                  <a:cubicBezTo>
                    <a:pt x="4" y="168"/>
                    <a:pt x="8" y="336"/>
                    <a:pt x="48" y="480"/>
                  </a:cubicBezTo>
                  <a:cubicBezTo>
                    <a:pt x="88" y="624"/>
                    <a:pt x="108" y="762"/>
                    <a:pt x="240" y="864"/>
                  </a:cubicBezTo>
                  <a:cubicBezTo>
                    <a:pt x="372" y="966"/>
                    <a:pt x="586" y="1031"/>
                    <a:pt x="842" y="1095"/>
                  </a:cubicBezTo>
                  <a:cubicBezTo>
                    <a:pt x="1098" y="1159"/>
                    <a:pt x="1468" y="1207"/>
                    <a:pt x="1776" y="1248"/>
                  </a:cubicBezTo>
                  <a:cubicBezTo>
                    <a:pt x="2084" y="1289"/>
                    <a:pt x="2528" y="1328"/>
                    <a:pt x="2688" y="1344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03720" y="901080"/>
            <a:ext cx="10740600" cy="5092200"/>
            <a:chOff x="1503720" y="901080"/>
            <a:chExt cx="10740600" cy="5092200"/>
          </a:xfrm>
        </p:grpSpPr>
        <p:sp>
          <p:nvSpPr>
            <p:cNvPr id="158" name=""/>
            <p:cNvSpPr/>
            <p:nvPr/>
          </p:nvSpPr>
          <p:spPr>
            <a:xfrm rot="60000">
              <a:off x="1544760" y="993600"/>
              <a:ext cx="10658520" cy="48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21600"/>
                  </a:moveTo>
                  <a:arcTo wR="10800" hR="10800" stAng="5400934" swAng="5401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21600"/>
                  </a:moveTo>
                  <a:arcTo wR="10800" hR="10800" stAng="5400934" swAng="540106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16" name=""/>
            <p:cNvSpPr/>
            <p:nvPr/>
          </p:nvSpPr>
          <p:spPr>
            <a:xfrm>
              <a:off x="1763640" y="2879640"/>
              <a:ext cx="5329440" cy="3240000"/>
            </a:xfrm>
            <a:custGeom>
              <a:avLst/>
              <a:gdLst/>
              <a:ahLst/>
              <a:rect l="l" t="t" r="r" b="b"/>
              <a:pathLst>
                <a:path w="3357" h="2041">
                  <a:moveTo>
                    <a:pt x="0" y="2041"/>
                  </a:moveTo>
                  <a:cubicBezTo>
                    <a:pt x="193" y="2007"/>
                    <a:pt x="386" y="1973"/>
                    <a:pt x="635" y="1905"/>
                  </a:cubicBezTo>
                  <a:cubicBezTo>
                    <a:pt x="884" y="1837"/>
                    <a:pt x="1202" y="1777"/>
                    <a:pt x="1497" y="1633"/>
                  </a:cubicBezTo>
                  <a:cubicBezTo>
                    <a:pt x="1792" y="1489"/>
                    <a:pt x="2170" y="1217"/>
                    <a:pt x="2404" y="1043"/>
                  </a:cubicBezTo>
                  <a:cubicBezTo>
                    <a:pt x="2638" y="869"/>
                    <a:pt x="2744" y="763"/>
                    <a:pt x="2903" y="589"/>
                  </a:cubicBezTo>
                  <a:cubicBezTo>
                    <a:pt x="3062" y="415"/>
                    <a:pt x="3281" y="98"/>
                    <a:pt x="335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19" name=""/>
            <p:cNvSpPr/>
            <p:nvPr/>
          </p:nvSpPr>
          <p:spPr>
            <a:xfrm>
              <a:off x="1692360" y="2879640"/>
              <a:ext cx="5510160" cy="2635200"/>
            </a:xfrm>
            <a:custGeom>
              <a:avLst/>
              <a:gdLst/>
              <a:ahLst/>
              <a:rect l="l" t="t" r="r" b="b"/>
              <a:pathLst>
                <a:path w="3471" h="1660">
                  <a:moveTo>
                    <a:pt x="0" y="0"/>
                  </a:moveTo>
                  <a:cubicBezTo>
                    <a:pt x="55" y="86"/>
                    <a:pt x="183" y="350"/>
                    <a:pt x="331" y="516"/>
                  </a:cubicBezTo>
                  <a:cubicBezTo>
                    <a:pt x="479" y="682"/>
                    <a:pt x="602" y="833"/>
                    <a:pt x="891" y="998"/>
                  </a:cubicBezTo>
                  <a:cubicBezTo>
                    <a:pt x="1180" y="1163"/>
                    <a:pt x="1636" y="1393"/>
                    <a:pt x="2066" y="1503"/>
                  </a:cubicBezTo>
                  <a:cubicBezTo>
                    <a:pt x="2496" y="1613"/>
                    <a:pt x="3178" y="1627"/>
                    <a:pt x="3471" y="16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24" name="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0" name="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11T15:38:12Z</dcterms:modified>
  <cp:revision>62</cp:revision>
  <dc:subject/>
  <dc:title>Sin título de diapositiva</dc:title>
</cp:coreProperties>
</file>