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7842-DCB6-4ABE-AC13-2542935FF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AA98-4F1E-4C01-B54E-5672E441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38F7-075B-4333-AB5E-041C5888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4687-2278-4CCA-8021-EFBE9EDD8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0EE-4716-403E-9D37-FB93DEDD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402A-5C0E-43FF-B36C-9A575903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6239-4567-44A5-B04A-F0591BCC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BF5-9B95-459C-8967-0A8C2768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F671-F8C6-42B9-9C7C-2F9F97E1F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A693-4EC9-40CB-80E7-A6CB54F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1B47-B91A-4064-A25F-44CCD5C3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37B2-00A0-46AB-85E1-0927E380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0B21-00DA-4743-B6CC-519087672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500"/>
                            </p:stCondLst>
                            <p:childTnLst>
                              <p:par>
                                <p:cTn id="3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50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500"/>
                            </p:stCondLst>
                            <p:childTnLst>
                              <p:par>
                                <p:cTn id="4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3000"/>
                            </p:stCondLst>
                            <p:childTnLst>
                              <p:par>
                                <p:cTn id="4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500"/>
                            </p:stCondLst>
                            <p:childTnLst>
                              <p:par>
                                <p:cTn id="4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6000"/>
                            </p:stCondLst>
                            <p:childTnLst>
                              <p:par>
                                <p:cTn id="4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65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7000"/>
                            </p:stCondLst>
                            <p:childTnLst>
                              <p:par>
                                <p:cTn id="50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9500"/>
                            </p:stCondLst>
                            <p:childTnLst>
                              <p:par>
                                <p:cTn id="5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5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3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4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14500"/>
                            </p:stCondLst>
                            <p:childTnLst>
                              <p:par>
                                <p:cTn id="5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5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5500"/>
                            </p:stCondLst>
                            <p:childTnLst>
                              <p:par>
                                <p:cTn id="5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16500"/>
                            </p:stCondLst>
                            <p:childTnLst>
                              <p:par>
                                <p:cTn id="5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1500"/>
                            </p:stCondLst>
                            <p:childTnLst>
                              <p:par>
                                <p:cTn id="5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8-08-08T15:08:38Z</dcterms:modified>
  <cp:revision>64</cp:revision>
  <dc:subject/>
  <dc:title>Sin título de diapositiva</dc:title>
</cp:coreProperties>
</file>