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C58-1D8C-468A-BD5E-21B63202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2BE-7130-4F09-942F-BC23E89B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CE8-8EF9-4A0A-90F3-6A2A367F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D5A-7C29-4546-99DB-20186078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12C-336A-46DD-AEF4-0C7AADE4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E1E-DE29-43F8-A4CE-8738F370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BAE-E17C-420D-AF43-3E643ADF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C84-18A7-4994-805F-15CE7467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308-3895-47E3-AFDA-C64644D5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4DF1-F1E1-4DBE-9922-5FEB2400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F4F-C57F-4FF6-9C1A-1B11744E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DDE-1FEC-4050-9E92-26F218E1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C7A1-922D-4719-894E-7271FD6B1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0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9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08T15:08:38Z</dcterms:modified>
  <cp:revision>64</cp:revision>
  <dc:subject/>
  <dc:title>Sin título de diapositiva</dc:title>
</cp:coreProperties>
</file>