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C4A-43EF-47E2-86DD-D0BDC151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F9D-210E-49F0-83C5-25694C8C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F44-9292-4F38-983D-7399E7B6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A53-A9BD-4AAF-A410-02797799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E76-3A3E-46B0-9E4B-16AEACC8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575-A77C-465D-8525-33122E19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B0D-A778-430D-BE0A-D84365A3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E77-F465-4AAB-89DD-6212BD8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02A-881B-42FF-B5F4-AA396EFA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D37-63C2-496D-9784-18E49B6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A9C-5FF1-49F7-B802-A4DEA0B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9B7-5D09-432C-915F-914C888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C0E-9C04-4FAB-A799-7B4A86537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08T15:08:38Z</dcterms:modified>
  <cp:revision>64</cp:revision>
  <dc:subject/>
  <dc:title>Sin título de diapositiva</dc:title>
</cp:coreProperties>
</file>