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A406-00AA-4DE4-B3BA-454490A04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F6D8-B230-4247-A17E-CA8866F69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3CEE-EECB-495A-9BE4-F1839EF1A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B7CD-F8C9-45B4-9DFF-DB9CDD1EC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BDEC-D38E-4614-91AE-A740CF455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5A58-AD84-40BF-91ED-88EA34CE9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53F9-E4CE-4712-9C38-A84D6BC42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5561-4E32-4DC0-973E-EDC9F1152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46E1-EA41-4B07-9462-AE8BB388D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8261-D100-4EDC-A327-F0D74E0E1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25EE-E29D-4585-B47D-395EC50FC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C641-5E8E-4C71-9230-003528FD4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CCD08-1F98-4A4C-A845-40CA9AF1F6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Necesidade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Los sub-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uán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dón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óm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iajar o enviar 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2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Modelos de dema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2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os de ofer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20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660066"/>
                </a:solidFill>
                <a:latin typeface="Comic Sans MS"/>
              </a:rPr>
              <a:t>Modelos de equilibrio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Necesidade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4920" y="1066680"/>
            <a:ext cx="3657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cision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17701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viajar o n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70504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hacia don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35812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en qué mo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450864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por qué ru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571920" y="1809720"/>
            <a:ext cx="220968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n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95600" y="2781360"/>
            <a:ext cx="251460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3657600"/>
            <a:ext cx="274320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tición 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648240" y="4581360"/>
            <a:ext cx="228600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400" y="54450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o clásic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92360" y="6461280"/>
            <a:ext cx="510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Comic Sans MS"/>
              </a:rPr>
              <a:t>¿Son separables estas decision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181560" y="955800"/>
            <a:ext cx="22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¿localiz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5892480" y="11714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89200" y="946080"/>
            <a:ext cx="221004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o de su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79640" y="59500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o de cinc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000"/>
                            </p:stCondLst>
                            <p:childTnLst>
                              <p:par>
                                <p:cTn id="8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500"/>
                            </p:stCondLst>
                            <p:childTnLst>
                              <p:par>
                                <p:cTn id="9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escripción del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El producto en trans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28616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2971800" y="1828800"/>
                <a:ext cx="241920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685800" y="2971800"/>
            <a:ext cx="8077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k: tipo de persona o bien transport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t: peri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i: ori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j: desti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 se puede mirar cada viaj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s necesario juntar viajes “parec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escripción del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Agregación tempo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&gt; Period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Punta mañana, punta tarde, meses del año, fines de semana, feriado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Agregación por tipo de persona o bien transport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Estudiantes, trabajadores, tercera edad, género,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28616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escripción del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Agregación por propósito de via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Agregación espa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&gt; Zonifi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riterios: tamaño y número de zonas, compatibilidad con otras zonificaciones, homogene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28616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33520" y="228600"/>
            <a:ext cx="8076960" cy="45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odel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Gen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iajes generados (producidos) o atraídos por cada 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otal de viajes que tienen origen en la zona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otal de viajes que tienen destino en la zona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es O/D específic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uántos de los que salen de i van a j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762120" y="4038480"/>
                <a:ext cx="3581280" cy="260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sSub>
                            <m:e/>
                            <m:sub>
                              <m:r>
                                <m:t xml:space="preserve">j</m:t>
                              </m:r>
                            </m:sub>
                          </m:sSub>
                        </m:e>
                        <m:e>
                          <m:r>
                            <m:t xml:space="preserve">1</m:t>
                          </m:r>
                        </m:e>
                        <m:e>
                          <m:r>
                            <m:t xml:space="preserve">2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/>
                        <m:e>
                          <m:r>
                            <m:t xml:space="preserve">n</m:t>
                          </m:r>
                        </m:e>
                        <m:e/>
                      </m:mr>
                      <m:mr>
                        <m:e>
                          <m:r>
                            <m:t xml:space="preserve">1</m:t>
                          </m:r>
                        </m:e>
                        <m:e/>
                        <m:e/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</m:mr>
                      <m:mr>
                        <m:e>
                          <m:r>
                            <m:t xml:space="preserve">2</m:t>
                          </m:r>
                        </m:e>
                        <m:e/>
                        <m:e/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mr>
                      <m:mr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j</m:t>
                              </m:r>
                            </m:sub>
                          </m:sSub>
                        </m:e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  <m:e/>
                        <m:e/>
                        <m:e/>
                      </m:mr>
                      <m:mr>
                        <m:e>
                          <m:r>
                            <m:t xml:space="preserve">n</m:t>
                          </m:r>
                        </m:e>
                        <m:e/>
                        <m:e/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mr>
                      <m:mr>
                        <m:e/>
                        <m:e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/>
                        <m:e/>
                        <m:e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  <m:e>
                          <m:r>
                            <m:t xml:space="preserve">T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762120" y="44197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14400" y="62485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23880" y="41148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86200" y="41148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876920" y="4267080"/>
            <a:ext cx="3962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triz Origen Dest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6095880" y="4876920"/>
                <a:ext cx="22100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∃</m:t>
                    </m:r>
                    <m:r>
                      <m:t xml:space="preserve"> </m:t>
                    </m:r>
                    <m:r>
                      <m:t xml:space="preserve">∞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4952880" y="5334120"/>
            <a:ext cx="3886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uál elegim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: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odelo de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500"/>
                            </p:stCondLst>
                            <p:childTnLst>
                              <p:par>
                                <p:cTn id="3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000"/>
                            </p:stCondLst>
                            <p:childTnLst>
                              <p:par>
                                <p:cTn id="3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33520" y="228600"/>
            <a:ext cx="807696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artición 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En qué mo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990720" y="1676520"/>
                <a:ext cx="144756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</m:sSubSup>
                          </m:e>
                        </m:nary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2819520" y="1676520"/>
            <a:ext cx="2743200" cy="13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iem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ract.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638680" y="1752480"/>
            <a:ext cx="76320" cy="1143000"/>
          </a:xfrm>
          <a:custGeom>
            <a:avLst/>
            <a:gdLst>
              <a:gd name="textAreaLeft" fmla="*/ 0 w 76320"/>
              <a:gd name="textAreaRight" fmla="*/ 27360 w 763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867280" y="1752480"/>
            <a:ext cx="175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partición 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391520" y="1828800"/>
            <a:ext cx="75960" cy="1143000"/>
          </a:xfrm>
          <a:custGeom>
            <a:avLst/>
            <a:gdLst>
              <a:gd name="textAreaLeft" fmla="*/ 0 w 75960"/>
              <a:gd name="textAreaRight" fmla="*/ 27360 w 7596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7848720" y="2133720"/>
                <a:ext cx="69840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1143000" y="28195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: mo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3581280"/>
            <a:ext cx="3352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signación a la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ru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502920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manda por viajes en auto o 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19520" y="5257800"/>
            <a:ext cx="75960" cy="762120"/>
          </a:xfrm>
          <a:custGeom>
            <a:avLst/>
            <a:gdLst>
              <a:gd name="textAreaLeft" fmla="*/ 0 w 75960"/>
              <a:gd name="textAreaRight" fmla="*/ 27360 w 7596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76720" y="525780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de 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533412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lujos y tiempos en arcos, ru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76720" y="5257800"/>
            <a:ext cx="16002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29200" y="5562720"/>
            <a:ext cx="533520" cy="304560"/>
          </a:xfrm>
          <a:prstGeom prst="rightArrow">
            <a:avLst>
              <a:gd name="adj1" fmla="val 50000"/>
              <a:gd name="adj2" fmla="val 4379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419720" y="3886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finición de la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19720" y="3886200"/>
            <a:ext cx="29718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4266720" y="4419720"/>
            <a:ext cx="1600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500"/>
                            </p:stCondLst>
                            <p:childTnLst>
                              <p:par>
                                <p:cTn id="398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500"/>
                            </p:stCondLst>
                            <p:childTnLst>
                              <p:par>
                                <p:cTn id="427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33520" y="2286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9907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Loc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9072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9072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90720" y="4343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2133720"/>
            <a:ext cx="8384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31240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2120" y="4267080"/>
            <a:ext cx="99036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5410080"/>
            <a:ext cx="99072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1932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19320" y="3733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1932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828800" y="5715000"/>
            <a:ext cx="685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2514600" y="464796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752120" y="4648320"/>
            <a:ext cx="762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2514600" y="342864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1676520" y="342900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2514600" y="24382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676520" y="24382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914400"/>
            <a:ext cx="2057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2514600" y="12193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2361960" y="1219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038480" y="9144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inta eta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95480" y="1066680"/>
            <a:ext cx="1067040" cy="152640"/>
          </a:xfrm>
          <a:prstGeom prst="rightArrow">
            <a:avLst>
              <a:gd name="adj1" fmla="val 50000"/>
              <a:gd name="adj2" fmla="val 17476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62520" y="2133720"/>
            <a:ext cx="46479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tros eleme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ternalidades - impacto ambien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stema de activi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0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2500"/>
                            </p:stCondLst>
                            <p:childTnLst>
                              <p:par>
                                <p:cTn id="4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3000"/>
                            </p:stCondLst>
                            <p:childTnLst>
                              <p:par>
                                <p:cTn id="4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3500"/>
                            </p:stCondLst>
                            <p:childTnLst>
                              <p:par>
                                <p:cTn id="48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6000"/>
                            </p:stCondLst>
                            <p:childTnLst>
                              <p:par>
                                <p:cTn id="4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65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7000"/>
                            </p:stCondLst>
                            <p:childTnLst>
                              <p:par>
                                <p:cTn id="50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9500"/>
                            </p:stCondLst>
                            <p:childTnLst>
                              <p:par>
                                <p:cTn id="5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0500"/>
                            </p:stCondLst>
                            <p:childTnLst>
                              <p:par>
                                <p:cTn id="51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3000"/>
                            </p:stCondLst>
                            <p:childTnLst>
                              <p:par>
                                <p:cTn id="5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13500"/>
                            </p:stCondLst>
                            <p:childTnLst>
                              <p:par>
                                <p:cTn id="5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4000"/>
                            </p:stCondLst>
                            <p:childTnLst>
                              <p:par>
                                <p:cTn id="5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4500"/>
                            </p:stCondLst>
                            <p:childTnLst>
                              <p:par>
                                <p:cTn id="5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5000"/>
                            </p:stCondLst>
                            <p:childTnLst>
                              <p:par>
                                <p:cTn id="5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5500"/>
                            </p:stCondLst>
                            <p:childTnLst>
                              <p:par>
                                <p:cTn id="5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6000"/>
                            </p:stCondLst>
                            <p:childTnLst>
                              <p:par>
                                <p:cTn id="5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16500"/>
                            </p:stCondLst>
                            <p:childTnLst>
                              <p:par>
                                <p:cTn id="5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500"/>
                            </p:stCondLst>
                            <p:childTnLst>
                              <p:par>
                                <p:cTn id="5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000"/>
                            </p:stCondLst>
                            <p:childTnLst>
                              <p:par>
                                <p:cTn id="5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500"/>
                            </p:stCondLst>
                            <p:childTnLst>
                              <p:par>
                                <p:cTn id="5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500"/>
                            </p:stCondLst>
                            <p:childTnLst>
                              <p:par>
                                <p:cTn id="5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08:07:30Z</dcterms:created>
  <dc:creator>Marcela Munizaga</dc:creator>
  <dc:description/>
  <dc:language>en-US</dc:language>
  <cp:lastModifiedBy>Marcela Munizaga</cp:lastModifiedBy>
  <dcterms:modified xsi:type="dcterms:W3CDTF">2008-08-08T15:08:38Z</dcterms:modified>
  <cp:revision>64</cp:revision>
  <dc:subject/>
  <dc:title>Sin título de diapositiva</dc:title>
</cp:coreProperties>
</file>