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5D8-FF33-4344-BD14-F7B7395D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1C2-8EBF-453E-8726-6AD53333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25B-2EAC-4A56-B804-696FD874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13A-DE64-412A-B8F4-181AB3BB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CED-2111-483D-B081-6912B4DA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816-7BA5-4367-AFC1-98C4019D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1AF-19B7-40BC-B079-CC6EEA16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9EC-E6FE-4BFE-B274-9817D337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141-8462-4BFA-811D-A343778E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BDE-367B-4F3C-A4E7-A8D76E4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CFB-5B60-40CB-84D6-1D1565DC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BE7-95D7-470F-B8F1-8354E456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6915-9B02-4E54-8FA2-F06EFFDB1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0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9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08T15:08:38Z</dcterms:modified>
  <cp:revision>64</cp:revision>
  <dc:subject/>
  <dc:title>Sin título de diapositiva</dc:title>
</cp:coreProperties>
</file>